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6858000" cy="9144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9240" y="1492200"/>
            <a:ext cx="6626520" cy="7005960"/>
            <a:chOff x="219240" y="1492200"/>
            <a:chExt cx="6626520" cy="7005960"/>
          </a:xfrm>
        </p:grpSpPr>
        <p:grpSp>
          <p:nvGrpSpPr>
            <p:cNvPr id="1" name=""/>
            <p:cNvGrpSpPr/>
            <p:nvPr/>
          </p:nvGrpSpPr>
          <p:grpSpPr>
            <a:xfrm>
              <a:off x="2865600" y="1496880"/>
              <a:ext cx="3980160" cy="6517080"/>
              <a:chOff x="2865600" y="1496880"/>
              <a:chExt cx="3980160" cy="651708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6261120" y="5640480"/>
                <a:ext cx="584640" cy="2373480"/>
                <a:chOff x="6261120" y="5640480"/>
                <a:chExt cx="584640" cy="2373480"/>
              </a:xfrm>
            </p:grpSpPr>
            <p:grpSp>
              <p:nvGrpSpPr>
                <p:cNvPr id="3" name=""/>
                <p:cNvGrpSpPr/>
                <p:nvPr/>
              </p:nvGrpSpPr>
              <p:grpSpPr>
                <a:xfrm>
                  <a:off x="6261120" y="7316640"/>
                  <a:ext cx="584640" cy="697320"/>
                  <a:chOff x="6261120" y="7316640"/>
                  <a:chExt cx="584640" cy="697320"/>
                </a:xfrm>
              </p:grpSpPr>
              <p:sp>
                <p:nvSpPr>
                  <p:cNvPr id="4" name=""/>
                  <p:cNvSpPr/>
                  <p:nvPr/>
                </p:nvSpPr>
                <p:spPr>
                  <a:xfrm>
                    <a:off x="6751800" y="7316640"/>
                    <a:ext cx="93960" cy="422640"/>
                  </a:xfrm>
                  <a:custGeom>
                    <a:avLst/>
                    <a:gdLst/>
                    <a:ahLst/>
                    <a:rect l="0" t="0" r="r" b="b"/>
                    <a:pathLst>
                      <a:path w="261" h="1174">
                        <a:moveTo>
                          <a:pt x="84" y="16"/>
                        </a:moveTo>
                        <a:lnTo>
                          <a:pt x="110" y="0"/>
                        </a:lnTo>
                        <a:lnTo>
                          <a:pt x="157" y="130"/>
                        </a:lnTo>
                        <a:lnTo>
                          <a:pt x="150" y="506"/>
                        </a:lnTo>
                        <a:lnTo>
                          <a:pt x="183" y="506"/>
                        </a:lnTo>
                        <a:lnTo>
                          <a:pt x="189" y="554"/>
                        </a:lnTo>
                        <a:lnTo>
                          <a:pt x="202" y="636"/>
                        </a:lnTo>
                        <a:lnTo>
                          <a:pt x="209" y="685"/>
                        </a:lnTo>
                        <a:lnTo>
                          <a:pt x="235" y="668"/>
                        </a:lnTo>
                        <a:lnTo>
                          <a:pt x="254" y="587"/>
                        </a:lnTo>
                        <a:lnTo>
                          <a:pt x="261" y="636"/>
                        </a:lnTo>
                        <a:lnTo>
                          <a:pt x="248" y="701"/>
                        </a:lnTo>
                        <a:lnTo>
                          <a:pt x="235" y="750"/>
                        </a:lnTo>
                        <a:lnTo>
                          <a:pt x="228" y="848"/>
                        </a:lnTo>
                        <a:lnTo>
                          <a:pt x="196" y="898"/>
                        </a:lnTo>
                        <a:lnTo>
                          <a:pt x="176" y="914"/>
                        </a:lnTo>
                        <a:lnTo>
                          <a:pt x="150" y="963"/>
                        </a:lnTo>
                        <a:lnTo>
                          <a:pt x="144" y="1012"/>
                        </a:lnTo>
                        <a:lnTo>
                          <a:pt x="150" y="1060"/>
                        </a:lnTo>
                        <a:lnTo>
                          <a:pt x="157" y="1109"/>
                        </a:lnTo>
                        <a:lnTo>
                          <a:pt x="123" y="1142"/>
                        </a:lnTo>
                        <a:lnTo>
                          <a:pt x="104" y="1158"/>
                        </a:lnTo>
                        <a:lnTo>
                          <a:pt x="84" y="1174"/>
                        </a:lnTo>
                        <a:lnTo>
                          <a:pt x="71" y="1158"/>
                        </a:lnTo>
                        <a:lnTo>
                          <a:pt x="39" y="1142"/>
                        </a:lnTo>
                        <a:lnTo>
                          <a:pt x="26" y="1109"/>
                        </a:lnTo>
                        <a:lnTo>
                          <a:pt x="39" y="1077"/>
                        </a:lnTo>
                        <a:lnTo>
                          <a:pt x="65" y="1060"/>
                        </a:lnTo>
                        <a:lnTo>
                          <a:pt x="84" y="979"/>
                        </a:lnTo>
                        <a:lnTo>
                          <a:pt x="84" y="946"/>
                        </a:lnTo>
                        <a:lnTo>
                          <a:pt x="65" y="914"/>
                        </a:lnTo>
                        <a:lnTo>
                          <a:pt x="39" y="864"/>
                        </a:lnTo>
                        <a:lnTo>
                          <a:pt x="19" y="864"/>
                        </a:lnTo>
                        <a:lnTo>
                          <a:pt x="6" y="848"/>
                        </a:lnTo>
                        <a:lnTo>
                          <a:pt x="0" y="799"/>
                        </a:lnTo>
                        <a:lnTo>
                          <a:pt x="6" y="766"/>
                        </a:lnTo>
                        <a:lnTo>
                          <a:pt x="19" y="766"/>
                        </a:lnTo>
                        <a:lnTo>
                          <a:pt x="39" y="750"/>
                        </a:lnTo>
                        <a:lnTo>
                          <a:pt x="65" y="701"/>
                        </a:lnTo>
                        <a:lnTo>
                          <a:pt x="78" y="685"/>
                        </a:lnTo>
                        <a:lnTo>
                          <a:pt x="91" y="506"/>
                        </a:lnTo>
                        <a:lnTo>
                          <a:pt x="78" y="457"/>
                        </a:lnTo>
                        <a:lnTo>
                          <a:pt x="58" y="424"/>
                        </a:lnTo>
                        <a:lnTo>
                          <a:pt x="52" y="326"/>
                        </a:lnTo>
                        <a:lnTo>
                          <a:pt x="58" y="228"/>
                        </a:lnTo>
                        <a:lnTo>
                          <a:pt x="65" y="162"/>
                        </a:lnTo>
                        <a:lnTo>
                          <a:pt x="84" y="16"/>
                        </a:lnTo>
                        <a:close/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" name=""/>
                  <p:cNvSpPr/>
                  <p:nvPr/>
                </p:nvSpPr>
                <p:spPr>
                  <a:xfrm>
                    <a:off x="6572160" y="7656480"/>
                    <a:ext cx="173520" cy="357480"/>
                  </a:xfrm>
                  <a:custGeom>
                    <a:avLst/>
                    <a:gdLst/>
                    <a:ahLst/>
                    <a:rect l="0" t="0" r="r" b="b"/>
                    <a:pathLst>
                      <a:path w="482" h="993">
                        <a:moveTo>
                          <a:pt x="338" y="0"/>
                        </a:moveTo>
                        <a:lnTo>
                          <a:pt x="398" y="0"/>
                        </a:lnTo>
                        <a:lnTo>
                          <a:pt x="482" y="260"/>
                        </a:lnTo>
                        <a:lnTo>
                          <a:pt x="391" y="487"/>
                        </a:lnTo>
                        <a:lnTo>
                          <a:pt x="391" y="586"/>
                        </a:lnTo>
                        <a:lnTo>
                          <a:pt x="372" y="619"/>
                        </a:lnTo>
                        <a:lnTo>
                          <a:pt x="319" y="619"/>
                        </a:lnTo>
                        <a:lnTo>
                          <a:pt x="254" y="749"/>
                        </a:lnTo>
                        <a:lnTo>
                          <a:pt x="195" y="879"/>
                        </a:lnTo>
                        <a:lnTo>
                          <a:pt x="156" y="993"/>
                        </a:lnTo>
                        <a:lnTo>
                          <a:pt x="156" y="895"/>
                        </a:lnTo>
                        <a:lnTo>
                          <a:pt x="84" y="911"/>
                        </a:lnTo>
                        <a:lnTo>
                          <a:pt x="51" y="911"/>
                        </a:lnTo>
                        <a:lnTo>
                          <a:pt x="0" y="911"/>
                        </a:lnTo>
                        <a:lnTo>
                          <a:pt x="71" y="749"/>
                        </a:lnTo>
                        <a:lnTo>
                          <a:pt x="97" y="667"/>
                        </a:lnTo>
                        <a:lnTo>
                          <a:pt x="124" y="667"/>
                        </a:lnTo>
                        <a:lnTo>
                          <a:pt x="176" y="537"/>
                        </a:lnTo>
                        <a:lnTo>
                          <a:pt x="195" y="537"/>
                        </a:lnTo>
                        <a:lnTo>
                          <a:pt x="195" y="521"/>
                        </a:lnTo>
                        <a:lnTo>
                          <a:pt x="221" y="471"/>
                        </a:lnTo>
                        <a:lnTo>
                          <a:pt x="254" y="471"/>
                        </a:lnTo>
                        <a:lnTo>
                          <a:pt x="241" y="325"/>
                        </a:lnTo>
                        <a:lnTo>
                          <a:pt x="247" y="325"/>
                        </a:lnTo>
                        <a:lnTo>
                          <a:pt x="280" y="243"/>
                        </a:lnTo>
                        <a:lnTo>
                          <a:pt x="293" y="309"/>
                        </a:lnTo>
                        <a:lnTo>
                          <a:pt x="345" y="195"/>
                        </a:lnTo>
                        <a:lnTo>
                          <a:pt x="338" y="0"/>
                        </a:lnTo>
                        <a:close/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6261120" y="7677000"/>
                    <a:ext cx="65520" cy="189360"/>
                  </a:xfrm>
                  <a:custGeom>
                    <a:avLst/>
                    <a:gdLst/>
                    <a:ahLst/>
                    <a:rect l="0" t="0" r="r" b="b"/>
                    <a:pathLst>
                      <a:path w="182" h="526">
                        <a:moveTo>
                          <a:pt x="0" y="0"/>
                        </a:moveTo>
                        <a:lnTo>
                          <a:pt x="38" y="0"/>
                        </a:lnTo>
                        <a:lnTo>
                          <a:pt x="84" y="65"/>
                        </a:lnTo>
                        <a:lnTo>
                          <a:pt x="182" y="65"/>
                        </a:lnTo>
                        <a:lnTo>
                          <a:pt x="169" y="148"/>
                        </a:lnTo>
                        <a:lnTo>
                          <a:pt x="182" y="246"/>
                        </a:lnTo>
                        <a:lnTo>
                          <a:pt x="150" y="246"/>
                        </a:lnTo>
                        <a:lnTo>
                          <a:pt x="144" y="263"/>
                        </a:lnTo>
                        <a:lnTo>
                          <a:pt x="123" y="279"/>
                        </a:lnTo>
                        <a:lnTo>
                          <a:pt x="144" y="526"/>
                        </a:lnTo>
                        <a:lnTo>
                          <a:pt x="84" y="510"/>
                        </a:lnTo>
                        <a:lnTo>
                          <a:pt x="32" y="428"/>
                        </a:lnTo>
                        <a:lnTo>
                          <a:pt x="32" y="263"/>
                        </a:lnTo>
                        <a:lnTo>
                          <a:pt x="32" y="197"/>
                        </a:lnTo>
                        <a:lnTo>
                          <a:pt x="0" y="14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" name=""/>
                <p:cNvSpPr/>
                <p:nvPr/>
              </p:nvSpPr>
              <p:spPr>
                <a:xfrm>
                  <a:off x="6380280" y="5640480"/>
                  <a:ext cx="105120" cy="213120"/>
                </a:xfrm>
                <a:custGeom>
                  <a:avLst/>
                  <a:gdLst/>
                  <a:ahLst/>
                  <a:rect l="0" t="0" r="r" b="b"/>
                  <a:pathLst>
                    <a:path w="292" h="592">
                      <a:moveTo>
                        <a:pt x="51" y="220"/>
                      </a:moveTo>
                      <a:lnTo>
                        <a:pt x="0" y="474"/>
                      </a:lnTo>
                      <a:lnTo>
                        <a:pt x="19" y="576"/>
                      </a:lnTo>
                      <a:lnTo>
                        <a:pt x="103" y="592"/>
                      </a:lnTo>
                      <a:lnTo>
                        <a:pt x="175" y="592"/>
                      </a:lnTo>
                      <a:lnTo>
                        <a:pt x="201" y="491"/>
                      </a:lnTo>
                      <a:lnTo>
                        <a:pt x="214" y="389"/>
                      </a:lnTo>
                      <a:lnTo>
                        <a:pt x="292" y="389"/>
                      </a:lnTo>
                      <a:lnTo>
                        <a:pt x="279" y="237"/>
                      </a:lnTo>
                      <a:lnTo>
                        <a:pt x="279" y="84"/>
                      </a:lnTo>
                      <a:lnTo>
                        <a:pt x="201" y="0"/>
                      </a:lnTo>
                      <a:lnTo>
                        <a:pt x="195" y="169"/>
                      </a:lnTo>
                      <a:lnTo>
                        <a:pt x="240" y="271"/>
                      </a:lnTo>
                      <a:lnTo>
                        <a:pt x="169" y="271"/>
                      </a:lnTo>
                      <a:lnTo>
                        <a:pt x="142" y="338"/>
                      </a:lnTo>
                      <a:lnTo>
                        <a:pt x="51" y="220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5221440" y="2527200"/>
                <a:ext cx="1233720" cy="5063040"/>
                <a:chOff x="5221440" y="2527200"/>
                <a:chExt cx="1233720" cy="506304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5419800" y="3043080"/>
                  <a:ext cx="275040" cy="1521360"/>
                  <a:chOff x="5419800" y="3043080"/>
                  <a:chExt cx="275040" cy="15213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5419800" y="4408560"/>
                    <a:ext cx="65520" cy="155880"/>
                  </a:xfrm>
                  <a:custGeom>
                    <a:avLst/>
                    <a:gdLst/>
                    <a:ahLst/>
                    <a:rect l="0" t="0" r="r" b="b"/>
                    <a:pathLst>
                      <a:path w="182" h="433">
                        <a:moveTo>
                          <a:pt x="0" y="333"/>
                        </a:moveTo>
                        <a:lnTo>
                          <a:pt x="32" y="416"/>
                        </a:lnTo>
                        <a:lnTo>
                          <a:pt x="72" y="399"/>
                        </a:lnTo>
                        <a:lnTo>
                          <a:pt x="130" y="433"/>
                        </a:lnTo>
                        <a:lnTo>
                          <a:pt x="176" y="433"/>
                        </a:lnTo>
                        <a:lnTo>
                          <a:pt x="182" y="283"/>
                        </a:lnTo>
                        <a:lnTo>
                          <a:pt x="169" y="182"/>
                        </a:lnTo>
                        <a:lnTo>
                          <a:pt x="137" y="66"/>
                        </a:lnTo>
                        <a:lnTo>
                          <a:pt x="104" y="66"/>
                        </a:lnTo>
                        <a:lnTo>
                          <a:pt x="91" y="0"/>
                        </a:lnTo>
                        <a:lnTo>
                          <a:pt x="46" y="0"/>
                        </a:lnTo>
                        <a:lnTo>
                          <a:pt x="46" y="132"/>
                        </a:lnTo>
                        <a:lnTo>
                          <a:pt x="0" y="333"/>
                        </a:lnTo>
                        <a:close/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5594400" y="4138560"/>
                    <a:ext cx="63720" cy="197280"/>
                  </a:xfrm>
                  <a:custGeom>
                    <a:avLst/>
                    <a:gdLst/>
                    <a:ahLst/>
                    <a:rect l="0" t="0" r="r" b="b"/>
                    <a:pathLst>
                      <a:path w="177" h="548">
                        <a:moveTo>
                          <a:pt x="39" y="0"/>
                        </a:moveTo>
                        <a:lnTo>
                          <a:pt x="118" y="16"/>
                        </a:lnTo>
                        <a:lnTo>
                          <a:pt x="144" y="166"/>
                        </a:lnTo>
                        <a:lnTo>
                          <a:pt x="177" y="249"/>
                        </a:lnTo>
                        <a:lnTo>
                          <a:pt x="151" y="315"/>
                        </a:lnTo>
                        <a:lnTo>
                          <a:pt x="177" y="398"/>
                        </a:lnTo>
                        <a:lnTo>
                          <a:pt x="164" y="499"/>
                        </a:lnTo>
                        <a:lnTo>
                          <a:pt x="138" y="548"/>
                        </a:lnTo>
                        <a:lnTo>
                          <a:pt x="84" y="532"/>
                        </a:lnTo>
                        <a:lnTo>
                          <a:pt x="52" y="532"/>
                        </a:lnTo>
                        <a:lnTo>
                          <a:pt x="32" y="465"/>
                        </a:lnTo>
                        <a:lnTo>
                          <a:pt x="13" y="382"/>
                        </a:lnTo>
                        <a:lnTo>
                          <a:pt x="13" y="299"/>
                        </a:lnTo>
                        <a:lnTo>
                          <a:pt x="0" y="183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5583240" y="3043080"/>
                    <a:ext cx="111600" cy="182880"/>
                  </a:xfrm>
                  <a:custGeom>
                    <a:avLst/>
                    <a:gdLst/>
                    <a:ahLst/>
                    <a:rect l="0" t="0" r="r" b="b"/>
                    <a:pathLst>
                      <a:path w="310" h="508">
                        <a:moveTo>
                          <a:pt x="45" y="0"/>
                        </a:moveTo>
                        <a:lnTo>
                          <a:pt x="84" y="81"/>
                        </a:lnTo>
                        <a:lnTo>
                          <a:pt x="123" y="65"/>
                        </a:lnTo>
                        <a:lnTo>
                          <a:pt x="181" y="81"/>
                        </a:lnTo>
                        <a:lnTo>
                          <a:pt x="233" y="81"/>
                        </a:lnTo>
                        <a:lnTo>
                          <a:pt x="259" y="130"/>
                        </a:lnTo>
                        <a:lnTo>
                          <a:pt x="291" y="245"/>
                        </a:lnTo>
                        <a:lnTo>
                          <a:pt x="310" y="295"/>
                        </a:lnTo>
                        <a:lnTo>
                          <a:pt x="239" y="328"/>
                        </a:lnTo>
                        <a:lnTo>
                          <a:pt x="219" y="360"/>
                        </a:lnTo>
                        <a:lnTo>
                          <a:pt x="239" y="426"/>
                        </a:lnTo>
                        <a:lnTo>
                          <a:pt x="239" y="491"/>
                        </a:lnTo>
                        <a:lnTo>
                          <a:pt x="168" y="426"/>
                        </a:lnTo>
                        <a:lnTo>
                          <a:pt x="110" y="377"/>
                        </a:lnTo>
                        <a:lnTo>
                          <a:pt x="84" y="393"/>
                        </a:lnTo>
                        <a:lnTo>
                          <a:pt x="84" y="491"/>
                        </a:lnTo>
                        <a:lnTo>
                          <a:pt x="45" y="508"/>
                        </a:lnTo>
                        <a:lnTo>
                          <a:pt x="25" y="426"/>
                        </a:lnTo>
                        <a:lnTo>
                          <a:pt x="19" y="328"/>
                        </a:lnTo>
                        <a:lnTo>
                          <a:pt x="0" y="311"/>
                        </a:lnTo>
                        <a:lnTo>
                          <a:pt x="19" y="212"/>
                        </a:lnTo>
                        <a:lnTo>
                          <a:pt x="51" y="179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" name=""/>
                <p:cNvSpPr/>
                <p:nvPr/>
              </p:nvSpPr>
              <p:spPr>
                <a:xfrm>
                  <a:off x="5676840" y="6122880"/>
                  <a:ext cx="778320" cy="1467360"/>
                </a:xfrm>
                <a:custGeom>
                  <a:avLst/>
                  <a:gdLst/>
                  <a:ahLst/>
                  <a:rect l="0" t="0" r="r" b="b"/>
                  <a:pathLst>
                    <a:path w="2162" h="4076">
                      <a:moveTo>
                        <a:pt x="1557" y="0"/>
                      </a:moveTo>
                      <a:lnTo>
                        <a:pt x="1674" y="0"/>
                      </a:lnTo>
                      <a:lnTo>
                        <a:pt x="1674" y="327"/>
                      </a:lnTo>
                      <a:lnTo>
                        <a:pt x="1719" y="409"/>
                      </a:lnTo>
                      <a:lnTo>
                        <a:pt x="1731" y="458"/>
                      </a:lnTo>
                      <a:lnTo>
                        <a:pt x="1757" y="458"/>
                      </a:lnTo>
                      <a:lnTo>
                        <a:pt x="1770" y="523"/>
                      </a:lnTo>
                      <a:lnTo>
                        <a:pt x="1783" y="850"/>
                      </a:lnTo>
                      <a:lnTo>
                        <a:pt x="1847" y="1064"/>
                      </a:lnTo>
                      <a:lnTo>
                        <a:pt x="1944" y="1375"/>
                      </a:lnTo>
                      <a:lnTo>
                        <a:pt x="1944" y="1424"/>
                      </a:lnTo>
                      <a:lnTo>
                        <a:pt x="2047" y="1686"/>
                      </a:lnTo>
                      <a:lnTo>
                        <a:pt x="2047" y="1735"/>
                      </a:lnTo>
                      <a:lnTo>
                        <a:pt x="2149" y="1948"/>
                      </a:lnTo>
                      <a:lnTo>
                        <a:pt x="2162" y="2324"/>
                      </a:lnTo>
                      <a:lnTo>
                        <a:pt x="2149" y="2668"/>
                      </a:lnTo>
                      <a:lnTo>
                        <a:pt x="2117" y="2831"/>
                      </a:lnTo>
                      <a:lnTo>
                        <a:pt x="2079" y="2913"/>
                      </a:lnTo>
                      <a:lnTo>
                        <a:pt x="2066" y="3078"/>
                      </a:lnTo>
                      <a:lnTo>
                        <a:pt x="2027" y="3225"/>
                      </a:lnTo>
                      <a:lnTo>
                        <a:pt x="1995" y="3291"/>
                      </a:lnTo>
                      <a:lnTo>
                        <a:pt x="2001" y="3340"/>
                      </a:lnTo>
                      <a:lnTo>
                        <a:pt x="1963" y="3438"/>
                      </a:lnTo>
                      <a:lnTo>
                        <a:pt x="1944" y="3651"/>
                      </a:lnTo>
                      <a:lnTo>
                        <a:pt x="1937" y="3765"/>
                      </a:lnTo>
                      <a:lnTo>
                        <a:pt x="1899" y="3814"/>
                      </a:lnTo>
                      <a:lnTo>
                        <a:pt x="1892" y="3863"/>
                      </a:lnTo>
                      <a:lnTo>
                        <a:pt x="1866" y="3962"/>
                      </a:lnTo>
                      <a:lnTo>
                        <a:pt x="1821" y="3978"/>
                      </a:lnTo>
                      <a:lnTo>
                        <a:pt x="1789" y="4011"/>
                      </a:lnTo>
                      <a:lnTo>
                        <a:pt x="1744" y="4076"/>
                      </a:lnTo>
                      <a:lnTo>
                        <a:pt x="1686" y="3945"/>
                      </a:lnTo>
                      <a:lnTo>
                        <a:pt x="1622" y="3962"/>
                      </a:lnTo>
                      <a:lnTo>
                        <a:pt x="1602" y="3962"/>
                      </a:lnTo>
                      <a:lnTo>
                        <a:pt x="1512" y="3994"/>
                      </a:lnTo>
                      <a:lnTo>
                        <a:pt x="1454" y="3863"/>
                      </a:lnTo>
                      <a:lnTo>
                        <a:pt x="1415" y="3732"/>
                      </a:lnTo>
                      <a:lnTo>
                        <a:pt x="1390" y="3749"/>
                      </a:lnTo>
                      <a:lnTo>
                        <a:pt x="1364" y="3634"/>
                      </a:lnTo>
                      <a:lnTo>
                        <a:pt x="1351" y="3536"/>
                      </a:lnTo>
                      <a:lnTo>
                        <a:pt x="1338" y="3503"/>
                      </a:lnTo>
                      <a:lnTo>
                        <a:pt x="1338" y="3340"/>
                      </a:lnTo>
                      <a:lnTo>
                        <a:pt x="1345" y="3242"/>
                      </a:lnTo>
                      <a:lnTo>
                        <a:pt x="1332" y="3176"/>
                      </a:lnTo>
                      <a:lnTo>
                        <a:pt x="1280" y="3209"/>
                      </a:lnTo>
                      <a:lnTo>
                        <a:pt x="1255" y="3225"/>
                      </a:lnTo>
                      <a:lnTo>
                        <a:pt x="1209" y="3225"/>
                      </a:lnTo>
                      <a:lnTo>
                        <a:pt x="1190" y="3225"/>
                      </a:lnTo>
                      <a:lnTo>
                        <a:pt x="1171" y="3225"/>
                      </a:lnTo>
                      <a:lnTo>
                        <a:pt x="1139" y="3127"/>
                      </a:lnTo>
                      <a:lnTo>
                        <a:pt x="1107" y="2995"/>
                      </a:lnTo>
                      <a:lnTo>
                        <a:pt x="1100" y="3011"/>
                      </a:lnTo>
                      <a:lnTo>
                        <a:pt x="1042" y="3011"/>
                      </a:lnTo>
                      <a:lnTo>
                        <a:pt x="1036" y="2962"/>
                      </a:lnTo>
                      <a:lnTo>
                        <a:pt x="1004" y="3011"/>
                      </a:lnTo>
                      <a:lnTo>
                        <a:pt x="972" y="2995"/>
                      </a:lnTo>
                      <a:lnTo>
                        <a:pt x="920" y="2995"/>
                      </a:lnTo>
                      <a:lnTo>
                        <a:pt x="888" y="2962"/>
                      </a:lnTo>
                      <a:lnTo>
                        <a:pt x="875" y="3011"/>
                      </a:lnTo>
                      <a:lnTo>
                        <a:pt x="824" y="3028"/>
                      </a:lnTo>
                      <a:lnTo>
                        <a:pt x="811" y="2995"/>
                      </a:lnTo>
                      <a:lnTo>
                        <a:pt x="779" y="3078"/>
                      </a:lnTo>
                      <a:lnTo>
                        <a:pt x="740" y="3160"/>
                      </a:lnTo>
                      <a:lnTo>
                        <a:pt x="714" y="3160"/>
                      </a:lnTo>
                      <a:lnTo>
                        <a:pt x="676" y="3258"/>
                      </a:lnTo>
                      <a:lnTo>
                        <a:pt x="618" y="3258"/>
                      </a:lnTo>
                      <a:lnTo>
                        <a:pt x="573" y="3291"/>
                      </a:lnTo>
                      <a:lnTo>
                        <a:pt x="520" y="3340"/>
                      </a:lnTo>
                      <a:lnTo>
                        <a:pt x="495" y="3405"/>
                      </a:lnTo>
                      <a:lnTo>
                        <a:pt x="475" y="3389"/>
                      </a:lnTo>
                      <a:lnTo>
                        <a:pt x="456" y="3454"/>
                      </a:lnTo>
                      <a:lnTo>
                        <a:pt x="430" y="3471"/>
                      </a:lnTo>
                      <a:lnTo>
                        <a:pt x="398" y="3552"/>
                      </a:lnTo>
                      <a:lnTo>
                        <a:pt x="295" y="3552"/>
                      </a:lnTo>
                      <a:lnTo>
                        <a:pt x="250" y="3438"/>
                      </a:lnTo>
                      <a:lnTo>
                        <a:pt x="244" y="3389"/>
                      </a:lnTo>
                      <a:lnTo>
                        <a:pt x="231" y="3438"/>
                      </a:lnTo>
                      <a:lnTo>
                        <a:pt x="212" y="3356"/>
                      </a:lnTo>
                      <a:lnTo>
                        <a:pt x="218" y="3143"/>
                      </a:lnTo>
                      <a:lnTo>
                        <a:pt x="231" y="3011"/>
                      </a:lnTo>
                      <a:lnTo>
                        <a:pt x="212" y="2913"/>
                      </a:lnTo>
                      <a:lnTo>
                        <a:pt x="192" y="2815"/>
                      </a:lnTo>
                      <a:lnTo>
                        <a:pt x="186" y="2701"/>
                      </a:lnTo>
                      <a:lnTo>
                        <a:pt x="154" y="2651"/>
                      </a:lnTo>
                      <a:lnTo>
                        <a:pt x="147" y="2635"/>
                      </a:lnTo>
                      <a:lnTo>
                        <a:pt x="141" y="2586"/>
                      </a:lnTo>
                      <a:lnTo>
                        <a:pt x="96" y="2439"/>
                      </a:lnTo>
                      <a:lnTo>
                        <a:pt x="38" y="2079"/>
                      </a:lnTo>
                      <a:lnTo>
                        <a:pt x="19" y="1833"/>
                      </a:lnTo>
                      <a:lnTo>
                        <a:pt x="19" y="1686"/>
                      </a:lnTo>
                      <a:lnTo>
                        <a:pt x="0" y="1637"/>
                      </a:lnTo>
                      <a:lnTo>
                        <a:pt x="6" y="1506"/>
                      </a:lnTo>
                      <a:lnTo>
                        <a:pt x="25" y="1441"/>
                      </a:lnTo>
                      <a:lnTo>
                        <a:pt x="96" y="1261"/>
                      </a:lnTo>
                      <a:lnTo>
                        <a:pt x="167" y="1277"/>
                      </a:lnTo>
                      <a:lnTo>
                        <a:pt x="180" y="1310"/>
                      </a:lnTo>
                      <a:lnTo>
                        <a:pt x="270" y="1310"/>
                      </a:lnTo>
                      <a:lnTo>
                        <a:pt x="276" y="1261"/>
                      </a:lnTo>
                      <a:lnTo>
                        <a:pt x="295" y="1277"/>
                      </a:lnTo>
                      <a:lnTo>
                        <a:pt x="321" y="1228"/>
                      </a:lnTo>
                      <a:lnTo>
                        <a:pt x="340" y="1244"/>
                      </a:lnTo>
                      <a:lnTo>
                        <a:pt x="360" y="1211"/>
                      </a:lnTo>
                      <a:lnTo>
                        <a:pt x="353" y="1162"/>
                      </a:lnTo>
                      <a:lnTo>
                        <a:pt x="372" y="1048"/>
                      </a:lnTo>
                      <a:lnTo>
                        <a:pt x="398" y="998"/>
                      </a:lnTo>
                      <a:lnTo>
                        <a:pt x="385" y="965"/>
                      </a:lnTo>
                      <a:lnTo>
                        <a:pt x="398" y="932"/>
                      </a:lnTo>
                      <a:lnTo>
                        <a:pt x="385" y="883"/>
                      </a:lnTo>
                      <a:lnTo>
                        <a:pt x="424" y="801"/>
                      </a:lnTo>
                      <a:lnTo>
                        <a:pt x="482" y="785"/>
                      </a:lnTo>
                      <a:lnTo>
                        <a:pt x="541" y="589"/>
                      </a:lnTo>
                      <a:lnTo>
                        <a:pt x="611" y="425"/>
                      </a:lnTo>
                      <a:lnTo>
                        <a:pt x="644" y="409"/>
                      </a:lnTo>
                      <a:lnTo>
                        <a:pt x="663" y="376"/>
                      </a:lnTo>
                      <a:lnTo>
                        <a:pt x="695" y="376"/>
                      </a:lnTo>
                      <a:lnTo>
                        <a:pt x="753" y="507"/>
                      </a:lnTo>
                      <a:lnTo>
                        <a:pt x="772" y="523"/>
                      </a:lnTo>
                      <a:lnTo>
                        <a:pt x="791" y="458"/>
                      </a:lnTo>
                      <a:lnTo>
                        <a:pt x="830" y="376"/>
                      </a:lnTo>
                      <a:lnTo>
                        <a:pt x="856" y="360"/>
                      </a:lnTo>
                      <a:lnTo>
                        <a:pt x="882" y="229"/>
                      </a:lnTo>
                      <a:lnTo>
                        <a:pt x="907" y="212"/>
                      </a:lnTo>
                      <a:lnTo>
                        <a:pt x="939" y="163"/>
                      </a:lnTo>
                      <a:lnTo>
                        <a:pt x="972" y="114"/>
                      </a:lnTo>
                      <a:lnTo>
                        <a:pt x="1004" y="114"/>
                      </a:lnTo>
                      <a:lnTo>
                        <a:pt x="1029" y="49"/>
                      </a:lnTo>
                      <a:lnTo>
                        <a:pt x="1068" y="49"/>
                      </a:lnTo>
                      <a:lnTo>
                        <a:pt x="1113" y="49"/>
                      </a:lnTo>
                      <a:lnTo>
                        <a:pt x="1171" y="81"/>
                      </a:lnTo>
                      <a:lnTo>
                        <a:pt x="1209" y="147"/>
                      </a:lnTo>
                      <a:lnTo>
                        <a:pt x="1216" y="196"/>
                      </a:lnTo>
                      <a:lnTo>
                        <a:pt x="1222" y="229"/>
                      </a:lnTo>
                      <a:lnTo>
                        <a:pt x="1229" y="310"/>
                      </a:lnTo>
                      <a:lnTo>
                        <a:pt x="1222" y="343"/>
                      </a:lnTo>
                      <a:lnTo>
                        <a:pt x="1222" y="409"/>
                      </a:lnTo>
                      <a:lnTo>
                        <a:pt x="1216" y="458"/>
                      </a:lnTo>
                      <a:lnTo>
                        <a:pt x="1312" y="638"/>
                      </a:lnTo>
                      <a:lnTo>
                        <a:pt x="1345" y="736"/>
                      </a:lnTo>
                      <a:lnTo>
                        <a:pt x="1383" y="769"/>
                      </a:lnTo>
                      <a:lnTo>
                        <a:pt x="1422" y="818"/>
                      </a:lnTo>
                      <a:lnTo>
                        <a:pt x="1447" y="834"/>
                      </a:lnTo>
                      <a:lnTo>
                        <a:pt x="1486" y="785"/>
                      </a:lnTo>
                      <a:lnTo>
                        <a:pt x="1518" y="638"/>
                      </a:lnTo>
                      <a:lnTo>
                        <a:pt x="1531" y="523"/>
                      </a:lnTo>
                      <a:lnTo>
                        <a:pt x="1544" y="310"/>
                      </a:lnTo>
                      <a:lnTo>
                        <a:pt x="1557" y="212"/>
                      </a:lnTo>
                      <a:lnTo>
                        <a:pt x="1557" y="0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5494320" y="5805360"/>
                  <a:ext cx="432000" cy="200520"/>
                </a:xfrm>
                <a:custGeom>
                  <a:avLst/>
                  <a:gdLst/>
                  <a:ahLst/>
                  <a:rect l="0" t="0" r="r" b="b"/>
                  <a:pathLst>
                    <a:path w="1200" h="557">
                      <a:moveTo>
                        <a:pt x="0" y="0"/>
                      </a:moveTo>
                      <a:lnTo>
                        <a:pt x="90" y="81"/>
                      </a:lnTo>
                      <a:lnTo>
                        <a:pt x="167" y="81"/>
                      </a:lnTo>
                      <a:lnTo>
                        <a:pt x="238" y="81"/>
                      </a:lnTo>
                      <a:lnTo>
                        <a:pt x="290" y="81"/>
                      </a:lnTo>
                      <a:lnTo>
                        <a:pt x="328" y="98"/>
                      </a:lnTo>
                      <a:lnTo>
                        <a:pt x="380" y="148"/>
                      </a:lnTo>
                      <a:lnTo>
                        <a:pt x="406" y="262"/>
                      </a:lnTo>
                      <a:lnTo>
                        <a:pt x="432" y="311"/>
                      </a:lnTo>
                      <a:lnTo>
                        <a:pt x="477" y="295"/>
                      </a:lnTo>
                      <a:lnTo>
                        <a:pt x="528" y="295"/>
                      </a:lnTo>
                      <a:lnTo>
                        <a:pt x="586" y="360"/>
                      </a:lnTo>
                      <a:lnTo>
                        <a:pt x="626" y="393"/>
                      </a:lnTo>
                      <a:lnTo>
                        <a:pt x="652" y="393"/>
                      </a:lnTo>
                      <a:lnTo>
                        <a:pt x="658" y="311"/>
                      </a:lnTo>
                      <a:lnTo>
                        <a:pt x="678" y="262"/>
                      </a:lnTo>
                      <a:lnTo>
                        <a:pt x="755" y="295"/>
                      </a:lnTo>
                      <a:lnTo>
                        <a:pt x="819" y="295"/>
                      </a:lnTo>
                      <a:lnTo>
                        <a:pt x="878" y="295"/>
                      </a:lnTo>
                      <a:lnTo>
                        <a:pt x="923" y="344"/>
                      </a:lnTo>
                      <a:lnTo>
                        <a:pt x="948" y="376"/>
                      </a:lnTo>
                      <a:lnTo>
                        <a:pt x="994" y="360"/>
                      </a:lnTo>
                      <a:lnTo>
                        <a:pt x="1026" y="327"/>
                      </a:lnTo>
                      <a:lnTo>
                        <a:pt x="1045" y="295"/>
                      </a:lnTo>
                      <a:lnTo>
                        <a:pt x="1097" y="295"/>
                      </a:lnTo>
                      <a:lnTo>
                        <a:pt x="1129" y="262"/>
                      </a:lnTo>
                      <a:lnTo>
                        <a:pt x="1174" y="229"/>
                      </a:lnTo>
                      <a:lnTo>
                        <a:pt x="1200" y="229"/>
                      </a:lnTo>
                      <a:lnTo>
                        <a:pt x="1193" y="344"/>
                      </a:lnTo>
                      <a:lnTo>
                        <a:pt x="1181" y="393"/>
                      </a:lnTo>
                      <a:lnTo>
                        <a:pt x="1155" y="443"/>
                      </a:lnTo>
                      <a:lnTo>
                        <a:pt x="1129" y="443"/>
                      </a:lnTo>
                      <a:lnTo>
                        <a:pt x="1123" y="443"/>
                      </a:lnTo>
                      <a:lnTo>
                        <a:pt x="1090" y="459"/>
                      </a:lnTo>
                      <a:lnTo>
                        <a:pt x="1065" y="524"/>
                      </a:lnTo>
                      <a:lnTo>
                        <a:pt x="1039" y="508"/>
                      </a:lnTo>
                      <a:lnTo>
                        <a:pt x="1013" y="475"/>
                      </a:lnTo>
                      <a:lnTo>
                        <a:pt x="987" y="508"/>
                      </a:lnTo>
                      <a:lnTo>
                        <a:pt x="961" y="524"/>
                      </a:lnTo>
                      <a:lnTo>
                        <a:pt x="942" y="524"/>
                      </a:lnTo>
                      <a:lnTo>
                        <a:pt x="923" y="557"/>
                      </a:lnTo>
                      <a:lnTo>
                        <a:pt x="871" y="557"/>
                      </a:lnTo>
                      <a:lnTo>
                        <a:pt x="852" y="508"/>
                      </a:lnTo>
                      <a:lnTo>
                        <a:pt x="826" y="443"/>
                      </a:lnTo>
                      <a:lnTo>
                        <a:pt x="794" y="508"/>
                      </a:lnTo>
                      <a:lnTo>
                        <a:pt x="774" y="557"/>
                      </a:lnTo>
                      <a:lnTo>
                        <a:pt x="749" y="557"/>
                      </a:lnTo>
                      <a:lnTo>
                        <a:pt x="703" y="443"/>
                      </a:lnTo>
                      <a:lnTo>
                        <a:pt x="691" y="459"/>
                      </a:lnTo>
                      <a:lnTo>
                        <a:pt x="665" y="459"/>
                      </a:lnTo>
                      <a:lnTo>
                        <a:pt x="645" y="524"/>
                      </a:lnTo>
                      <a:lnTo>
                        <a:pt x="607" y="508"/>
                      </a:lnTo>
                      <a:lnTo>
                        <a:pt x="567" y="508"/>
                      </a:lnTo>
                      <a:lnTo>
                        <a:pt x="548" y="475"/>
                      </a:lnTo>
                      <a:lnTo>
                        <a:pt x="522" y="443"/>
                      </a:lnTo>
                      <a:lnTo>
                        <a:pt x="483" y="459"/>
                      </a:lnTo>
                      <a:lnTo>
                        <a:pt x="444" y="524"/>
                      </a:lnTo>
                      <a:lnTo>
                        <a:pt x="419" y="508"/>
                      </a:lnTo>
                      <a:lnTo>
                        <a:pt x="380" y="475"/>
                      </a:lnTo>
                      <a:lnTo>
                        <a:pt x="335" y="426"/>
                      </a:lnTo>
                      <a:lnTo>
                        <a:pt x="296" y="426"/>
                      </a:lnTo>
                      <a:lnTo>
                        <a:pt x="219" y="376"/>
                      </a:lnTo>
                      <a:lnTo>
                        <a:pt x="167" y="344"/>
                      </a:lnTo>
                      <a:lnTo>
                        <a:pt x="135" y="327"/>
                      </a:lnTo>
                      <a:lnTo>
                        <a:pt x="83" y="311"/>
                      </a:lnTo>
                      <a:lnTo>
                        <a:pt x="51" y="246"/>
                      </a:lnTo>
                      <a:lnTo>
                        <a:pt x="19" y="229"/>
                      </a:lnTo>
                      <a:lnTo>
                        <a:pt x="6" y="213"/>
                      </a:lnTo>
                      <a:lnTo>
                        <a:pt x="0" y="18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5730840" y="5415120"/>
                  <a:ext cx="195480" cy="383040"/>
                </a:xfrm>
                <a:custGeom>
                  <a:avLst/>
                  <a:gdLst/>
                  <a:ahLst/>
                  <a:rect l="0" t="0" r="r" b="b"/>
                  <a:pathLst>
                    <a:path w="543" h="1064">
                      <a:moveTo>
                        <a:pt x="135" y="0"/>
                      </a:moveTo>
                      <a:lnTo>
                        <a:pt x="264" y="16"/>
                      </a:lnTo>
                      <a:lnTo>
                        <a:pt x="388" y="16"/>
                      </a:lnTo>
                      <a:lnTo>
                        <a:pt x="452" y="0"/>
                      </a:lnTo>
                      <a:lnTo>
                        <a:pt x="543" y="98"/>
                      </a:lnTo>
                      <a:lnTo>
                        <a:pt x="485" y="130"/>
                      </a:lnTo>
                      <a:lnTo>
                        <a:pt x="452" y="179"/>
                      </a:lnTo>
                      <a:lnTo>
                        <a:pt x="433" y="212"/>
                      </a:lnTo>
                      <a:lnTo>
                        <a:pt x="420" y="245"/>
                      </a:lnTo>
                      <a:lnTo>
                        <a:pt x="420" y="278"/>
                      </a:lnTo>
                      <a:lnTo>
                        <a:pt x="420" y="327"/>
                      </a:lnTo>
                      <a:lnTo>
                        <a:pt x="381" y="360"/>
                      </a:lnTo>
                      <a:lnTo>
                        <a:pt x="349" y="360"/>
                      </a:lnTo>
                      <a:lnTo>
                        <a:pt x="336" y="377"/>
                      </a:lnTo>
                      <a:lnTo>
                        <a:pt x="304" y="377"/>
                      </a:lnTo>
                      <a:lnTo>
                        <a:pt x="291" y="327"/>
                      </a:lnTo>
                      <a:lnTo>
                        <a:pt x="264" y="261"/>
                      </a:lnTo>
                      <a:lnTo>
                        <a:pt x="238" y="212"/>
                      </a:lnTo>
                      <a:lnTo>
                        <a:pt x="187" y="212"/>
                      </a:lnTo>
                      <a:lnTo>
                        <a:pt x="174" y="212"/>
                      </a:lnTo>
                      <a:lnTo>
                        <a:pt x="161" y="295"/>
                      </a:lnTo>
                      <a:lnTo>
                        <a:pt x="167" y="377"/>
                      </a:lnTo>
                      <a:lnTo>
                        <a:pt x="167" y="426"/>
                      </a:lnTo>
                      <a:lnTo>
                        <a:pt x="174" y="475"/>
                      </a:lnTo>
                      <a:lnTo>
                        <a:pt x="200" y="458"/>
                      </a:lnTo>
                      <a:lnTo>
                        <a:pt x="238" y="409"/>
                      </a:lnTo>
                      <a:lnTo>
                        <a:pt x="264" y="409"/>
                      </a:lnTo>
                      <a:lnTo>
                        <a:pt x="285" y="442"/>
                      </a:lnTo>
                      <a:lnTo>
                        <a:pt x="285" y="475"/>
                      </a:lnTo>
                      <a:lnTo>
                        <a:pt x="272" y="540"/>
                      </a:lnTo>
                      <a:lnTo>
                        <a:pt x="264" y="573"/>
                      </a:lnTo>
                      <a:lnTo>
                        <a:pt x="264" y="605"/>
                      </a:lnTo>
                      <a:lnTo>
                        <a:pt x="258" y="654"/>
                      </a:lnTo>
                      <a:lnTo>
                        <a:pt x="272" y="704"/>
                      </a:lnTo>
                      <a:lnTo>
                        <a:pt x="298" y="769"/>
                      </a:lnTo>
                      <a:lnTo>
                        <a:pt x="304" y="753"/>
                      </a:lnTo>
                      <a:lnTo>
                        <a:pt x="304" y="819"/>
                      </a:lnTo>
                      <a:lnTo>
                        <a:pt x="291" y="868"/>
                      </a:lnTo>
                      <a:lnTo>
                        <a:pt x="278" y="917"/>
                      </a:lnTo>
                      <a:lnTo>
                        <a:pt x="272" y="999"/>
                      </a:lnTo>
                      <a:lnTo>
                        <a:pt x="245" y="1032"/>
                      </a:lnTo>
                      <a:lnTo>
                        <a:pt x="225" y="1032"/>
                      </a:lnTo>
                      <a:lnTo>
                        <a:pt x="206" y="1032"/>
                      </a:lnTo>
                      <a:lnTo>
                        <a:pt x="206" y="966"/>
                      </a:lnTo>
                      <a:lnTo>
                        <a:pt x="200" y="852"/>
                      </a:lnTo>
                      <a:lnTo>
                        <a:pt x="180" y="819"/>
                      </a:lnTo>
                      <a:lnTo>
                        <a:pt x="174" y="769"/>
                      </a:lnTo>
                      <a:lnTo>
                        <a:pt x="180" y="671"/>
                      </a:lnTo>
                      <a:lnTo>
                        <a:pt x="161" y="638"/>
                      </a:lnTo>
                      <a:lnTo>
                        <a:pt x="116" y="671"/>
                      </a:lnTo>
                      <a:lnTo>
                        <a:pt x="96" y="638"/>
                      </a:lnTo>
                      <a:lnTo>
                        <a:pt x="77" y="687"/>
                      </a:lnTo>
                      <a:lnTo>
                        <a:pt x="96" y="720"/>
                      </a:lnTo>
                      <a:lnTo>
                        <a:pt x="129" y="753"/>
                      </a:lnTo>
                      <a:lnTo>
                        <a:pt x="135" y="785"/>
                      </a:lnTo>
                      <a:lnTo>
                        <a:pt x="154" y="852"/>
                      </a:lnTo>
                      <a:lnTo>
                        <a:pt x="154" y="901"/>
                      </a:lnTo>
                      <a:lnTo>
                        <a:pt x="135" y="982"/>
                      </a:lnTo>
                      <a:lnTo>
                        <a:pt x="109" y="1048"/>
                      </a:lnTo>
                      <a:lnTo>
                        <a:pt x="96" y="1064"/>
                      </a:lnTo>
                      <a:lnTo>
                        <a:pt x="96" y="1015"/>
                      </a:lnTo>
                      <a:lnTo>
                        <a:pt x="96" y="966"/>
                      </a:lnTo>
                      <a:lnTo>
                        <a:pt x="103" y="901"/>
                      </a:lnTo>
                      <a:lnTo>
                        <a:pt x="71" y="852"/>
                      </a:lnTo>
                      <a:lnTo>
                        <a:pt x="38" y="803"/>
                      </a:lnTo>
                      <a:lnTo>
                        <a:pt x="32" y="753"/>
                      </a:lnTo>
                      <a:lnTo>
                        <a:pt x="0" y="720"/>
                      </a:lnTo>
                      <a:lnTo>
                        <a:pt x="6" y="638"/>
                      </a:lnTo>
                      <a:lnTo>
                        <a:pt x="32" y="589"/>
                      </a:lnTo>
                      <a:lnTo>
                        <a:pt x="51" y="507"/>
                      </a:lnTo>
                      <a:lnTo>
                        <a:pt x="71" y="426"/>
                      </a:lnTo>
                      <a:lnTo>
                        <a:pt x="77" y="344"/>
                      </a:lnTo>
                      <a:lnTo>
                        <a:pt x="71" y="261"/>
                      </a:lnTo>
                      <a:lnTo>
                        <a:pt x="83" y="228"/>
                      </a:lnTo>
                      <a:lnTo>
                        <a:pt x="96" y="196"/>
                      </a:lnTo>
                      <a:lnTo>
                        <a:pt x="77" y="130"/>
                      </a:lnTo>
                      <a:lnTo>
                        <a:pt x="135" y="0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5526000" y="5243400"/>
                  <a:ext cx="216360" cy="524160"/>
                </a:xfrm>
                <a:custGeom>
                  <a:avLst/>
                  <a:gdLst/>
                  <a:ahLst/>
                  <a:rect l="0" t="0" r="r" b="b"/>
                  <a:pathLst>
                    <a:path w="601" h="1456">
                      <a:moveTo>
                        <a:pt x="0" y="485"/>
                      </a:moveTo>
                      <a:lnTo>
                        <a:pt x="122" y="258"/>
                      </a:lnTo>
                      <a:lnTo>
                        <a:pt x="188" y="161"/>
                      </a:lnTo>
                      <a:lnTo>
                        <a:pt x="220" y="80"/>
                      </a:lnTo>
                      <a:lnTo>
                        <a:pt x="316" y="0"/>
                      </a:lnTo>
                      <a:lnTo>
                        <a:pt x="368" y="177"/>
                      </a:lnTo>
                      <a:lnTo>
                        <a:pt x="420" y="97"/>
                      </a:lnTo>
                      <a:lnTo>
                        <a:pt x="439" y="48"/>
                      </a:lnTo>
                      <a:lnTo>
                        <a:pt x="485" y="0"/>
                      </a:lnTo>
                      <a:lnTo>
                        <a:pt x="511" y="0"/>
                      </a:lnTo>
                      <a:lnTo>
                        <a:pt x="517" y="64"/>
                      </a:lnTo>
                      <a:lnTo>
                        <a:pt x="517" y="113"/>
                      </a:lnTo>
                      <a:lnTo>
                        <a:pt x="492" y="194"/>
                      </a:lnTo>
                      <a:lnTo>
                        <a:pt x="492" y="242"/>
                      </a:lnTo>
                      <a:lnTo>
                        <a:pt x="563" y="452"/>
                      </a:lnTo>
                      <a:lnTo>
                        <a:pt x="575" y="582"/>
                      </a:lnTo>
                      <a:lnTo>
                        <a:pt x="595" y="582"/>
                      </a:lnTo>
                      <a:lnTo>
                        <a:pt x="601" y="646"/>
                      </a:lnTo>
                      <a:lnTo>
                        <a:pt x="575" y="711"/>
                      </a:lnTo>
                      <a:lnTo>
                        <a:pt x="556" y="679"/>
                      </a:lnTo>
                      <a:lnTo>
                        <a:pt x="511" y="727"/>
                      </a:lnTo>
                      <a:lnTo>
                        <a:pt x="517" y="857"/>
                      </a:lnTo>
                      <a:lnTo>
                        <a:pt x="466" y="938"/>
                      </a:lnTo>
                      <a:lnTo>
                        <a:pt x="466" y="1148"/>
                      </a:lnTo>
                      <a:lnTo>
                        <a:pt x="466" y="1294"/>
                      </a:lnTo>
                      <a:lnTo>
                        <a:pt x="439" y="1359"/>
                      </a:lnTo>
                      <a:lnTo>
                        <a:pt x="420" y="1456"/>
                      </a:lnTo>
                      <a:lnTo>
                        <a:pt x="394" y="1440"/>
                      </a:lnTo>
                      <a:lnTo>
                        <a:pt x="355" y="1391"/>
                      </a:lnTo>
                      <a:lnTo>
                        <a:pt x="323" y="1343"/>
                      </a:lnTo>
                      <a:lnTo>
                        <a:pt x="297" y="1262"/>
                      </a:lnTo>
                      <a:lnTo>
                        <a:pt x="207" y="1278"/>
                      </a:lnTo>
                      <a:lnTo>
                        <a:pt x="128" y="1229"/>
                      </a:lnTo>
                      <a:lnTo>
                        <a:pt x="77" y="1100"/>
                      </a:lnTo>
                      <a:lnTo>
                        <a:pt x="45" y="1003"/>
                      </a:lnTo>
                      <a:lnTo>
                        <a:pt x="19" y="922"/>
                      </a:lnTo>
                      <a:lnTo>
                        <a:pt x="19" y="760"/>
                      </a:lnTo>
                      <a:lnTo>
                        <a:pt x="0" y="485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5985000" y="5543640"/>
                  <a:ext cx="413280" cy="495720"/>
                </a:xfrm>
                <a:custGeom>
                  <a:avLst/>
                  <a:gdLst/>
                  <a:ahLst/>
                  <a:rect l="0" t="0" r="r" b="b"/>
                  <a:pathLst>
                    <a:path w="1148" h="1377">
                      <a:moveTo>
                        <a:pt x="0" y="0"/>
                      </a:moveTo>
                      <a:lnTo>
                        <a:pt x="103" y="16"/>
                      </a:lnTo>
                      <a:lnTo>
                        <a:pt x="186" y="32"/>
                      </a:lnTo>
                      <a:lnTo>
                        <a:pt x="225" y="229"/>
                      </a:lnTo>
                      <a:lnTo>
                        <a:pt x="231" y="294"/>
                      </a:lnTo>
                      <a:lnTo>
                        <a:pt x="244" y="327"/>
                      </a:lnTo>
                      <a:lnTo>
                        <a:pt x="270" y="278"/>
                      </a:lnTo>
                      <a:lnTo>
                        <a:pt x="316" y="278"/>
                      </a:lnTo>
                      <a:lnTo>
                        <a:pt x="342" y="327"/>
                      </a:lnTo>
                      <a:lnTo>
                        <a:pt x="355" y="311"/>
                      </a:lnTo>
                      <a:lnTo>
                        <a:pt x="393" y="229"/>
                      </a:lnTo>
                      <a:lnTo>
                        <a:pt x="400" y="229"/>
                      </a:lnTo>
                      <a:lnTo>
                        <a:pt x="432" y="180"/>
                      </a:lnTo>
                      <a:lnTo>
                        <a:pt x="464" y="180"/>
                      </a:lnTo>
                      <a:lnTo>
                        <a:pt x="567" y="278"/>
                      </a:lnTo>
                      <a:lnTo>
                        <a:pt x="612" y="278"/>
                      </a:lnTo>
                      <a:lnTo>
                        <a:pt x="657" y="361"/>
                      </a:lnTo>
                      <a:lnTo>
                        <a:pt x="703" y="394"/>
                      </a:lnTo>
                      <a:lnTo>
                        <a:pt x="741" y="459"/>
                      </a:lnTo>
                      <a:lnTo>
                        <a:pt x="773" y="475"/>
                      </a:lnTo>
                      <a:lnTo>
                        <a:pt x="857" y="541"/>
                      </a:lnTo>
                      <a:lnTo>
                        <a:pt x="897" y="656"/>
                      </a:lnTo>
                      <a:lnTo>
                        <a:pt x="916" y="721"/>
                      </a:lnTo>
                      <a:lnTo>
                        <a:pt x="910" y="754"/>
                      </a:lnTo>
                      <a:lnTo>
                        <a:pt x="942" y="819"/>
                      </a:lnTo>
                      <a:lnTo>
                        <a:pt x="968" y="836"/>
                      </a:lnTo>
                      <a:lnTo>
                        <a:pt x="981" y="852"/>
                      </a:lnTo>
                      <a:lnTo>
                        <a:pt x="1013" y="869"/>
                      </a:lnTo>
                      <a:lnTo>
                        <a:pt x="1064" y="967"/>
                      </a:lnTo>
                      <a:lnTo>
                        <a:pt x="1064" y="1032"/>
                      </a:lnTo>
                      <a:lnTo>
                        <a:pt x="1096" y="1099"/>
                      </a:lnTo>
                      <a:lnTo>
                        <a:pt x="1103" y="1132"/>
                      </a:lnTo>
                      <a:lnTo>
                        <a:pt x="1148" y="1263"/>
                      </a:lnTo>
                      <a:lnTo>
                        <a:pt x="1109" y="1377"/>
                      </a:lnTo>
                      <a:lnTo>
                        <a:pt x="1096" y="1377"/>
                      </a:lnTo>
                      <a:lnTo>
                        <a:pt x="1058" y="1377"/>
                      </a:lnTo>
                      <a:lnTo>
                        <a:pt x="1045" y="1328"/>
                      </a:lnTo>
                      <a:lnTo>
                        <a:pt x="1026" y="1328"/>
                      </a:lnTo>
                      <a:lnTo>
                        <a:pt x="1006" y="1345"/>
                      </a:lnTo>
                      <a:lnTo>
                        <a:pt x="910" y="1083"/>
                      </a:lnTo>
                      <a:lnTo>
                        <a:pt x="851" y="1099"/>
                      </a:lnTo>
                      <a:lnTo>
                        <a:pt x="793" y="1083"/>
                      </a:lnTo>
                      <a:lnTo>
                        <a:pt x="773" y="1115"/>
                      </a:lnTo>
                      <a:lnTo>
                        <a:pt x="754" y="1164"/>
                      </a:lnTo>
                      <a:lnTo>
                        <a:pt x="748" y="1132"/>
                      </a:lnTo>
                      <a:lnTo>
                        <a:pt x="722" y="1214"/>
                      </a:lnTo>
                      <a:lnTo>
                        <a:pt x="683" y="1328"/>
                      </a:lnTo>
                      <a:lnTo>
                        <a:pt x="651" y="1279"/>
                      </a:lnTo>
                      <a:lnTo>
                        <a:pt x="612" y="1246"/>
                      </a:lnTo>
                      <a:lnTo>
                        <a:pt x="587" y="1246"/>
                      </a:lnTo>
                      <a:lnTo>
                        <a:pt x="548" y="1214"/>
                      </a:lnTo>
                      <a:lnTo>
                        <a:pt x="529" y="1246"/>
                      </a:lnTo>
                      <a:lnTo>
                        <a:pt x="503" y="1083"/>
                      </a:lnTo>
                      <a:lnTo>
                        <a:pt x="458" y="934"/>
                      </a:lnTo>
                      <a:lnTo>
                        <a:pt x="413" y="754"/>
                      </a:lnTo>
                      <a:lnTo>
                        <a:pt x="374" y="656"/>
                      </a:lnTo>
                      <a:lnTo>
                        <a:pt x="342" y="557"/>
                      </a:lnTo>
                      <a:lnTo>
                        <a:pt x="270" y="557"/>
                      </a:lnTo>
                      <a:lnTo>
                        <a:pt x="206" y="607"/>
                      </a:lnTo>
                      <a:lnTo>
                        <a:pt x="173" y="541"/>
                      </a:lnTo>
                      <a:lnTo>
                        <a:pt x="109" y="492"/>
                      </a:lnTo>
                      <a:lnTo>
                        <a:pt x="77" y="443"/>
                      </a:lnTo>
                      <a:lnTo>
                        <a:pt x="77" y="245"/>
                      </a:lnTo>
                      <a:lnTo>
                        <a:pt x="83" y="14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5221440" y="5189400"/>
                  <a:ext cx="248040" cy="654480"/>
                </a:xfrm>
                <a:custGeom>
                  <a:avLst/>
                  <a:gdLst/>
                  <a:ahLst/>
                  <a:rect l="0" t="0" r="r" b="b"/>
                  <a:pathLst>
                    <a:path w="689" h="1818">
                      <a:moveTo>
                        <a:pt x="0" y="49"/>
                      </a:moveTo>
                      <a:lnTo>
                        <a:pt x="70" y="0"/>
                      </a:lnTo>
                      <a:lnTo>
                        <a:pt x="152" y="81"/>
                      </a:lnTo>
                      <a:lnTo>
                        <a:pt x="165" y="163"/>
                      </a:lnTo>
                      <a:lnTo>
                        <a:pt x="165" y="196"/>
                      </a:lnTo>
                      <a:lnTo>
                        <a:pt x="185" y="212"/>
                      </a:lnTo>
                      <a:lnTo>
                        <a:pt x="185" y="245"/>
                      </a:lnTo>
                      <a:lnTo>
                        <a:pt x="211" y="261"/>
                      </a:lnTo>
                      <a:lnTo>
                        <a:pt x="211" y="327"/>
                      </a:lnTo>
                      <a:lnTo>
                        <a:pt x="294" y="524"/>
                      </a:lnTo>
                      <a:lnTo>
                        <a:pt x="306" y="524"/>
                      </a:lnTo>
                      <a:lnTo>
                        <a:pt x="319" y="573"/>
                      </a:lnTo>
                      <a:lnTo>
                        <a:pt x="332" y="622"/>
                      </a:lnTo>
                      <a:lnTo>
                        <a:pt x="344" y="622"/>
                      </a:lnTo>
                      <a:lnTo>
                        <a:pt x="402" y="688"/>
                      </a:lnTo>
                      <a:lnTo>
                        <a:pt x="510" y="721"/>
                      </a:lnTo>
                      <a:lnTo>
                        <a:pt x="516" y="950"/>
                      </a:lnTo>
                      <a:lnTo>
                        <a:pt x="543" y="983"/>
                      </a:lnTo>
                      <a:lnTo>
                        <a:pt x="537" y="1064"/>
                      </a:lnTo>
                      <a:lnTo>
                        <a:pt x="600" y="1179"/>
                      </a:lnTo>
                      <a:lnTo>
                        <a:pt x="658" y="1228"/>
                      </a:lnTo>
                      <a:lnTo>
                        <a:pt x="658" y="1606"/>
                      </a:lnTo>
                      <a:lnTo>
                        <a:pt x="689" y="1753"/>
                      </a:lnTo>
                      <a:lnTo>
                        <a:pt x="670" y="1802"/>
                      </a:lnTo>
                      <a:lnTo>
                        <a:pt x="632" y="1818"/>
                      </a:lnTo>
                      <a:lnTo>
                        <a:pt x="626" y="1687"/>
                      </a:lnTo>
                      <a:lnTo>
                        <a:pt x="562" y="1818"/>
                      </a:lnTo>
                      <a:lnTo>
                        <a:pt x="516" y="1622"/>
                      </a:lnTo>
                      <a:lnTo>
                        <a:pt x="491" y="1491"/>
                      </a:lnTo>
                      <a:lnTo>
                        <a:pt x="415" y="1310"/>
                      </a:lnTo>
                      <a:lnTo>
                        <a:pt x="395" y="1310"/>
                      </a:lnTo>
                      <a:lnTo>
                        <a:pt x="325" y="1212"/>
                      </a:lnTo>
                      <a:lnTo>
                        <a:pt x="313" y="1113"/>
                      </a:lnTo>
                      <a:lnTo>
                        <a:pt x="313" y="1048"/>
                      </a:lnTo>
                      <a:lnTo>
                        <a:pt x="255" y="786"/>
                      </a:lnTo>
                      <a:lnTo>
                        <a:pt x="230" y="622"/>
                      </a:lnTo>
                      <a:lnTo>
                        <a:pt x="159" y="475"/>
                      </a:lnTo>
                      <a:lnTo>
                        <a:pt x="63" y="245"/>
                      </a:lnTo>
                      <a:lnTo>
                        <a:pt x="0" y="49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5662440" y="4484520"/>
                  <a:ext cx="243360" cy="721080"/>
                </a:xfrm>
                <a:custGeom>
                  <a:avLst/>
                  <a:gdLst/>
                  <a:ahLst/>
                  <a:rect l="0" t="0" r="r" b="b"/>
                  <a:pathLst>
                    <a:path w="676" h="2003">
                      <a:moveTo>
                        <a:pt x="45" y="0"/>
                      </a:moveTo>
                      <a:lnTo>
                        <a:pt x="103" y="0"/>
                      </a:lnTo>
                      <a:lnTo>
                        <a:pt x="168" y="213"/>
                      </a:lnTo>
                      <a:lnTo>
                        <a:pt x="155" y="410"/>
                      </a:lnTo>
                      <a:lnTo>
                        <a:pt x="195" y="475"/>
                      </a:lnTo>
                      <a:lnTo>
                        <a:pt x="215" y="607"/>
                      </a:lnTo>
                      <a:lnTo>
                        <a:pt x="260" y="672"/>
                      </a:lnTo>
                      <a:lnTo>
                        <a:pt x="312" y="689"/>
                      </a:lnTo>
                      <a:lnTo>
                        <a:pt x="390" y="787"/>
                      </a:lnTo>
                      <a:lnTo>
                        <a:pt x="442" y="902"/>
                      </a:lnTo>
                      <a:lnTo>
                        <a:pt x="455" y="902"/>
                      </a:lnTo>
                      <a:lnTo>
                        <a:pt x="520" y="1002"/>
                      </a:lnTo>
                      <a:lnTo>
                        <a:pt x="520" y="1248"/>
                      </a:lnTo>
                      <a:lnTo>
                        <a:pt x="540" y="1363"/>
                      </a:lnTo>
                      <a:lnTo>
                        <a:pt x="559" y="1428"/>
                      </a:lnTo>
                      <a:lnTo>
                        <a:pt x="585" y="1494"/>
                      </a:lnTo>
                      <a:lnTo>
                        <a:pt x="611" y="1576"/>
                      </a:lnTo>
                      <a:lnTo>
                        <a:pt x="624" y="1674"/>
                      </a:lnTo>
                      <a:lnTo>
                        <a:pt x="676" y="1756"/>
                      </a:lnTo>
                      <a:lnTo>
                        <a:pt x="670" y="1855"/>
                      </a:lnTo>
                      <a:lnTo>
                        <a:pt x="618" y="1871"/>
                      </a:lnTo>
                      <a:lnTo>
                        <a:pt x="598" y="1789"/>
                      </a:lnTo>
                      <a:lnTo>
                        <a:pt x="559" y="1789"/>
                      </a:lnTo>
                      <a:lnTo>
                        <a:pt x="559" y="2003"/>
                      </a:lnTo>
                      <a:lnTo>
                        <a:pt x="527" y="2003"/>
                      </a:lnTo>
                      <a:lnTo>
                        <a:pt x="487" y="1904"/>
                      </a:lnTo>
                      <a:lnTo>
                        <a:pt x="461" y="1855"/>
                      </a:lnTo>
                      <a:lnTo>
                        <a:pt x="461" y="1740"/>
                      </a:lnTo>
                      <a:lnTo>
                        <a:pt x="403" y="1740"/>
                      </a:lnTo>
                      <a:lnTo>
                        <a:pt x="383" y="1855"/>
                      </a:lnTo>
                      <a:lnTo>
                        <a:pt x="364" y="1740"/>
                      </a:lnTo>
                      <a:lnTo>
                        <a:pt x="357" y="1625"/>
                      </a:lnTo>
                      <a:lnTo>
                        <a:pt x="429" y="1576"/>
                      </a:lnTo>
                      <a:lnTo>
                        <a:pt x="468" y="1609"/>
                      </a:lnTo>
                      <a:lnTo>
                        <a:pt x="474" y="1412"/>
                      </a:lnTo>
                      <a:lnTo>
                        <a:pt x="435" y="1346"/>
                      </a:lnTo>
                      <a:lnTo>
                        <a:pt x="409" y="1182"/>
                      </a:lnTo>
                      <a:lnTo>
                        <a:pt x="390" y="984"/>
                      </a:lnTo>
                      <a:lnTo>
                        <a:pt x="318" y="918"/>
                      </a:lnTo>
                      <a:lnTo>
                        <a:pt x="286" y="836"/>
                      </a:lnTo>
                      <a:lnTo>
                        <a:pt x="228" y="787"/>
                      </a:lnTo>
                      <a:lnTo>
                        <a:pt x="260" y="968"/>
                      </a:lnTo>
                      <a:lnTo>
                        <a:pt x="195" y="1051"/>
                      </a:lnTo>
                      <a:lnTo>
                        <a:pt x="155" y="853"/>
                      </a:lnTo>
                      <a:lnTo>
                        <a:pt x="123" y="804"/>
                      </a:lnTo>
                      <a:lnTo>
                        <a:pt x="123" y="689"/>
                      </a:lnTo>
                      <a:lnTo>
                        <a:pt x="77" y="557"/>
                      </a:lnTo>
                      <a:lnTo>
                        <a:pt x="25" y="475"/>
                      </a:lnTo>
                      <a:lnTo>
                        <a:pt x="0" y="393"/>
                      </a:lnTo>
                      <a:lnTo>
                        <a:pt x="12" y="328"/>
                      </a:lnTo>
                      <a:lnTo>
                        <a:pt x="51" y="361"/>
                      </a:lnTo>
                      <a:lnTo>
                        <a:pt x="64" y="278"/>
                      </a:lnTo>
                      <a:lnTo>
                        <a:pt x="51" y="164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5608800" y="3263760"/>
                  <a:ext cx="178200" cy="609840"/>
                </a:xfrm>
                <a:custGeom>
                  <a:avLst/>
                  <a:gdLst/>
                  <a:ahLst/>
                  <a:rect l="0" t="0" r="r" b="b"/>
                  <a:pathLst>
                    <a:path w="495" h="1694">
                      <a:moveTo>
                        <a:pt x="102" y="0"/>
                      </a:moveTo>
                      <a:lnTo>
                        <a:pt x="199" y="115"/>
                      </a:lnTo>
                      <a:lnTo>
                        <a:pt x="257" y="213"/>
                      </a:lnTo>
                      <a:lnTo>
                        <a:pt x="296" y="361"/>
                      </a:lnTo>
                      <a:lnTo>
                        <a:pt x="328" y="361"/>
                      </a:lnTo>
                      <a:lnTo>
                        <a:pt x="321" y="460"/>
                      </a:lnTo>
                      <a:lnTo>
                        <a:pt x="360" y="526"/>
                      </a:lnTo>
                      <a:lnTo>
                        <a:pt x="386" y="624"/>
                      </a:lnTo>
                      <a:lnTo>
                        <a:pt x="450" y="822"/>
                      </a:lnTo>
                      <a:lnTo>
                        <a:pt x="495" y="1053"/>
                      </a:lnTo>
                      <a:lnTo>
                        <a:pt x="412" y="1036"/>
                      </a:lnTo>
                      <a:lnTo>
                        <a:pt x="347" y="1003"/>
                      </a:lnTo>
                      <a:lnTo>
                        <a:pt x="393" y="1168"/>
                      </a:lnTo>
                      <a:lnTo>
                        <a:pt x="393" y="1266"/>
                      </a:lnTo>
                      <a:lnTo>
                        <a:pt x="393" y="1365"/>
                      </a:lnTo>
                      <a:lnTo>
                        <a:pt x="366" y="1316"/>
                      </a:lnTo>
                      <a:lnTo>
                        <a:pt x="334" y="1234"/>
                      </a:lnTo>
                      <a:lnTo>
                        <a:pt x="276" y="1135"/>
                      </a:lnTo>
                      <a:lnTo>
                        <a:pt x="244" y="1086"/>
                      </a:lnTo>
                      <a:lnTo>
                        <a:pt x="193" y="1135"/>
                      </a:lnTo>
                      <a:lnTo>
                        <a:pt x="161" y="1168"/>
                      </a:lnTo>
                      <a:lnTo>
                        <a:pt x="180" y="1250"/>
                      </a:lnTo>
                      <a:lnTo>
                        <a:pt x="231" y="1316"/>
                      </a:lnTo>
                      <a:lnTo>
                        <a:pt x="283" y="1381"/>
                      </a:lnTo>
                      <a:lnTo>
                        <a:pt x="302" y="1497"/>
                      </a:lnTo>
                      <a:lnTo>
                        <a:pt x="296" y="1645"/>
                      </a:lnTo>
                      <a:lnTo>
                        <a:pt x="296" y="1694"/>
                      </a:lnTo>
                      <a:lnTo>
                        <a:pt x="276" y="1694"/>
                      </a:lnTo>
                      <a:lnTo>
                        <a:pt x="244" y="1645"/>
                      </a:lnTo>
                      <a:lnTo>
                        <a:pt x="231" y="1628"/>
                      </a:lnTo>
                      <a:lnTo>
                        <a:pt x="212" y="1595"/>
                      </a:lnTo>
                      <a:lnTo>
                        <a:pt x="193" y="1677"/>
                      </a:lnTo>
                      <a:lnTo>
                        <a:pt x="161" y="1694"/>
                      </a:lnTo>
                      <a:lnTo>
                        <a:pt x="135" y="1628"/>
                      </a:lnTo>
                      <a:lnTo>
                        <a:pt x="135" y="1480"/>
                      </a:lnTo>
                      <a:lnTo>
                        <a:pt x="129" y="1398"/>
                      </a:lnTo>
                      <a:lnTo>
                        <a:pt x="96" y="1349"/>
                      </a:lnTo>
                      <a:lnTo>
                        <a:pt x="64" y="1431"/>
                      </a:lnTo>
                      <a:lnTo>
                        <a:pt x="12" y="1431"/>
                      </a:lnTo>
                      <a:lnTo>
                        <a:pt x="0" y="1365"/>
                      </a:lnTo>
                      <a:lnTo>
                        <a:pt x="12" y="1201"/>
                      </a:lnTo>
                      <a:lnTo>
                        <a:pt x="51" y="1102"/>
                      </a:lnTo>
                      <a:lnTo>
                        <a:pt x="44" y="838"/>
                      </a:lnTo>
                      <a:lnTo>
                        <a:pt x="44" y="772"/>
                      </a:lnTo>
                      <a:lnTo>
                        <a:pt x="83" y="756"/>
                      </a:lnTo>
                      <a:lnTo>
                        <a:pt x="115" y="822"/>
                      </a:lnTo>
                      <a:lnTo>
                        <a:pt x="174" y="855"/>
                      </a:lnTo>
                      <a:lnTo>
                        <a:pt x="174" y="739"/>
                      </a:lnTo>
                      <a:lnTo>
                        <a:pt x="148" y="674"/>
                      </a:lnTo>
                      <a:lnTo>
                        <a:pt x="135" y="624"/>
                      </a:lnTo>
                      <a:lnTo>
                        <a:pt x="154" y="624"/>
                      </a:lnTo>
                      <a:lnTo>
                        <a:pt x="167" y="624"/>
                      </a:lnTo>
                      <a:lnTo>
                        <a:pt x="180" y="624"/>
                      </a:lnTo>
                      <a:lnTo>
                        <a:pt x="193" y="624"/>
                      </a:lnTo>
                      <a:lnTo>
                        <a:pt x="212" y="575"/>
                      </a:lnTo>
                      <a:lnTo>
                        <a:pt x="206" y="526"/>
                      </a:lnTo>
                      <a:lnTo>
                        <a:pt x="187" y="411"/>
                      </a:lnTo>
                      <a:lnTo>
                        <a:pt x="148" y="295"/>
                      </a:lnTo>
                      <a:lnTo>
                        <a:pt x="96" y="230"/>
                      </a:lnTo>
                      <a:lnTo>
                        <a:pt x="76" y="164"/>
                      </a:lnTo>
                      <a:lnTo>
                        <a:pt x="102" y="0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5405400" y="2527200"/>
                  <a:ext cx="195480" cy="500400"/>
                </a:xfrm>
                <a:custGeom>
                  <a:avLst/>
                  <a:gdLst/>
                  <a:ahLst/>
                  <a:rect l="0" t="0" r="r" b="b"/>
                  <a:pathLst>
                    <a:path w="543" h="1390">
                      <a:moveTo>
                        <a:pt x="0" y="0"/>
                      </a:moveTo>
                      <a:lnTo>
                        <a:pt x="51" y="0"/>
                      </a:lnTo>
                      <a:lnTo>
                        <a:pt x="71" y="98"/>
                      </a:lnTo>
                      <a:lnTo>
                        <a:pt x="142" y="245"/>
                      </a:lnTo>
                      <a:lnTo>
                        <a:pt x="174" y="408"/>
                      </a:lnTo>
                      <a:lnTo>
                        <a:pt x="225" y="424"/>
                      </a:lnTo>
                      <a:lnTo>
                        <a:pt x="264" y="457"/>
                      </a:lnTo>
                      <a:lnTo>
                        <a:pt x="298" y="522"/>
                      </a:lnTo>
                      <a:lnTo>
                        <a:pt x="336" y="522"/>
                      </a:lnTo>
                      <a:lnTo>
                        <a:pt x="381" y="620"/>
                      </a:lnTo>
                      <a:lnTo>
                        <a:pt x="420" y="703"/>
                      </a:lnTo>
                      <a:lnTo>
                        <a:pt x="465" y="752"/>
                      </a:lnTo>
                      <a:lnTo>
                        <a:pt x="459" y="801"/>
                      </a:lnTo>
                      <a:lnTo>
                        <a:pt x="433" y="834"/>
                      </a:lnTo>
                      <a:lnTo>
                        <a:pt x="407" y="834"/>
                      </a:lnTo>
                      <a:lnTo>
                        <a:pt x="394" y="883"/>
                      </a:lnTo>
                      <a:lnTo>
                        <a:pt x="446" y="981"/>
                      </a:lnTo>
                      <a:lnTo>
                        <a:pt x="485" y="1079"/>
                      </a:lnTo>
                      <a:lnTo>
                        <a:pt x="543" y="1177"/>
                      </a:lnTo>
                      <a:lnTo>
                        <a:pt x="504" y="1292"/>
                      </a:lnTo>
                      <a:lnTo>
                        <a:pt x="472" y="1324"/>
                      </a:lnTo>
                      <a:lnTo>
                        <a:pt x="478" y="1390"/>
                      </a:lnTo>
                      <a:lnTo>
                        <a:pt x="420" y="1390"/>
                      </a:lnTo>
                      <a:lnTo>
                        <a:pt x="401" y="1341"/>
                      </a:lnTo>
                      <a:lnTo>
                        <a:pt x="356" y="1210"/>
                      </a:lnTo>
                      <a:lnTo>
                        <a:pt x="323" y="1095"/>
                      </a:lnTo>
                      <a:lnTo>
                        <a:pt x="272" y="899"/>
                      </a:lnTo>
                      <a:lnTo>
                        <a:pt x="213" y="752"/>
                      </a:lnTo>
                      <a:lnTo>
                        <a:pt x="148" y="539"/>
                      </a:lnTo>
                      <a:lnTo>
                        <a:pt x="109" y="473"/>
                      </a:lnTo>
                      <a:lnTo>
                        <a:pt x="77" y="424"/>
                      </a:lnTo>
                      <a:lnTo>
                        <a:pt x="64" y="310"/>
                      </a:lnTo>
                      <a:lnTo>
                        <a:pt x="6" y="212"/>
                      </a:lnTo>
                      <a:lnTo>
                        <a:pt x="6" y="14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" name=""/>
              <p:cNvGrpSpPr/>
              <p:nvPr/>
            </p:nvGrpSpPr>
            <p:grpSpPr>
              <a:xfrm>
                <a:off x="2865600" y="1496880"/>
                <a:ext cx="2840040" cy="5851800"/>
                <a:chOff x="2865600" y="1496880"/>
                <a:chExt cx="2840040" cy="5851800"/>
              </a:xfrm>
            </p:grpSpPr>
            <p:sp>
              <p:nvSpPr>
                <p:cNvPr id="23" name=""/>
                <p:cNvSpPr/>
                <p:nvPr/>
              </p:nvSpPr>
              <p:spPr>
                <a:xfrm>
                  <a:off x="2865600" y="3543120"/>
                  <a:ext cx="1411560" cy="3805560"/>
                </a:xfrm>
                <a:custGeom>
                  <a:avLst/>
                  <a:gdLst/>
                  <a:ahLst/>
                  <a:rect l="0" t="0" r="r" b="b"/>
                  <a:pathLst>
                    <a:path w="3921" h="10571">
                      <a:moveTo>
                        <a:pt x="2931" y="1263"/>
                      </a:moveTo>
                      <a:lnTo>
                        <a:pt x="2995" y="1706"/>
                      </a:lnTo>
                      <a:lnTo>
                        <a:pt x="3117" y="2379"/>
                      </a:lnTo>
                      <a:lnTo>
                        <a:pt x="3362" y="3463"/>
                      </a:lnTo>
                      <a:lnTo>
                        <a:pt x="3452" y="3594"/>
                      </a:lnTo>
                      <a:lnTo>
                        <a:pt x="3509" y="3906"/>
                      </a:lnTo>
                      <a:lnTo>
                        <a:pt x="3702" y="3889"/>
                      </a:lnTo>
                      <a:lnTo>
                        <a:pt x="3831" y="3791"/>
                      </a:lnTo>
                      <a:lnTo>
                        <a:pt x="3921" y="3791"/>
                      </a:lnTo>
                      <a:lnTo>
                        <a:pt x="3914" y="4218"/>
                      </a:lnTo>
                      <a:lnTo>
                        <a:pt x="3882" y="4447"/>
                      </a:lnTo>
                      <a:lnTo>
                        <a:pt x="3529" y="5400"/>
                      </a:lnTo>
                      <a:lnTo>
                        <a:pt x="3207" y="6385"/>
                      </a:lnTo>
                      <a:lnTo>
                        <a:pt x="3214" y="6763"/>
                      </a:lnTo>
                      <a:lnTo>
                        <a:pt x="3304" y="7042"/>
                      </a:lnTo>
                      <a:lnTo>
                        <a:pt x="3259" y="7255"/>
                      </a:lnTo>
                      <a:lnTo>
                        <a:pt x="3285" y="7534"/>
                      </a:lnTo>
                      <a:lnTo>
                        <a:pt x="3259" y="7748"/>
                      </a:lnTo>
                      <a:lnTo>
                        <a:pt x="3182" y="7928"/>
                      </a:lnTo>
                      <a:lnTo>
                        <a:pt x="3117" y="7928"/>
                      </a:lnTo>
                      <a:lnTo>
                        <a:pt x="3008" y="8240"/>
                      </a:lnTo>
                      <a:lnTo>
                        <a:pt x="2912" y="8601"/>
                      </a:lnTo>
                      <a:lnTo>
                        <a:pt x="2931" y="8995"/>
                      </a:lnTo>
                      <a:lnTo>
                        <a:pt x="2835" y="9175"/>
                      </a:lnTo>
                      <a:lnTo>
                        <a:pt x="2745" y="9586"/>
                      </a:lnTo>
                      <a:lnTo>
                        <a:pt x="2642" y="9963"/>
                      </a:lnTo>
                      <a:lnTo>
                        <a:pt x="2584" y="10111"/>
                      </a:lnTo>
                      <a:lnTo>
                        <a:pt x="2533" y="10144"/>
                      </a:lnTo>
                      <a:lnTo>
                        <a:pt x="2443" y="10390"/>
                      </a:lnTo>
                      <a:lnTo>
                        <a:pt x="2295" y="10538"/>
                      </a:lnTo>
                      <a:lnTo>
                        <a:pt x="2108" y="10571"/>
                      </a:lnTo>
                      <a:lnTo>
                        <a:pt x="2006" y="10406"/>
                      </a:lnTo>
                      <a:lnTo>
                        <a:pt x="1993" y="10242"/>
                      </a:lnTo>
                      <a:lnTo>
                        <a:pt x="1973" y="10029"/>
                      </a:lnTo>
                      <a:lnTo>
                        <a:pt x="1902" y="9914"/>
                      </a:lnTo>
                      <a:lnTo>
                        <a:pt x="1844" y="9504"/>
                      </a:lnTo>
                      <a:lnTo>
                        <a:pt x="1825" y="9307"/>
                      </a:lnTo>
                      <a:lnTo>
                        <a:pt x="1818" y="9061"/>
                      </a:lnTo>
                      <a:lnTo>
                        <a:pt x="1786" y="8880"/>
                      </a:lnTo>
                      <a:lnTo>
                        <a:pt x="1780" y="8765"/>
                      </a:lnTo>
                      <a:lnTo>
                        <a:pt x="1722" y="8585"/>
                      </a:lnTo>
                      <a:lnTo>
                        <a:pt x="1658" y="8437"/>
                      </a:lnTo>
                      <a:lnTo>
                        <a:pt x="1613" y="8191"/>
                      </a:lnTo>
                      <a:lnTo>
                        <a:pt x="1580" y="8010"/>
                      </a:lnTo>
                      <a:lnTo>
                        <a:pt x="1593" y="7715"/>
                      </a:lnTo>
                      <a:lnTo>
                        <a:pt x="1690" y="7288"/>
                      </a:lnTo>
                      <a:lnTo>
                        <a:pt x="1709" y="6812"/>
                      </a:lnTo>
                      <a:lnTo>
                        <a:pt x="1638" y="6270"/>
                      </a:lnTo>
                      <a:lnTo>
                        <a:pt x="1535" y="6057"/>
                      </a:lnTo>
                      <a:lnTo>
                        <a:pt x="1465" y="5762"/>
                      </a:lnTo>
                      <a:lnTo>
                        <a:pt x="1490" y="5302"/>
                      </a:lnTo>
                      <a:lnTo>
                        <a:pt x="1439" y="4956"/>
                      </a:lnTo>
                      <a:lnTo>
                        <a:pt x="1317" y="4923"/>
                      </a:lnTo>
                      <a:lnTo>
                        <a:pt x="1188" y="4661"/>
                      </a:lnTo>
                      <a:lnTo>
                        <a:pt x="1028" y="4513"/>
                      </a:lnTo>
                      <a:lnTo>
                        <a:pt x="861" y="4743"/>
                      </a:lnTo>
                      <a:lnTo>
                        <a:pt x="424" y="4677"/>
                      </a:lnTo>
                      <a:lnTo>
                        <a:pt x="186" y="4103"/>
                      </a:lnTo>
                      <a:lnTo>
                        <a:pt x="0" y="3331"/>
                      </a:lnTo>
                      <a:lnTo>
                        <a:pt x="32" y="3069"/>
                      </a:lnTo>
                      <a:lnTo>
                        <a:pt x="115" y="2872"/>
                      </a:lnTo>
                      <a:lnTo>
                        <a:pt x="154" y="2330"/>
                      </a:lnTo>
                      <a:lnTo>
                        <a:pt x="212" y="1936"/>
                      </a:lnTo>
                      <a:lnTo>
                        <a:pt x="379" y="1526"/>
                      </a:lnTo>
                      <a:lnTo>
                        <a:pt x="552" y="1345"/>
                      </a:lnTo>
                      <a:lnTo>
                        <a:pt x="713" y="919"/>
                      </a:lnTo>
                      <a:lnTo>
                        <a:pt x="751" y="738"/>
                      </a:lnTo>
                      <a:lnTo>
                        <a:pt x="963" y="279"/>
                      </a:lnTo>
                      <a:lnTo>
                        <a:pt x="1098" y="459"/>
                      </a:lnTo>
                      <a:lnTo>
                        <a:pt x="1195" y="443"/>
                      </a:lnTo>
                      <a:lnTo>
                        <a:pt x="1311" y="196"/>
                      </a:lnTo>
                      <a:lnTo>
                        <a:pt x="1445" y="164"/>
                      </a:lnTo>
                      <a:lnTo>
                        <a:pt x="1535" y="229"/>
                      </a:lnTo>
                      <a:lnTo>
                        <a:pt x="1619" y="32"/>
                      </a:lnTo>
                      <a:lnTo>
                        <a:pt x="1728" y="0"/>
                      </a:lnTo>
                      <a:lnTo>
                        <a:pt x="1754" y="361"/>
                      </a:lnTo>
                      <a:lnTo>
                        <a:pt x="1825" y="623"/>
                      </a:lnTo>
                      <a:lnTo>
                        <a:pt x="2025" y="886"/>
                      </a:lnTo>
                      <a:lnTo>
                        <a:pt x="2192" y="935"/>
                      </a:lnTo>
                      <a:lnTo>
                        <a:pt x="2211" y="640"/>
                      </a:lnTo>
                      <a:lnTo>
                        <a:pt x="2340" y="640"/>
                      </a:lnTo>
                      <a:lnTo>
                        <a:pt x="2494" y="820"/>
                      </a:lnTo>
                      <a:lnTo>
                        <a:pt x="2661" y="919"/>
                      </a:lnTo>
                      <a:lnTo>
                        <a:pt x="2803" y="804"/>
                      </a:lnTo>
                      <a:lnTo>
                        <a:pt x="2931" y="1263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" name=""/>
                <p:cNvGrpSpPr/>
                <p:nvPr/>
              </p:nvGrpSpPr>
              <p:grpSpPr>
                <a:xfrm>
                  <a:off x="2960640" y="1496880"/>
                  <a:ext cx="625680" cy="1310400"/>
                  <a:chOff x="2960640" y="1496880"/>
                  <a:chExt cx="625680" cy="1310400"/>
                </a:xfrm>
              </p:grpSpPr>
              <p:grpSp>
                <p:nvGrpSpPr>
                  <p:cNvPr id="25" name=""/>
                  <p:cNvGrpSpPr/>
                  <p:nvPr/>
                </p:nvGrpSpPr>
                <p:grpSpPr>
                  <a:xfrm>
                    <a:off x="3208320" y="2316240"/>
                    <a:ext cx="195480" cy="491040"/>
                    <a:chOff x="3208320" y="2316240"/>
                    <a:chExt cx="195480" cy="491040"/>
                  </a:xfrm>
                </p:grpSpPr>
                <p:sp>
                  <p:nvSpPr>
                    <p:cNvPr id="26" name=""/>
                    <p:cNvSpPr/>
                    <p:nvPr/>
                  </p:nvSpPr>
                  <p:spPr>
                    <a:xfrm>
                      <a:off x="3208320" y="2495520"/>
                      <a:ext cx="92520" cy="2782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57" h="773">
                          <a:moveTo>
                            <a:pt x="59" y="235"/>
                          </a:moveTo>
                          <a:lnTo>
                            <a:pt x="79" y="150"/>
                          </a:lnTo>
                          <a:lnTo>
                            <a:pt x="125" y="150"/>
                          </a:lnTo>
                          <a:lnTo>
                            <a:pt x="191" y="0"/>
                          </a:lnTo>
                          <a:lnTo>
                            <a:pt x="211" y="100"/>
                          </a:lnTo>
                          <a:lnTo>
                            <a:pt x="244" y="100"/>
                          </a:lnTo>
                          <a:lnTo>
                            <a:pt x="257" y="150"/>
                          </a:lnTo>
                          <a:lnTo>
                            <a:pt x="238" y="235"/>
                          </a:lnTo>
                          <a:lnTo>
                            <a:pt x="211" y="269"/>
                          </a:lnTo>
                          <a:lnTo>
                            <a:pt x="211" y="336"/>
                          </a:lnTo>
                          <a:lnTo>
                            <a:pt x="205" y="370"/>
                          </a:lnTo>
                          <a:lnTo>
                            <a:pt x="198" y="420"/>
                          </a:lnTo>
                          <a:lnTo>
                            <a:pt x="211" y="487"/>
                          </a:lnTo>
                          <a:lnTo>
                            <a:pt x="191" y="554"/>
                          </a:lnTo>
                          <a:lnTo>
                            <a:pt x="171" y="589"/>
                          </a:lnTo>
                          <a:lnTo>
                            <a:pt x="151" y="589"/>
                          </a:lnTo>
                          <a:lnTo>
                            <a:pt x="145" y="605"/>
                          </a:lnTo>
                          <a:lnTo>
                            <a:pt x="138" y="656"/>
                          </a:lnTo>
                          <a:lnTo>
                            <a:pt x="105" y="673"/>
                          </a:lnTo>
                          <a:lnTo>
                            <a:pt x="99" y="656"/>
                          </a:lnTo>
                          <a:lnTo>
                            <a:pt x="73" y="706"/>
                          </a:lnTo>
                          <a:lnTo>
                            <a:pt x="66" y="723"/>
                          </a:lnTo>
                          <a:lnTo>
                            <a:pt x="32" y="773"/>
                          </a:lnTo>
                          <a:lnTo>
                            <a:pt x="19" y="773"/>
                          </a:lnTo>
                          <a:lnTo>
                            <a:pt x="13" y="740"/>
                          </a:lnTo>
                          <a:lnTo>
                            <a:pt x="6" y="656"/>
                          </a:lnTo>
                          <a:lnTo>
                            <a:pt x="0" y="639"/>
                          </a:lnTo>
                          <a:lnTo>
                            <a:pt x="0" y="571"/>
                          </a:lnTo>
                          <a:lnTo>
                            <a:pt x="19" y="537"/>
                          </a:lnTo>
                          <a:lnTo>
                            <a:pt x="39" y="504"/>
                          </a:lnTo>
                          <a:lnTo>
                            <a:pt x="52" y="437"/>
                          </a:lnTo>
                          <a:lnTo>
                            <a:pt x="73" y="437"/>
                          </a:lnTo>
                          <a:lnTo>
                            <a:pt x="86" y="453"/>
                          </a:lnTo>
                          <a:lnTo>
                            <a:pt x="105" y="437"/>
                          </a:lnTo>
                          <a:lnTo>
                            <a:pt x="86" y="420"/>
                          </a:lnTo>
                          <a:lnTo>
                            <a:pt x="59" y="235"/>
                          </a:lnTo>
                          <a:close/>
                        </a:path>
                      </a:pathLst>
                    </a:custGeom>
                    <a:solidFill>
                      <a:srgbClr val="f7f7f7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>
                      <a:off x="3294000" y="2316240"/>
                      <a:ext cx="109800" cy="4910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305" h="1364">
                          <a:moveTo>
                            <a:pt x="97" y="197"/>
                          </a:moveTo>
                          <a:lnTo>
                            <a:pt x="116" y="147"/>
                          </a:lnTo>
                          <a:lnTo>
                            <a:pt x="175" y="164"/>
                          </a:lnTo>
                          <a:lnTo>
                            <a:pt x="188" y="131"/>
                          </a:lnTo>
                          <a:lnTo>
                            <a:pt x="201" y="82"/>
                          </a:lnTo>
                          <a:lnTo>
                            <a:pt x="214" y="82"/>
                          </a:lnTo>
                          <a:lnTo>
                            <a:pt x="227" y="65"/>
                          </a:lnTo>
                          <a:lnTo>
                            <a:pt x="247" y="32"/>
                          </a:lnTo>
                          <a:lnTo>
                            <a:pt x="272" y="0"/>
                          </a:lnTo>
                          <a:lnTo>
                            <a:pt x="305" y="16"/>
                          </a:lnTo>
                          <a:lnTo>
                            <a:pt x="298" y="82"/>
                          </a:lnTo>
                          <a:lnTo>
                            <a:pt x="285" y="131"/>
                          </a:lnTo>
                          <a:lnTo>
                            <a:pt x="272" y="147"/>
                          </a:lnTo>
                          <a:lnTo>
                            <a:pt x="259" y="164"/>
                          </a:lnTo>
                          <a:lnTo>
                            <a:pt x="221" y="197"/>
                          </a:lnTo>
                          <a:lnTo>
                            <a:pt x="221" y="262"/>
                          </a:lnTo>
                          <a:lnTo>
                            <a:pt x="227" y="295"/>
                          </a:lnTo>
                          <a:lnTo>
                            <a:pt x="266" y="262"/>
                          </a:lnTo>
                          <a:lnTo>
                            <a:pt x="298" y="229"/>
                          </a:lnTo>
                          <a:lnTo>
                            <a:pt x="305" y="262"/>
                          </a:lnTo>
                          <a:lnTo>
                            <a:pt x="305" y="362"/>
                          </a:lnTo>
                          <a:lnTo>
                            <a:pt x="279" y="378"/>
                          </a:lnTo>
                          <a:lnTo>
                            <a:pt x="253" y="378"/>
                          </a:lnTo>
                          <a:lnTo>
                            <a:pt x="234" y="427"/>
                          </a:lnTo>
                          <a:lnTo>
                            <a:pt x="227" y="460"/>
                          </a:lnTo>
                          <a:lnTo>
                            <a:pt x="227" y="509"/>
                          </a:lnTo>
                          <a:lnTo>
                            <a:pt x="247" y="575"/>
                          </a:lnTo>
                          <a:lnTo>
                            <a:pt x="266" y="624"/>
                          </a:lnTo>
                          <a:lnTo>
                            <a:pt x="279" y="674"/>
                          </a:lnTo>
                          <a:lnTo>
                            <a:pt x="285" y="739"/>
                          </a:lnTo>
                          <a:lnTo>
                            <a:pt x="292" y="805"/>
                          </a:lnTo>
                          <a:lnTo>
                            <a:pt x="305" y="887"/>
                          </a:lnTo>
                          <a:lnTo>
                            <a:pt x="305" y="1002"/>
                          </a:lnTo>
                          <a:lnTo>
                            <a:pt x="292" y="1069"/>
                          </a:lnTo>
                          <a:lnTo>
                            <a:pt x="266" y="1118"/>
                          </a:lnTo>
                          <a:lnTo>
                            <a:pt x="259" y="1151"/>
                          </a:lnTo>
                          <a:lnTo>
                            <a:pt x="272" y="1216"/>
                          </a:lnTo>
                          <a:lnTo>
                            <a:pt x="285" y="1282"/>
                          </a:lnTo>
                          <a:lnTo>
                            <a:pt x="247" y="1282"/>
                          </a:lnTo>
                          <a:lnTo>
                            <a:pt x="214" y="1282"/>
                          </a:lnTo>
                          <a:lnTo>
                            <a:pt x="201" y="1266"/>
                          </a:lnTo>
                          <a:lnTo>
                            <a:pt x="175" y="1266"/>
                          </a:lnTo>
                          <a:lnTo>
                            <a:pt x="142" y="1282"/>
                          </a:lnTo>
                          <a:lnTo>
                            <a:pt x="116" y="1315"/>
                          </a:lnTo>
                          <a:lnTo>
                            <a:pt x="97" y="1315"/>
                          </a:lnTo>
                          <a:lnTo>
                            <a:pt x="84" y="1331"/>
                          </a:lnTo>
                          <a:lnTo>
                            <a:pt x="51" y="1364"/>
                          </a:lnTo>
                          <a:lnTo>
                            <a:pt x="45" y="1348"/>
                          </a:lnTo>
                          <a:lnTo>
                            <a:pt x="32" y="1315"/>
                          </a:lnTo>
                          <a:lnTo>
                            <a:pt x="12" y="1298"/>
                          </a:lnTo>
                          <a:lnTo>
                            <a:pt x="0" y="1282"/>
                          </a:lnTo>
                          <a:lnTo>
                            <a:pt x="0" y="1216"/>
                          </a:lnTo>
                          <a:lnTo>
                            <a:pt x="12" y="1134"/>
                          </a:lnTo>
                          <a:lnTo>
                            <a:pt x="32" y="1134"/>
                          </a:lnTo>
                          <a:lnTo>
                            <a:pt x="51" y="1118"/>
                          </a:lnTo>
                          <a:lnTo>
                            <a:pt x="77" y="1118"/>
                          </a:lnTo>
                          <a:lnTo>
                            <a:pt x="77" y="1101"/>
                          </a:lnTo>
                          <a:lnTo>
                            <a:pt x="51" y="1069"/>
                          </a:lnTo>
                          <a:lnTo>
                            <a:pt x="51" y="1018"/>
                          </a:lnTo>
                          <a:lnTo>
                            <a:pt x="51" y="986"/>
                          </a:lnTo>
                          <a:lnTo>
                            <a:pt x="77" y="953"/>
                          </a:lnTo>
                          <a:lnTo>
                            <a:pt x="90" y="936"/>
                          </a:lnTo>
                          <a:lnTo>
                            <a:pt x="103" y="920"/>
                          </a:lnTo>
                          <a:lnTo>
                            <a:pt x="123" y="920"/>
                          </a:lnTo>
                          <a:lnTo>
                            <a:pt x="135" y="903"/>
                          </a:lnTo>
                          <a:lnTo>
                            <a:pt x="142" y="772"/>
                          </a:lnTo>
                          <a:lnTo>
                            <a:pt x="162" y="674"/>
                          </a:lnTo>
                          <a:lnTo>
                            <a:pt x="162" y="624"/>
                          </a:lnTo>
                          <a:lnTo>
                            <a:pt x="116" y="608"/>
                          </a:lnTo>
                          <a:lnTo>
                            <a:pt x="129" y="526"/>
                          </a:lnTo>
                          <a:lnTo>
                            <a:pt x="97" y="477"/>
                          </a:lnTo>
                          <a:lnTo>
                            <a:pt x="64" y="493"/>
                          </a:lnTo>
                          <a:lnTo>
                            <a:pt x="103" y="378"/>
                          </a:lnTo>
                          <a:lnTo>
                            <a:pt x="97" y="197"/>
                          </a:lnTo>
                          <a:close/>
                        </a:path>
                      </a:pathLst>
                    </a:custGeom>
                    <a:solidFill>
                      <a:srgbClr val="f7f7f7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8" name=""/>
                  <p:cNvSpPr/>
                  <p:nvPr/>
                </p:nvSpPr>
                <p:spPr>
                  <a:xfrm>
                    <a:off x="2960640" y="1496880"/>
                    <a:ext cx="625680" cy="822600"/>
                  </a:xfrm>
                  <a:custGeom>
                    <a:avLst/>
                    <a:gdLst/>
                    <a:ahLst/>
                    <a:rect l="0" t="0" r="r" b="b"/>
                    <a:pathLst>
                      <a:path w="1738" h="2285">
                        <a:moveTo>
                          <a:pt x="0" y="2285"/>
                        </a:moveTo>
                        <a:lnTo>
                          <a:pt x="109" y="2235"/>
                        </a:lnTo>
                        <a:lnTo>
                          <a:pt x="148" y="2137"/>
                        </a:lnTo>
                        <a:lnTo>
                          <a:pt x="173" y="2071"/>
                        </a:lnTo>
                        <a:lnTo>
                          <a:pt x="186" y="2022"/>
                        </a:lnTo>
                        <a:lnTo>
                          <a:pt x="212" y="2022"/>
                        </a:lnTo>
                        <a:lnTo>
                          <a:pt x="238" y="1973"/>
                        </a:lnTo>
                        <a:lnTo>
                          <a:pt x="270" y="1973"/>
                        </a:lnTo>
                        <a:lnTo>
                          <a:pt x="289" y="1973"/>
                        </a:lnTo>
                        <a:lnTo>
                          <a:pt x="315" y="1973"/>
                        </a:lnTo>
                        <a:lnTo>
                          <a:pt x="328" y="1973"/>
                        </a:lnTo>
                        <a:lnTo>
                          <a:pt x="353" y="1907"/>
                        </a:lnTo>
                        <a:lnTo>
                          <a:pt x="366" y="1857"/>
                        </a:lnTo>
                        <a:lnTo>
                          <a:pt x="398" y="1808"/>
                        </a:lnTo>
                        <a:lnTo>
                          <a:pt x="424" y="1792"/>
                        </a:lnTo>
                        <a:lnTo>
                          <a:pt x="444" y="1759"/>
                        </a:lnTo>
                        <a:lnTo>
                          <a:pt x="469" y="1742"/>
                        </a:lnTo>
                        <a:lnTo>
                          <a:pt x="489" y="1710"/>
                        </a:lnTo>
                        <a:lnTo>
                          <a:pt x="514" y="1677"/>
                        </a:lnTo>
                        <a:lnTo>
                          <a:pt x="540" y="1644"/>
                        </a:lnTo>
                        <a:lnTo>
                          <a:pt x="572" y="1595"/>
                        </a:lnTo>
                        <a:lnTo>
                          <a:pt x="604" y="1611"/>
                        </a:lnTo>
                        <a:lnTo>
                          <a:pt x="656" y="1644"/>
                        </a:lnTo>
                        <a:lnTo>
                          <a:pt x="707" y="1644"/>
                        </a:lnTo>
                        <a:lnTo>
                          <a:pt x="765" y="1595"/>
                        </a:lnTo>
                        <a:lnTo>
                          <a:pt x="791" y="1578"/>
                        </a:lnTo>
                        <a:lnTo>
                          <a:pt x="810" y="1480"/>
                        </a:lnTo>
                        <a:lnTo>
                          <a:pt x="836" y="1414"/>
                        </a:lnTo>
                        <a:lnTo>
                          <a:pt x="882" y="1332"/>
                        </a:lnTo>
                        <a:lnTo>
                          <a:pt x="895" y="1282"/>
                        </a:lnTo>
                        <a:lnTo>
                          <a:pt x="895" y="1217"/>
                        </a:lnTo>
                        <a:lnTo>
                          <a:pt x="934" y="1167"/>
                        </a:lnTo>
                        <a:lnTo>
                          <a:pt x="953" y="1117"/>
                        </a:lnTo>
                        <a:lnTo>
                          <a:pt x="966" y="1068"/>
                        </a:lnTo>
                        <a:lnTo>
                          <a:pt x="979" y="1068"/>
                        </a:lnTo>
                        <a:lnTo>
                          <a:pt x="1043" y="969"/>
                        </a:lnTo>
                        <a:lnTo>
                          <a:pt x="1043" y="1068"/>
                        </a:lnTo>
                        <a:lnTo>
                          <a:pt x="1030" y="1101"/>
                        </a:lnTo>
                        <a:lnTo>
                          <a:pt x="1043" y="1151"/>
                        </a:lnTo>
                        <a:lnTo>
                          <a:pt x="1088" y="1167"/>
                        </a:lnTo>
                        <a:lnTo>
                          <a:pt x="1114" y="1167"/>
                        </a:lnTo>
                        <a:lnTo>
                          <a:pt x="1139" y="1117"/>
                        </a:lnTo>
                        <a:lnTo>
                          <a:pt x="1159" y="1068"/>
                        </a:lnTo>
                        <a:lnTo>
                          <a:pt x="1159" y="1018"/>
                        </a:lnTo>
                        <a:lnTo>
                          <a:pt x="1178" y="969"/>
                        </a:lnTo>
                        <a:lnTo>
                          <a:pt x="1178" y="920"/>
                        </a:lnTo>
                        <a:lnTo>
                          <a:pt x="1197" y="854"/>
                        </a:lnTo>
                        <a:lnTo>
                          <a:pt x="1210" y="821"/>
                        </a:lnTo>
                        <a:lnTo>
                          <a:pt x="1242" y="821"/>
                        </a:lnTo>
                        <a:lnTo>
                          <a:pt x="1307" y="821"/>
                        </a:lnTo>
                        <a:lnTo>
                          <a:pt x="1358" y="755"/>
                        </a:lnTo>
                        <a:lnTo>
                          <a:pt x="1403" y="657"/>
                        </a:lnTo>
                        <a:lnTo>
                          <a:pt x="1455" y="624"/>
                        </a:lnTo>
                        <a:lnTo>
                          <a:pt x="1500" y="542"/>
                        </a:lnTo>
                        <a:lnTo>
                          <a:pt x="1532" y="410"/>
                        </a:lnTo>
                        <a:lnTo>
                          <a:pt x="1603" y="262"/>
                        </a:lnTo>
                        <a:lnTo>
                          <a:pt x="1648" y="197"/>
                        </a:lnTo>
                        <a:lnTo>
                          <a:pt x="1693" y="131"/>
                        </a:lnTo>
                        <a:lnTo>
                          <a:pt x="1738" y="49"/>
                        </a:lnTo>
                        <a:lnTo>
                          <a:pt x="1661" y="0"/>
                        </a:lnTo>
                        <a:lnTo>
                          <a:pt x="1583" y="0"/>
                        </a:lnTo>
                        <a:lnTo>
                          <a:pt x="1506" y="82"/>
                        </a:lnTo>
                        <a:lnTo>
                          <a:pt x="1468" y="131"/>
                        </a:lnTo>
                        <a:lnTo>
                          <a:pt x="1403" y="164"/>
                        </a:lnTo>
                        <a:lnTo>
                          <a:pt x="1333" y="180"/>
                        </a:lnTo>
                        <a:lnTo>
                          <a:pt x="1294" y="213"/>
                        </a:lnTo>
                        <a:lnTo>
                          <a:pt x="1210" y="295"/>
                        </a:lnTo>
                        <a:lnTo>
                          <a:pt x="1159" y="345"/>
                        </a:lnTo>
                        <a:lnTo>
                          <a:pt x="1107" y="394"/>
                        </a:lnTo>
                        <a:lnTo>
                          <a:pt x="1043" y="427"/>
                        </a:lnTo>
                        <a:lnTo>
                          <a:pt x="979" y="476"/>
                        </a:lnTo>
                        <a:lnTo>
                          <a:pt x="921" y="542"/>
                        </a:lnTo>
                        <a:lnTo>
                          <a:pt x="876" y="624"/>
                        </a:lnTo>
                        <a:lnTo>
                          <a:pt x="836" y="706"/>
                        </a:lnTo>
                        <a:lnTo>
                          <a:pt x="797" y="772"/>
                        </a:lnTo>
                        <a:lnTo>
                          <a:pt x="765" y="821"/>
                        </a:lnTo>
                        <a:lnTo>
                          <a:pt x="694" y="920"/>
                        </a:lnTo>
                        <a:lnTo>
                          <a:pt x="624" y="1018"/>
                        </a:lnTo>
                        <a:lnTo>
                          <a:pt x="540" y="1117"/>
                        </a:lnTo>
                        <a:lnTo>
                          <a:pt x="482" y="1266"/>
                        </a:lnTo>
                        <a:lnTo>
                          <a:pt x="418" y="1381"/>
                        </a:lnTo>
                        <a:lnTo>
                          <a:pt x="360" y="1447"/>
                        </a:lnTo>
                        <a:lnTo>
                          <a:pt x="302" y="1595"/>
                        </a:lnTo>
                        <a:lnTo>
                          <a:pt x="263" y="1693"/>
                        </a:lnTo>
                        <a:lnTo>
                          <a:pt x="212" y="1792"/>
                        </a:lnTo>
                        <a:lnTo>
                          <a:pt x="160" y="1857"/>
                        </a:lnTo>
                        <a:lnTo>
                          <a:pt x="109" y="1923"/>
                        </a:lnTo>
                        <a:lnTo>
                          <a:pt x="0" y="2285"/>
                        </a:lnTo>
                        <a:close/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" name=""/>
                <p:cNvSpPr/>
                <p:nvPr/>
              </p:nvSpPr>
              <p:spPr>
                <a:xfrm>
                  <a:off x="4067280" y="6148440"/>
                  <a:ext cx="187560" cy="798840"/>
                </a:xfrm>
                <a:custGeom>
                  <a:avLst/>
                  <a:gdLst/>
                  <a:ahLst/>
                  <a:rect l="0" t="0" r="r" b="b"/>
                  <a:pathLst>
                    <a:path w="521" h="2219">
                      <a:moveTo>
                        <a:pt x="97" y="690"/>
                      </a:moveTo>
                      <a:lnTo>
                        <a:pt x="84" y="1134"/>
                      </a:lnTo>
                      <a:lnTo>
                        <a:pt x="39" y="1414"/>
                      </a:lnTo>
                      <a:lnTo>
                        <a:pt x="0" y="1676"/>
                      </a:lnTo>
                      <a:lnTo>
                        <a:pt x="0" y="1874"/>
                      </a:lnTo>
                      <a:lnTo>
                        <a:pt x="13" y="2038"/>
                      </a:lnTo>
                      <a:lnTo>
                        <a:pt x="58" y="2186"/>
                      </a:lnTo>
                      <a:lnTo>
                        <a:pt x="97" y="2202"/>
                      </a:lnTo>
                      <a:lnTo>
                        <a:pt x="130" y="2202"/>
                      </a:lnTo>
                      <a:lnTo>
                        <a:pt x="169" y="2219"/>
                      </a:lnTo>
                      <a:lnTo>
                        <a:pt x="188" y="2104"/>
                      </a:lnTo>
                      <a:lnTo>
                        <a:pt x="208" y="1808"/>
                      </a:lnTo>
                      <a:lnTo>
                        <a:pt x="267" y="1611"/>
                      </a:lnTo>
                      <a:lnTo>
                        <a:pt x="280" y="1315"/>
                      </a:lnTo>
                      <a:lnTo>
                        <a:pt x="306" y="1200"/>
                      </a:lnTo>
                      <a:lnTo>
                        <a:pt x="332" y="1118"/>
                      </a:lnTo>
                      <a:lnTo>
                        <a:pt x="352" y="903"/>
                      </a:lnTo>
                      <a:lnTo>
                        <a:pt x="391" y="772"/>
                      </a:lnTo>
                      <a:lnTo>
                        <a:pt x="417" y="673"/>
                      </a:lnTo>
                      <a:lnTo>
                        <a:pt x="443" y="591"/>
                      </a:lnTo>
                      <a:lnTo>
                        <a:pt x="443" y="542"/>
                      </a:lnTo>
                      <a:lnTo>
                        <a:pt x="501" y="427"/>
                      </a:lnTo>
                      <a:lnTo>
                        <a:pt x="508" y="246"/>
                      </a:lnTo>
                      <a:lnTo>
                        <a:pt x="521" y="131"/>
                      </a:lnTo>
                      <a:lnTo>
                        <a:pt x="469" y="82"/>
                      </a:lnTo>
                      <a:lnTo>
                        <a:pt x="436" y="0"/>
                      </a:lnTo>
                      <a:lnTo>
                        <a:pt x="391" y="82"/>
                      </a:lnTo>
                      <a:lnTo>
                        <a:pt x="352" y="279"/>
                      </a:lnTo>
                      <a:lnTo>
                        <a:pt x="306" y="410"/>
                      </a:lnTo>
                      <a:lnTo>
                        <a:pt x="267" y="525"/>
                      </a:lnTo>
                      <a:lnTo>
                        <a:pt x="247" y="525"/>
                      </a:lnTo>
                      <a:lnTo>
                        <a:pt x="208" y="591"/>
                      </a:lnTo>
                      <a:lnTo>
                        <a:pt x="188" y="657"/>
                      </a:lnTo>
                      <a:lnTo>
                        <a:pt x="97" y="690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174840" y="1576440"/>
                  <a:ext cx="2530800" cy="3785040"/>
                </a:xfrm>
                <a:custGeom>
                  <a:avLst/>
                  <a:gdLst/>
                  <a:ahLst/>
                  <a:rect l="0" t="0" r="r" b="b"/>
                  <a:pathLst>
                    <a:path w="7030" h="10514">
                      <a:moveTo>
                        <a:pt x="0" y="4724"/>
                      </a:moveTo>
                      <a:lnTo>
                        <a:pt x="64" y="4576"/>
                      </a:lnTo>
                      <a:lnTo>
                        <a:pt x="102" y="4461"/>
                      </a:lnTo>
                      <a:lnTo>
                        <a:pt x="186" y="4461"/>
                      </a:lnTo>
                      <a:lnTo>
                        <a:pt x="276" y="4494"/>
                      </a:lnTo>
                      <a:lnTo>
                        <a:pt x="340" y="4429"/>
                      </a:lnTo>
                      <a:lnTo>
                        <a:pt x="411" y="4412"/>
                      </a:lnTo>
                      <a:lnTo>
                        <a:pt x="418" y="4215"/>
                      </a:lnTo>
                      <a:lnTo>
                        <a:pt x="456" y="4084"/>
                      </a:lnTo>
                      <a:lnTo>
                        <a:pt x="360" y="3937"/>
                      </a:lnTo>
                      <a:lnTo>
                        <a:pt x="347" y="3822"/>
                      </a:lnTo>
                      <a:lnTo>
                        <a:pt x="353" y="3658"/>
                      </a:lnTo>
                      <a:lnTo>
                        <a:pt x="424" y="3658"/>
                      </a:lnTo>
                      <a:lnTo>
                        <a:pt x="469" y="3641"/>
                      </a:lnTo>
                      <a:lnTo>
                        <a:pt x="475" y="3658"/>
                      </a:lnTo>
                      <a:lnTo>
                        <a:pt x="527" y="3559"/>
                      </a:lnTo>
                      <a:lnTo>
                        <a:pt x="578" y="3510"/>
                      </a:lnTo>
                      <a:lnTo>
                        <a:pt x="598" y="3510"/>
                      </a:lnTo>
                      <a:lnTo>
                        <a:pt x="630" y="3412"/>
                      </a:lnTo>
                      <a:lnTo>
                        <a:pt x="668" y="3379"/>
                      </a:lnTo>
                      <a:lnTo>
                        <a:pt x="707" y="3199"/>
                      </a:lnTo>
                      <a:lnTo>
                        <a:pt x="733" y="3248"/>
                      </a:lnTo>
                      <a:lnTo>
                        <a:pt x="784" y="3133"/>
                      </a:lnTo>
                      <a:lnTo>
                        <a:pt x="791" y="3133"/>
                      </a:lnTo>
                      <a:lnTo>
                        <a:pt x="855" y="3002"/>
                      </a:lnTo>
                      <a:lnTo>
                        <a:pt x="893" y="2985"/>
                      </a:lnTo>
                      <a:lnTo>
                        <a:pt x="945" y="2985"/>
                      </a:lnTo>
                      <a:lnTo>
                        <a:pt x="977" y="2985"/>
                      </a:lnTo>
                      <a:lnTo>
                        <a:pt x="951" y="2821"/>
                      </a:lnTo>
                      <a:lnTo>
                        <a:pt x="938" y="2690"/>
                      </a:lnTo>
                      <a:lnTo>
                        <a:pt x="926" y="2410"/>
                      </a:lnTo>
                      <a:lnTo>
                        <a:pt x="1003" y="2394"/>
                      </a:lnTo>
                      <a:lnTo>
                        <a:pt x="1041" y="2345"/>
                      </a:lnTo>
                      <a:lnTo>
                        <a:pt x="1022" y="2460"/>
                      </a:lnTo>
                      <a:lnTo>
                        <a:pt x="1054" y="2542"/>
                      </a:lnTo>
                      <a:lnTo>
                        <a:pt x="1086" y="2641"/>
                      </a:lnTo>
                      <a:lnTo>
                        <a:pt x="1106" y="2707"/>
                      </a:lnTo>
                      <a:lnTo>
                        <a:pt x="1196" y="2690"/>
                      </a:lnTo>
                      <a:lnTo>
                        <a:pt x="1273" y="2443"/>
                      </a:lnTo>
                      <a:lnTo>
                        <a:pt x="1331" y="2328"/>
                      </a:lnTo>
                      <a:lnTo>
                        <a:pt x="1363" y="2246"/>
                      </a:lnTo>
                      <a:lnTo>
                        <a:pt x="1401" y="2148"/>
                      </a:lnTo>
                      <a:lnTo>
                        <a:pt x="1440" y="2017"/>
                      </a:lnTo>
                      <a:lnTo>
                        <a:pt x="1472" y="2066"/>
                      </a:lnTo>
                      <a:lnTo>
                        <a:pt x="1472" y="1984"/>
                      </a:lnTo>
                      <a:lnTo>
                        <a:pt x="1491" y="1935"/>
                      </a:lnTo>
                      <a:lnTo>
                        <a:pt x="1549" y="1968"/>
                      </a:lnTo>
                      <a:lnTo>
                        <a:pt x="1646" y="2181"/>
                      </a:lnTo>
                      <a:lnTo>
                        <a:pt x="1627" y="1590"/>
                      </a:lnTo>
                      <a:lnTo>
                        <a:pt x="1543" y="1853"/>
                      </a:lnTo>
                      <a:lnTo>
                        <a:pt x="1479" y="1836"/>
                      </a:lnTo>
                      <a:lnTo>
                        <a:pt x="1459" y="1672"/>
                      </a:lnTo>
                      <a:lnTo>
                        <a:pt x="1459" y="1590"/>
                      </a:lnTo>
                      <a:lnTo>
                        <a:pt x="1440" y="1541"/>
                      </a:lnTo>
                      <a:lnTo>
                        <a:pt x="1491" y="1410"/>
                      </a:lnTo>
                      <a:lnTo>
                        <a:pt x="1524" y="1312"/>
                      </a:lnTo>
                      <a:lnTo>
                        <a:pt x="1556" y="1279"/>
                      </a:lnTo>
                      <a:lnTo>
                        <a:pt x="1582" y="1262"/>
                      </a:lnTo>
                      <a:lnTo>
                        <a:pt x="1601" y="1180"/>
                      </a:lnTo>
                      <a:lnTo>
                        <a:pt x="1627" y="1164"/>
                      </a:lnTo>
                      <a:lnTo>
                        <a:pt x="1659" y="1164"/>
                      </a:lnTo>
                      <a:lnTo>
                        <a:pt x="1601" y="1016"/>
                      </a:lnTo>
                      <a:lnTo>
                        <a:pt x="1543" y="1049"/>
                      </a:lnTo>
                      <a:lnTo>
                        <a:pt x="1504" y="1049"/>
                      </a:lnTo>
                      <a:lnTo>
                        <a:pt x="1472" y="1000"/>
                      </a:lnTo>
                      <a:lnTo>
                        <a:pt x="1472" y="1098"/>
                      </a:lnTo>
                      <a:lnTo>
                        <a:pt x="1440" y="1197"/>
                      </a:lnTo>
                      <a:lnTo>
                        <a:pt x="1395" y="1361"/>
                      </a:lnTo>
                      <a:lnTo>
                        <a:pt x="1350" y="1426"/>
                      </a:lnTo>
                      <a:lnTo>
                        <a:pt x="1318" y="1426"/>
                      </a:lnTo>
                      <a:lnTo>
                        <a:pt x="1305" y="1541"/>
                      </a:lnTo>
                      <a:lnTo>
                        <a:pt x="1305" y="1590"/>
                      </a:lnTo>
                      <a:lnTo>
                        <a:pt x="1279" y="1640"/>
                      </a:lnTo>
                      <a:lnTo>
                        <a:pt x="1311" y="1836"/>
                      </a:lnTo>
                      <a:lnTo>
                        <a:pt x="1331" y="1935"/>
                      </a:lnTo>
                      <a:lnTo>
                        <a:pt x="1292" y="2082"/>
                      </a:lnTo>
                      <a:lnTo>
                        <a:pt x="1247" y="2181"/>
                      </a:lnTo>
                      <a:lnTo>
                        <a:pt x="1234" y="2328"/>
                      </a:lnTo>
                      <a:lnTo>
                        <a:pt x="1209" y="2443"/>
                      </a:lnTo>
                      <a:lnTo>
                        <a:pt x="1183" y="2443"/>
                      </a:lnTo>
                      <a:lnTo>
                        <a:pt x="1144" y="2460"/>
                      </a:lnTo>
                      <a:lnTo>
                        <a:pt x="1106" y="2509"/>
                      </a:lnTo>
                      <a:lnTo>
                        <a:pt x="1093" y="2492"/>
                      </a:lnTo>
                      <a:lnTo>
                        <a:pt x="1093" y="2410"/>
                      </a:lnTo>
                      <a:lnTo>
                        <a:pt x="1086" y="2279"/>
                      </a:lnTo>
                      <a:lnTo>
                        <a:pt x="1054" y="2279"/>
                      </a:lnTo>
                      <a:lnTo>
                        <a:pt x="1035" y="2197"/>
                      </a:lnTo>
                      <a:lnTo>
                        <a:pt x="1041" y="2082"/>
                      </a:lnTo>
                      <a:lnTo>
                        <a:pt x="1048" y="2017"/>
                      </a:lnTo>
                      <a:lnTo>
                        <a:pt x="1041" y="1984"/>
                      </a:lnTo>
                      <a:lnTo>
                        <a:pt x="1016" y="2017"/>
                      </a:lnTo>
                      <a:lnTo>
                        <a:pt x="1003" y="2017"/>
                      </a:lnTo>
                      <a:lnTo>
                        <a:pt x="983" y="2000"/>
                      </a:lnTo>
                      <a:lnTo>
                        <a:pt x="971" y="1984"/>
                      </a:lnTo>
                      <a:lnTo>
                        <a:pt x="938" y="2050"/>
                      </a:lnTo>
                      <a:lnTo>
                        <a:pt x="906" y="2132"/>
                      </a:lnTo>
                      <a:lnTo>
                        <a:pt x="874" y="2214"/>
                      </a:lnTo>
                      <a:lnTo>
                        <a:pt x="803" y="2197"/>
                      </a:lnTo>
                      <a:lnTo>
                        <a:pt x="758" y="2181"/>
                      </a:lnTo>
                      <a:lnTo>
                        <a:pt x="726" y="2099"/>
                      </a:lnTo>
                      <a:lnTo>
                        <a:pt x="726" y="2050"/>
                      </a:lnTo>
                      <a:lnTo>
                        <a:pt x="745" y="1984"/>
                      </a:lnTo>
                      <a:lnTo>
                        <a:pt x="771" y="1935"/>
                      </a:lnTo>
                      <a:lnTo>
                        <a:pt x="791" y="1869"/>
                      </a:lnTo>
                      <a:lnTo>
                        <a:pt x="745" y="1902"/>
                      </a:lnTo>
                      <a:lnTo>
                        <a:pt x="726" y="1820"/>
                      </a:lnTo>
                      <a:lnTo>
                        <a:pt x="726" y="1771"/>
                      </a:lnTo>
                      <a:lnTo>
                        <a:pt x="791" y="1754"/>
                      </a:lnTo>
                      <a:lnTo>
                        <a:pt x="848" y="1738"/>
                      </a:lnTo>
                      <a:lnTo>
                        <a:pt x="810" y="1689"/>
                      </a:lnTo>
                      <a:lnTo>
                        <a:pt x="752" y="1705"/>
                      </a:lnTo>
                      <a:lnTo>
                        <a:pt x="752" y="1607"/>
                      </a:lnTo>
                      <a:lnTo>
                        <a:pt x="778" y="1541"/>
                      </a:lnTo>
                      <a:lnTo>
                        <a:pt x="836" y="1476"/>
                      </a:lnTo>
                      <a:lnTo>
                        <a:pt x="855" y="1410"/>
                      </a:lnTo>
                      <a:lnTo>
                        <a:pt x="874" y="1377"/>
                      </a:lnTo>
                      <a:lnTo>
                        <a:pt x="919" y="1361"/>
                      </a:lnTo>
                      <a:lnTo>
                        <a:pt x="958" y="1377"/>
                      </a:lnTo>
                      <a:lnTo>
                        <a:pt x="977" y="1410"/>
                      </a:lnTo>
                      <a:lnTo>
                        <a:pt x="1009" y="1361"/>
                      </a:lnTo>
                      <a:lnTo>
                        <a:pt x="977" y="1344"/>
                      </a:lnTo>
                      <a:lnTo>
                        <a:pt x="977" y="1213"/>
                      </a:lnTo>
                      <a:lnTo>
                        <a:pt x="1061" y="1066"/>
                      </a:lnTo>
                      <a:lnTo>
                        <a:pt x="1106" y="967"/>
                      </a:lnTo>
                      <a:lnTo>
                        <a:pt x="1131" y="951"/>
                      </a:lnTo>
                      <a:lnTo>
                        <a:pt x="1125" y="902"/>
                      </a:lnTo>
                      <a:lnTo>
                        <a:pt x="1164" y="803"/>
                      </a:lnTo>
                      <a:lnTo>
                        <a:pt x="1209" y="656"/>
                      </a:lnTo>
                      <a:lnTo>
                        <a:pt x="1260" y="590"/>
                      </a:lnTo>
                      <a:lnTo>
                        <a:pt x="1221" y="524"/>
                      </a:lnTo>
                      <a:lnTo>
                        <a:pt x="1324" y="377"/>
                      </a:lnTo>
                      <a:lnTo>
                        <a:pt x="1369" y="393"/>
                      </a:lnTo>
                      <a:lnTo>
                        <a:pt x="1363" y="311"/>
                      </a:lnTo>
                      <a:lnTo>
                        <a:pt x="1453" y="295"/>
                      </a:lnTo>
                      <a:lnTo>
                        <a:pt x="1620" y="32"/>
                      </a:lnTo>
                      <a:lnTo>
                        <a:pt x="1646" y="0"/>
                      </a:lnTo>
                      <a:lnTo>
                        <a:pt x="1614" y="196"/>
                      </a:lnTo>
                      <a:lnTo>
                        <a:pt x="1652" y="98"/>
                      </a:lnTo>
                      <a:lnTo>
                        <a:pt x="1697" y="65"/>
                      </a:lnTo>
                      <a:lnTo>
                        <a:pt x="1691" y="147"/>
                      </a:lnTo>
                      <a:lnTo>
                        <a:pt x="1819" y="49"/>
                      </a:lnTo>
                      <a:lnTo>
                        <a:pt x="1877" y="131"/>
                      </a:lnTo>
                      <a:lnTo>
                        <a:pt x="1794" y="213"/>
                      </a:lnTo>
                      <a:lnTo>
                        <a:pt x="1826" y="311"/>
                      </a:lnTo>
                      <a:lnTo>
                        <a:pt x="1948" y="295"/>
                      </a:lnTo>
                      <a:lnTo>
                        <a:pt x="2135" y="442"/>
                      </a:lnTo>
                      <a:lnTo>
                        <a:pt x="2122" y="606"/>
                      </a:lnTo>
                      <a:lnTo>
                        <a:pt x="2045" y="754"/>
                      </a:lnTo>
                      <a:lnTo>
                        <a:pt x="1929" y="836"/>
                      </a:lnTo>
                      <a:lnTo>
                        <a:pt x="1910" y="1000"/>
                      </a:lnTo>
                      <a:lnTo>
                        <a:pt x="1916" y="1164"/>
                      </a:lnTo>
                      <a:lnTo>
                        <a:pt x="1948" y="1197"/>
                      </a:lnTo>
                      <a:lnTo>
                        <a:pt x="1955" y="1279"/>
                      </a:lnTo>
                      <a:lnTo>
                        <a:pt x="1967" y="1312"/>
                      </a:lnTo>
                      <a:lnTo>
                        <a:pt x="1993" y="1344"/>
                      </a:lnTo>
                      <a:lnTo>
                        <a:pt x="2000" y="1443"/>
                      </a:lnTo>
                      <a:lnTo>
                        <a:pt x="2038" y="1558"/>
                      </a:lnTo>
                      <a:lnTo>
                        <a:pt x="2038" y="1607"/>
                      </a:lnTo>
                      <a:lnTo>
                        <a:pt x="2077" y="1607"/>
                      </a:lnTo>
                      <a:lnTo>
                        <a:pt x="2090" y="1640"/>
                      </a:lnTo>
                      <a:lnTo>
                        <a:pt x="2122" y="1672"/>
                      </a:lnTo>
                      <a:lnTo>
                        <a:pt x="2141" y="1623"/>
                      </a:lnTo>
                      <a:lnTo>
                        <a:pt x="2160" y="1541"/>
                      </a:lnTo>
                      <a:lnTo>
                        <a:pt x="2173" y="1492"/>
                      </a:lnTo>
                      <a:lnTo>
                        <a:pt x="2205" y="1525"/>
                      </a:lnTo>
                      <a:lnTo>
                        <a:pt x="2244" y="1410"/>
                      </a:lnTo>
                      <a:lnTo>
                        <a:pt x="2244" y="1328"/>
                      </a:lnTo>
                      <a:lnTo>
                        <a:pt x="2257" y="1262"/>
                      </a:lnTo>
                      <a:lnTo>
                        <a:pt x="2263" y="1213"/>
                      </a:lnTo>
                      <a:lnTo>
                        <a:pt x="2340" y="1164"/>
                      </a:lnTo>
                      <a:lnTo>
                        <a:pt x="2405" y="1115"/>
                      </a:lnTo>
                      <a:lnTo>
                        <a:pt x="2488" y="1049"/>
                      </a:lnTo>
                      <a:lnTo>
                        <a:pt x="2585" y="1098"/>
                      </a:lnTo>
                      <a:lnTo>
                        <a:pt x="2681" y="1098"/>
                      </a:lnTo>
                      <a:lnTo>
                        <a:pt x="2842" y="1098"/>
                      </a:lnTo>
                      <a:lnTo>
                        <a:pt x="2868" y="705"/>
                      </a:lnTo>
                      <a:lnTo>
                        <a:pt x="2958" y="721"/>
                      </a:lnTo>
                      <a:lnTo>
                        <a:pt x="3022" y="1016"/>
                      </a:lnTo>
                      <a:lnTo>
                        <a:pt x="3035" y="770"/>
                      </a:lnTo>
                      <a:lnTo>
                        <a:pt x="3331" y="49"/>
                      </a:lnTo>
                      <a:lnTo>
                        <a:pt x="3447" y="49"/>
                      </a:lnTo>
                      <a:lnTo>
                        <a:pt x="3550" y="196"/>
                      </a:lnTo>
                      <a:lnTo>
                        <a:pt x="3685" y="180"/>
                      </a:lnTo>
                      <a:lnTo>
                        <a:pt x="3866" y="442"/>
                      </a:lnTo>
                      <a:lnTo>
                        <a:pt x="4071" y="590"/>
                      </a:lnTo>
                      <a:lnTo>
                        <a:pt x="4219" y="557"/>
                      </a:lnTo>
                      <a:lnTo>
                        <a:pt x="4412" y="721"/>
                      </a:lnTo>
                      <a:lnTo>
                        <a:pt x="4573" y="721"/>
                      </a:lnTo>
                      <a:lnTo>
                        <a:pt x="4650" y="606"/>
                      </a:lnTo>
                      <a:lnTo>
                        <a:pt x="4830" y="606"/>
                      </a:lnTo>
                      <a:lnTo>
                        <a:pt x="4927" y="738"/>
                      </a:lnTo>
                      <a:lnTo>
                        <a:pt x="5171" y="738"/>
                      </a:lnTo>
                      <a:lnTo>
                        <a:pt x="5377" y="951"/>
                      </a:lnTo>
                      <a:lnTo>
                        <a:pt x="5743" y="918"/>
                      </a:lnTo>
                      <a:lnTo>
                        <a:pt x="6341" y="1016"/>
                      </a:lnTo>
                      <a:lnTo>
                        <a:pt x="6631" y="1328"/>
                      </a:lnTo>
                      <a:lnTo>
                        <a:pt x="6875" y="1525"/>
                      </a:lnTo>
                      <a:lnTo>
                        <a:pt x="7030" y="1689"/>
                      </a:lnTo>
                      <a:lnTo>
                        <a:pt x="6985" y="1738"/>
                      </a:lnTo>
                      <a:lnTo>
                        <a:pt x="6875" y="1607"/>
                      </a:lnTo>
                      <a:lnTo>
                        <a:pt x="6624" y="1558"/>
                      </a:lnTo>
                      <a:lnTo>
                        <a:pt x="6695" y="1689"/>
                      </a:lnTo>
                      <a:lnTo>
                        <a:pt x="6805" y="1754"/>
                      </a:lnTo>
                      <a:lnTo>
                        <a:pt x="6772" y="1968"/>
                      </a:lnTo>
                      <a:lnTo>
                        <a:pt x="6657" y="2099"/>
                      </a:lnTo>
                      <a:lnTo>
                        <a:pt x="6618" y="2312"/>
                      </a:lnTo>
                      <a:lnTo>
                        <a:pt x="6772" y="2509"/>
                      </a:lnTo>
                      <a:lnTo>
                        <a:pt x="6882" y="2772"/>
                      </a:lnTo>
                      <a:lnTo>
                        <a:pt x="6940" y="3149"/>
                      </a:lnTo>
                      <a:lnTo>
                        <a:pt x="6869" y="3182"/>
                      </a:lnTo>
                      <a:lnTo>
                        <a:pt x="6714" y="3067"/>
                      </a:lnTo>
                      <a:lnTo>
                        <a:pt x="6554" y="2789"/>
                      </a:lnTo>
                      <a:lnTo>
                        <a:pt x="6489" y="2641"/>
                      </a:lnTo>
                      <a:lnTo>
                        <a:pt x="6451" y="2443"/>
                      </a:lnTo>
                      <a:lnTo>
                        <a:pt x="6412" y="2148"/>
                      </a:lnTo>
                      <a:lnTo>
                        <a:pt x="6348" y="2050"/>
                      </a:lnTo>
                      <a:lnTo>
                        <a:pt x="6290" y="2033"/>
                      </a:lnTo>
                      <a:lnTo>
                        <a:pt x="6239" y="2066"/>
                      </a:lnTo>
                      <a:lnTo>
                        <a:pt x="6296" y="2296"/>
                      </a:lnTo>
                      <a:lnTo>
                        <a:pt x="6142" y="2328"/>
                      </a:lnTo>
                      <a:lnTo>
                        <a:pt x="6071" y="2214"/>
                      </a:lnTo>
                      <a:lnTo>
                        <a:pt x="5936" y="2279"/>
                      </a:lnTo>
                      <a:lnTo>
                        <a:pt x="5833" y="2460"/>
                      </a:lnTo>
                      <a:lnTo>
                        <a:pt x="5833" y="2558"/>
                      </a:lnTo>
                      <a:lnTo>
                        <a:pt x="5872" y="2723"/>
                      </a:lnTo>
                      <a:lnTo>
                        <a:pt x="6033" y="2772"/>
                      </a:lnTo>
                      <a:lnTo>
                        <a:pt x="6161" y="2969"/>
                      </a:lnTo>
                      <a:lnTo>
                        <a:pt x="6380" y="3510"/>
                      </a:lnTo>
                      <a:lnTo>
                        <a:pt x="6470" y="3871"/>
                      </a:lnTo>
                      <a:lnTo>
                        <a:pt x="6483" y="4248"/>
                      </a:lnTo>
                      <a:lnTo>
                        <a:pt x="6464" y="4560"/>
                      </a:lnTo>
                      <a:lnTo>
                        <a:pt x="6412" y="4560"/>
                      </a:lnTo>
                      <a:lnTo>
                        <a:pt x="6354" y="4445"/>
                      </a:lnTo>
                      <a:lnTo>
                        <a:pt x="6271" y="4593"/>
                      </a:lnTo>
                      <a:lnTo>
                        <a:pt x="6187" y="4724"/>
                      </a:lnTo>
                      <a:lnTo>
                        <a:pt x="6174" y="4937"/>
                      </a:lnTo>
                      <a:lnTo>
                        <a:pt x="6264" y="5199"/>
                      </a:lnTo>
                      <a:lnTo>
                        <a:pt x="6206" y="5413"/>
                      </a:lnTo>
                      <a:lnTo>
                        <a:pt x="6187" y="5774"/>
                      </a:lnTo>
                      <a:lnTo>
                        <a:pt x="6296" y="6003"/>
                      </a:lnTo>
                      <a:lnTo>
                        <a:pt x="6419" y="6069"/>
                      </a:lnTo>
                      <a:lnTo>
                        <a:pt x="6547" y="6315"/>
                      </a:lnTo>
                      <a:lnTo>
                        <a:pt x="6657" y="6643"/>
                      </a:lnTo>
                      <a:lnTo>
                        <a:pt x="6663" y="7135"/>
                      </a:lnTo>
                      <a:lnTo>
                        <a:pt x="6624" y="7364"/>
                      </a:lnTo>
                      <a:lnTo>
                        <a:pt x="6509" y="7561"/>
                      </a:lnTo>
                      <a:lnTo>
                        <a:pt x="6367" y="7660"/>
                      </a:lnTo>
                      <a:lnTo>
                        <a:pt x="6277" y="7807"/>
                      </a:lnTo>
                      <a:lnTo>
                        <a:pt x="6226" y="7725"/>
                      </a:lnTo>
                      <a:lnTo>
                        <a:pt x="6181" y="7807"/>
                      </a:lnTo>
                      <a:lnTo>
                        <a:pt x="6168" y="8169"/>
                      </a:lnTo>
                      <a:lnTo>
                        <a:pt x="6200" y="8382"/>
                      </a:lnTo>
                      <a:lnTo>
                        <a:pt x="6341" y="8628"/>
                      </a:lnTo>
                      <a:lnTo>
                        <a:pt x="6399" y="8874"/>
                      </a:lnTo>
                      <a:lnTo>
                        <a:pt x="6444" y="9005"/>
                      </a:lnTo>
                      <a:lnTo>
                        <a:pt x="6432" y="9268"/>
                      </a:lnTo>
                      <a:lnTo>
                        <a:pt x="6341" y="9481"/>
                      </a:lnTo>
                      <a:lnTo>
                        <a:pt x="6245" y="9481"/>
                      </a:lnTo>
                      <a:lnTo>
                        <a:pt x="6091" y="9169"/>
                      </a:lnTo>
                      <a:lnTo>
                        <a:pt x="5981" y="9055"/>
                      </a:lnTo>
                      <a:lnTo>
                        <a:pt x="5936" y="8989"/>
                      </a:lnTo>
                      <a:lnTo>
                        <a:pt x="5891" y="9153"/>
                      </a:lnTo>
                      <a:lnTo>
                        <a:pt x="5904" y="9383"/>
                      </a:lnTo>
                      <a:lnTo>
                        <a:pt x="5943" y="9563"/>
                      </a:lnTo>
                      <a:lnTo>
                        <a:pt x="5968" y="9842"/>
                      </a:lnTo>
                      <a:lnTo>
                        <a:pt x="6065" y="9940"/>
                      </a:lnTo>
                      <a:lnTo>
                        <a:pt x="6033" y="10088"/>
                      </a:lnTo>
                      <a:lnTo>
                        <a:pt x="6039" y="10301"/>
                      </a:lnTo>
                      <a:lnTo>
                        <a:pt x="6071" y="10514"/>
                      </a:lnTo>
                      <a:lnTo>
                        <a:pt x="6007" y="10498"/>
                      </a:lnTo>
                      <a:lnTo>
                        <a:pt x="5936" y="10252"/>
                      </a:lnTo>
                      <a:lnTo>
                        <a:pt x="5943" y="9989"/>
                      </a:lnTo>
                      <a:lnTo>
                        <a:pt x="5917" y="9907"/>
                      </a:lnTo>
                      <a:lnTo>
                        <a:pt x="5891" y="9612"/>
                      </a:lnTo>
                      <a:lnTo>
                        <a:pt x="5859" y="9530"/>
                      </a:lnTo>
                      <a:lnTo>
                        <a:pt x="5846" y="9120"/>
                      </a:lnTo>
                      <a:lnTo>
                        <a:pt x="5801" y="8874"/>
                      </a:lnTo>
                      <a:lnTo>
                        <a:pt x="5724" y="8645"/>
                      </a:lnTo>
                      <a:lnTo>
                        <a:pt x="5583" y="8513"/>
                      </a:lnTo>
                      <a:lnTo>
                        <a:pt x="5486" y="8300"/>
                      </a:lnTo>
                      <a:lnTo>
                        <a:pt x="5448" y="8136"/>
                      </a:lnTo>
                      <a:lnTo>
                        <a:pt x="5377" y="7956"/>
                      </a:lnTo>
                      <a:lnTo>
                        <a:pt x="5267" y="7545"/>
                      </a:lnTo>
                      <a:lnTo>
                        <a:pt x="5171" y="7578"/>
                      </a:lnTo>
                      <a:lnTo>
                        <a:pt x="5042" y="7774"/>
                      </a:lnTo>
                      <a:lnTo>
                        <a:pt x="4985" y="7939"/>
                      </a:lnTo>
                      <a:lnTo>
                        <a:pt x="4869" y="8251"/>
                      </a:lnTo>
                      <a:lnTo>
                        <a:pt x="4785" y="8579"/>
                      </a:lnTo>
                      <a:lnTo>
                        <a:pt x="4753" y="8694"/>
                      </a:lnTo>
                      <a:lnTo>
                        <a:pt x="4785" y="9071"/>
                      </a:lnTo>
                      <a:lnTo>
                        <a:pt x="4779" y="9448"/>
                      </a:lnTo>
                      <a:lnTo>
                        <a:pt x="4676" y="9711"/>
                      </a:lnTo>
                      <a:lnTo>
                        <a:pt x="4618" y="9727"/>
                      </a:lnTo>
                      <a:lnTo>
                        <a:pt x="4496" y="9186"/>
                      </a:lnTo>
                      <a:lnTo>
                        <a:pt x="4399" y="8809"/>
                      </a:lnTo>
                      <a:lnTo>
                        <a:pt x="4206" y="8087"/>
                      </a:lnTo>
                      <a:lnTo>
                        <a:pt x="4200" y="7807"/>
                      </a:lnTo>
                      <a:lnTo>
                        <a:pt x="4155" y="7676"/>
                      </a:lnTo>
                      <a:lnTo>
                        <a:pt x="4123" y="7856"/>
                      </a:lnTo>
                      <a:lnTo>
                        <a:pt x="3956" y="7446"/>
                      </a:lnTo>
                      <a:lnTo>
                        <a:pt x="3730" y="7135"/>
                      </a:lnTo>
                      <a:lnTo>
                        <a:pt x="3589" y="7200"/>
                      </a:lnTo>
                      <a:lnTo>
                        <a:pt x="3382" y="7168"/>
                      </a:lnTo>
                      <a:lnTo>
                        <a:pt x="3286" y="6938"/>
                      </a:lnTo>
                      <a:lnTo>
                        <a:pt x="3176" y="6971"/>
                      </a:lnTo>
                      <a:lnTo>
                        <a:pt x="3022" y="6872"/>
                      </a:lnTo>
                      <a:lnTo>
                        <a:pt x="2701" y="6102"/>
                      </a:lnTo>
                      <a:lnTo>
                        <a:pt x="2720" y="6413"/>
                      </a:lnTo>
                      <a:lnTo>
                        <a:pt x="2816" y="6856"/>
                      </a:lnTo>
                      <a:lnTo>
                        <a:pt x="2926" y="7168"/>
                      </a:lnTo>
                      <a:lnTo>
                        <a:pt x="3041" y="7332"/>
                      </a:lnTo>
                      <a:lnTo>
                        <a:pt x="3170" y="7200"/>
                      </a:lnTo>
                      <a:lnTo>
                        <a:pt x="3273" y="7200"/>
                      </a:lnTo>
                      <a:lnTo>
                        <a:pt x="3408" y="7479"/>
                      </a:lnTo>
                      <a:lnTo>
                        <a:pt x="3485" y="7692"/>
                      </a:lnTo>
                      <a:lnTo>
                        <a:pt x="3472" y="7824"/>
                      </a:lnTo>
                      <a:lnTo>
                        <a:pt x="3241" y="8431"/>
                      </a:lnTo>
                      <a:lnTo>
                        <a:pt x="3086" y="8661"/>
                      </a:lnTo>
                      <a:lnTo>
                        <a:pt x="2765" y="8956"/>
                      </a:lnTo>
                      <a:lnTo>
                        <a:pt x="2668" y="9055"/>
                      </a:lnTo>
                      <a:lnTo>
                        <a:pt x="2610" y="8956"/>
                      </a:lnTo>
                      <a:lnTo>
                        <a:pt x="2591" y="8841"/>
                      </a:lnTo>
                      <a:lnTo>
                        <a:pt x="2585" y="8661"/>
                      </a:lnTo>
                      <a:lnTo>
                        <a:pt x="2559" y="8481"/>
                      </a:lnTo>
                      <a:lnTo>
                        <a:pt x="2514" y="8333"/>
                      </a:lnTo>
                      <a:lnTo>
                        <a:pt x="2475" y="8202"/>
                      </a:lnTo>
                      <a:lnTo>
                        <a:pt x="2418" y="8021"/>
                      </a:lnTo>
                      <a:lnTo>
                        <a:pt x="2385" y="7907"/>
                      </a:lnTo>
                      <a:lnTo>
                        <a:pt x="2360" y="7758"/>
                      </a:lnTo>
                      <a:lnTo>
                        <a:pt x="2315" y="7627"/>
                      </a:lnTo>
                      <a:lnTo>
                        <a:pt x="2244" y="7299"/>
                      </a:lnTo>
                      <a:lnTo>
                        <a:pt x="2205" y="7168"/>
                      </a:lnTo>
                      <a:lnTo>
                        <a:pt x="2154" y="6987"/>
                      </a:lnTo>
                      <a:lnTo>
                        <a:pt x="2070" y="6741"/>
                      </a:lnTo>
                      <a:lnTo>
                        <a:pt x="2025" y="6594"/>
                      </a:lnTo>
                      <a:lnTo>
                        <a:pt x="1987" y="6495"/>
                      </a:lnTo>
                      <a:lnTo>
                        <a:pt x="1942" y="6282"/>
                      </a:lnTo>
                      <a:lnTo>
                        <a:pt x="2077" y="6085"/>
                      </a:lnTo>
                      <a:lnTo>
                        <a:pt x="2135" y="5659"/>
                      </a:lnTo>
                      <a:lnTo>
                        <a:pt x="2006" y="5544"/>
                      </a:lnTo>
                      <a:lnTo>
                        <a:pt x="1832" y="5610"/>
                      </a:lnTo>
                      <a:lnTo>
                        <a:pt x="1794" y="5560"/>
                      </a:lnTo>
                      <a:lnTo>
                        <a:pt x="1774" y="5560"/>
                      </a:lnTo>
                      <a:lnTo>
                        <a:pt x="1749" y="5560"/>
                      </a:lnTo>
                      <a:lnTo>
                        <a:pt x="1729" y="5560"/>
                      </a:lnTo>
                      <a:lnTo>
                        <a:pt x="1723" y="5478"/>
                      </a:lnTo>
                      <a:lnTo>
                        <a:pt x="1710" y="5413"/>
                      </a:lnTo>
                      <a:lnTo>
                        <a:pt x="1710" y="5281"/>
                      </a:lnTo>
                      <a:lnTo>
                        <a:pt x="1678" y="5216"/>
                      </a:lnTo>
                      <a:lnTo>
                        <a:pt x="1672" y="5134"/>
                      </a:lnTo>
                      <a:lnTo>
                        <a:pt x="1652" y="5117"/>
                      </a:lnTo>
                      <a:lnTo>
                        <a:pt x="1633" y="5052"/>
                      </a:lnTo>
                      <a:lnTo>
                        <a:pt x="1627" y="4986"/>
                      </a:lnTo>
                      <a:lnTo>
                        <a:pt x="1614" y="4921"/>
                      </a:lnTo>
                      <a:lnTo>
                        <a:pt x="1601" y="4888"/>
                      </a:lnTo>
                      <a:lnTo>
                        <a:pt x="1562" y="4888"/>
                      </a:lnTo>
                      <a:lnTo>
                        <a:pt x="1537" y="4888"/>
                      </a:lnTo>
                      <a:lnTo>
                        <a:pt x="1524" y="4888"/>
                      </a:lnTo>
                      <a:lnTo>
                        <a:pt x="1517" y="4970"/>
                      </a:lnTo>
                      <a:lnTo>
                        <a:pt x="1517" y="5052"/>
                      </a:lnTo>
                      <a:lnTo>
                        <a:pt x="1517" y="5150"/>
                      </a:lnTo>
                      <a:lnTo>
                        <a:pt x="1517" y="5249"/>
                      </a:lnTo>
                      <a:lnTo>
                        <a:pt x="1517" y="5314"/>
                      </a:lnTo>
                      <a:lnTo>
                        <a:pt x="1485" y="5347"/>
                      </a:lnTo>
                      <a:lnTo>
                        <a:pt x="1459" y="5413"/>
                      </a:lnTo>
                      <a:lnTo>
                        <a:pt x="1421" y="5314"/>
                      </a:lnTo>
                      <a:lnTo>
                        <a:pt x="1395" y="5183"/>
                      </a:lnTo>
                      <a:lnTo>
                        <a:pt x="1401" y="5035"/>
                      </a:lnTo>
                      <a:lnTo>
                        <a:pt x="1363" y="4839"/>
                      </a:lnTo>
                      <a:lnTo>
                        <a:pt x="1344" y="4707"/>
                      </a:lnTo>
                      <a:lnTo>
                        <a:pt x="1299" y="4625"/>
                      </a:lnTo>
                      <a:lnTo>
                        <a:pt x="1247" y="4543"/>
                      </a:lnTo>
                      <a:lnTo>
                        <a:pt x="1221" y="4429"/>
                      </a:lnTo>
                      <a:lnTo>
                        <a:pt x="1202" y="4347"/>
                      </a:lnTo>
                      <a:lnTo>
                        <a:pt x="1157" y="4330"/>
                      </a:lnTo>
                      <a:lnTo>
                        <a:pt x="1144" y="4281"/>
                      </a:lnTo>
                      <a:lnTo>
                        <a:pt x="1112" y="4281"/>
                      </a:lnTo>
                      <a:lnTo>
                        <a:pt x="1086" y="4363"/>
                      </a:lnTo>
                      <a:lnTo>
                        <a:pt x="1061" y="4429"/>
                      </a:lnTo>
                      <a:lnTo>
                        <a:pt x="1118" y="4511"/>
                      </a:lnTo>
                      <a:lnTo>
                        <a:pt x="1151" y="4625"/>
                      </a:lnTo>
                      <a:lnTo>
                        <a:pt x="1209" y="4773"/>
                      </a:lnTo>
                      <a:lnTo>
                        <a:pt x="1234" y="4839"/>
                      </a:lnTo>
                      <a:lnTo>
                        <a:pt x="1279" y="4888"/>
                      </a:lnTo>
                      <a:lnTo>
                        <a:pt x="1311" y="4986"/>
                      </a:lnTo>
                      <a:lnTo>
                        <a:pt x="1273" y="5101"/>
                      </a:lnTo>
                      <a:lnTo>
                        <a:pt x="1266" y="5052"/>
                      </a:lnTo>
                      <a:lnTo>
                        <a:pt x="1266" y="4986"/>
                      </a:lnTo>
                      <a:lnTo>
                        <a:pt x="1247" y="5134"/>
                      </a:lnTo>
                      <a:lnTo>
                        <a:pt x="1241" y="5265"/>
                      </a:lnTo>
                      <a:lnTo>
                        <a:pt x="1202" y="5298"/>
                      </a:lnTo>
                      <a:lnTo>
                        <a:pt x="1215" y="5134"/>
                      </a:lnTo>
                      <a:lnTo>
                        <a:pt x="1209" y="5052"/>
                      </a:lnTo>
                      <a:lnTo>
                        <a:pt x="1164" y="5003"/>
                      </a:lnTo>
                      <a:lnTo>
                        <a:pt x="1144" y="4970"/>
                      </a:lnTo>
                      <a:lnTo>
                        <a:pt x="1125" y="4904"/>
                      </a:lnTo>
                      <a:lnTo>
                        <a:pt x="1086" y="4871"/>
                      </a:lnTo>
                      <a:lnTo>
                        <a:pt x="1061" y="4822"/>
                      </a:lnTo>
                      <a:lnTo>
                        <a:pt x="1035" y="4724"/>
                      </a:lnTo>
                      <a:lnTo>
                        <a:pt x="1003" y="4675"/>
                      </a:lnTo>
                      <a:lnTo>
                        <a:pt x="983" y="4576"/>
                      </a:lnTo>
                      <a:lnTo>
                        <a:pt x="977" y="4494"/>
                      </a:lnTo>
                      <a:lnTo>
                        <a:pt x="951" y="4461"/>
                      </a:lnTo>
                      <a:lnTo>
                        <a:pt x="926" y="4412"/>
                      </a:lnTo>
                      <a:lnTo>
                        <a:pt x="874" y="4412"/>
                      </a:lnTo>
                      <a:lnTo>
                        <a:pt x="829" y="4429"/>
                      </a:lnTo>
                      <a:lnTo>
                        <a:pt x="778" y="4412"/>
                      </a:lnTo>
                      <a:lnTo>
                        <a:pt x="688" y="4429"/>
                      </a:lnTo>
                      <a:lnTo>
                        <a:pt x="623" y="4445"/>
                      </a:lnTo>
                      <a:lnTo>
                        <a:pt x="604" y="4478"/>
                      </a:lnTo>
                      <a:lnTo>
                        <a:pt x="598" y="4576"/>
                      </a:lnTo>
                      <a:lnTo>
                        <a:pt x="598" y="4691"/>
                      </a:lnTo>
                      <a:lnTo>
                        <a:pt x="559" y="4806"/>
                      </a:lnTo>
                      <a:lnTo>
                        <a:pt x="533" y="4855"/>
                      </a:lnTo>
                      <a:lnTo>
                        <a:pt x="520" y="4888"/>
                      </a:lnTo>
                      <a:lnTo>
                        <a:pt x="501" y="4970"/>
                      </a:lnTo>
                      <a:lnTo>
                        <a:pt x="488" y="5035"/>
                      </a:lnTo>
                      <a:lnTo>
                        <a:pt x="508" y="5085"/>
                      </a:lnTo>
                      <a:lnTo>
                        <a:pt x="508" y="5183"/>
                      </a:lnTo>
                      <a:lnTo>
                        <a:pt x="501" y="5232"/>
                      </a:lnTo>
                      <a:lnTo>
                        <a:pt x="488" y="5298"/>
                      </a:lnTo>
                      <a:lnTo>
                        <a:pt x="456" y="5413"/>
                      </a:lnTo>
                      <a:lnTo>
                        <a:pt x="437" y="5363"/>
                      </a:lnTo>
                      <a:lnTo>
                        <a:pt x="418" y="5396"/>
                      </a:lnTo>
                      <a:lnTo>
                        <a:pt x="392" y="5445"/>
                      </a:lnTo>
                      <a:lnTo>
                        <a:pt x="353" y="5462"/>
                      </a:lnTo>
                      <a:lnTo>
                        <a:pt x="315" y="5544"/>
                      </a:lnTo>
                      <a:lnTo>
                        <a:pt x="276" y="5560"/>
                      </a:lnTo>
                      <a:lnTo>
                        <a:pt x="237" y="5560"/>
                      </a:lnTo>
                      <a:lnTo>
                        <a:pt x="199" y="5560"/>
                      </a:lnTo>
                      <a:lnTo>
                        <a:pt x="115" y="5610"/>
                      </a:lnTo>
                      <a:lnTo>
                        <a:pt x="77" y="5610"/>
                      </a:lnTo>
                      <a:lnTo>
                        <a:pt x="57" y="5495"/>
                      </a:lnTo>
                      <a:lnTo>
                        <a:pt x="38" y="5347"/>
                      </a:lnTo>
                      <a:lnTo>
                        <a:pt x="25" y="5216"/>
                      </a:lnTo>
                      <a:lnTo>
                        <a:pt x="19" y="5085"/>
                      </a:lnTo>
                      <a:lnTo>
                        <a:pt x="19" y="4921"/>
                      </a:lnTo>
                      <a:lnTo>
                        <a:pt x="0" y="4724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" name=""/>
            <p:cNvGrpSpPr/>
            <p:nvPr/>
          </p:nvGrpSpPr>
          <p:grpSpPr>
            <a:xfrm>
              <a:off x="219240" y="1492200"/>
              <a:ext cx="2219400" cy="7005960"/>
              <a:chOff x="219240" y="1492200"/>
              <a:chExt cx="2219400" cy="7005960"/>
            </a:xfrm>
          </p:grpSpPr>
          <p:sp>
            <p:nvSpPr>
              <p:cNvPr id="32" name=""/>
              <p:cNvSpPr/>
              <p:nvPr/>
            </p:nvSpPr>
            <p:spPr>
              <a:xfrm>
                <a:off x="219240" y="1801800"/>
                <a:ext cx="1502280" cy="3278520"/>
              </a:xfrm>
              <a:custGeom>
                <a:avLst/>
                <a:gdLst/>
                <a:ahLst/>
                <a:rect l="0" t="0" r="r" b="b"/>
                <a:pathLst>
                  <a:path w="4173" h="9107">
                    <a:moveTo>
                      <a:pt x="0" y="2342"/>
                    </a:moveTo>
                    <a:lnTo>
                      <a:pt x="199" y="2030"/>
                    </a:lnTo>
                    <a:lnTo>
                      <a:pt x="314" y="1899"/>
                    </a:lnTo>
                    <a:lnTo>
                      <a:pt x="334" y="1703"/>
                    </a:lnTo>
                    <a:lnTo>
                      <a:pt x="244" y="1588"/>
                    </a:lnTo>
                    <a:lnTo>
                      <a:pt x="237" y="1359"/>
                    </a:lnTo>
                    <a:lnTo>
                      <a:pt x="276" y="1293"/>
                    </a:lnTo>
                    <a:lnTo>
                      <a:pt x="269" y="1195"/>
                    </a:lnTo>
                    <a:lnTo>
                      <a:pt x="424" y="1162"/>
                    </a:lnTo>
                    <a:lnTo>
                      <a:pt x="462" y="982"/>
                    </a:lnTo>
                    <a:lnTo>
                      <a:pt x="469" y="818"/>
                    </a:lnTo>
                    <a:lnTo>
                      <a:pt x="597" y="769"/>
                    </a:lnTo>
                    <a:lnTo>
                      <a:pt x="610" y="605"/>
                    </a:lnTo>
                    <a:lnTo>
                      <a:pt x="488" y="556"/>
                    </a:lnTo>
                    <a:lnTo>
                      <a:pt x="546" y="442"/>
                    </a:lnTo>
                    <a:lnTo>
                      <a:pt x="745" y="442"/>
                    </a:lnTo>
                    <a:lnTo>
                      <a:pt x="803" y="311"/>
                    </a:lnTo>
                    <a:lnTo>
                      <a:pt x="887" y="294"/>
                    </a:lnTo>
                    <a:lnTo>
                      <a:pt x="938" y="196"/>
                    </a:lnTo>
                    <a:lnTo>
                      <a:pt x="1002" y="376"/>
                    </a:lnTo>
                    <a:lnTo>
                      <a:pt x="1254" y="343"/>
                    </a:lnTo>
                    <a:lnTo>
                      <a:pt x="1370" y="540"/>
                    </a:lnTo>
                    <a:lnTo>
                      <a:pt x="1742" y="491"/>
                    </a:lnTo>
                    <a:lnTo>
                      <a:pt x="1800" y="393"/>
                    </a:lnTo>
                    <a:lnTo>
                      <a:pt x="1942" y="556"/>
                    </a:lnTo>
                    <a:lnTo>
                      <a:pt x="2090" y="704"/>
                    </a:lnTo>
                    <a:lnTo>
                      <a:pt x="2160" y="638"/>
                    </a:lnTo>
                    <a:lnTo>
                      <a:pt x="2205" y="556"/>
                    </a:lnTo>
                    <a:lnTo>
                      <a:pt x="2327" y="605"/>
                    </a:lnTo>
                    <a:lnTo>
                      <a:pt x="2244" y="491"/>
                    </a:lnTo>
                    <a:lnTo>
                      <a:pt x="2167" y="507"/>
                    </a:lnTo>
                    <a:lnTo>
                      <a:pt x="2051" y="540"/>
                    </a:lnTo>
                    <a:lnTo>
                      <a:pt x="1993" y="376"/>
                    </a:lnTo>
                    <a:lnTo>
                      <a:pt x="1929" y="294"/>
                    </a:lnTo>
                    <a:lnTo>
                      <a:pt x="1929" y="163"/>
                    </a:lnTo>
                    <a:lnTo>
                      <a:pt x="1948" y="16"/>
                    </a:lnTo>
                    <a:lnTo>
                      <a:pt x="2000" y="0"/>
                    </a:lnTo>
                    <a:lnTo>
                      <a:pt x="2070" y="131"/>
                    </a:lnTo>
                    <a:lnTo>
                      <a:pt x="2090" y="65"/>
                    </a:lnTo>
                    <a:lnTo>
                      <a:pt x="2147" y="0"/>
                    </a:lnTo>
                    <a:lnTo>
                      <a:pt x="2218" y="98"/>
                    </a:lnTo>
                    <a:lnTo>
                      <a:pt x="2257" y="16"/>
                    </a:lnTo>
                    <a:lnTo>
                      <a:pt x="2295" y="147"/>
                    </a:lnTo>
                    <a:lnTo>
                      <a:pt x="2302" y="229"/>
                    </a:lnTo>
                    <a:lnTo>
                      <a:pt x="2404" y="343"/>
                    </a:lnTo>
                    <a:lnTo>
                      <a:pt x="2366" y="442"/>
                    </a:lnTo>
                    <a:lnTo>
                      <a:pt x="2366" y="573"/>
                    </a:lnTo>
                    <a:lnTo>
                      <a:pt x="2539" y="605"/>
                    </a:lnTo>
                    <a:lnTo>
                      <a:pt x="2584" y="442"/>
                    </a:lnTo>
                    <a:lnTo>
                      <a:pt x="2552" y="360"/>
                    </a:lnTo>
                    <a:lnTo>
                      <a:pt x="2475" y="376"/>
                    </a:lnTo>
                    <a:lnTo>
                      <a:pt x="2494" y="196"/>
                    </a:lnTo>
                    <a:lnTo>
                      <a:pt x="2649" y="294"/>
                    </a:lnTo>
                    <a:lnTo>
                      <a:pt x="2681" y="425"/>
                    </a:lnTo>
                    <a:lnTo>
                      <a:pt x="2809" y="425"/>
                    </a:lnTo>
                    <a:lnTo>
                      <a:pt x="2925" y="589"/>
                    </a:lnTo>
                    <a:lnTo>
                      <a:pt x="2989" y="556"/>
                    </a:lnTo>
                    <a:lnTo>
                      <a:pt x="3060" y="704"/>
                    </a:lnTo>
                    <a:lnTo>
                      <a:pt x="2989" y="900"/>
                    </a:lnTo>
                    <a:lnTo>
                      <a:pt x="2932" y="753"/>
                    </a:lnTo>
                    <a:lnTo>
                      <a:pt x="2893" y="802"/>
                    </a:lnTo>
                    <a:lnTo>
                      <a:pt x="2842" y="917"/>
                    </a:lnTo>
                    <a:lnTo>
                      <a:pt x="2758" y="1015"/>
                    </a:lnTo>
                    <a:lnTo>
                      <a:pt x="2803" y="1162"/>
                    </a:lnTo>
                    <a:lnTo>
                      <a:pt x="2726" y="1179"/>
                    </a:lnTo>
                    <a:lnTo>
                      <a:pt x="2662" y="1375"/>
                    </a:lnTo>
                    <a:lnTo>
                      <a:pt x="2597" y="1621"/>
                    </a:lnTo>
                    <a:lnTo>
                      <a:pt x="2694" y="1834"/>
                    </a:lnTo>
                    <a:lnTo>
                      <a:pt x="2771" y="2079"/>
                    </a:lnTo>
                    <a:lnTo>
                      <a:pt x="2906" y="2112"/>
                    </a:lnTo>
                    <a:lnTo>
                      <a:pt x="3034" y="2079"/>
                    </a:lnTo>
                    <a:lnTo>
                      <a:pt x="3092" y="2211"/>
                    </a:lnTo>
                    <a:lnTo>
                      <a:pt x="3067" y="2276"/>
                    </a:lnTo>
                    <a:lnTo>
                      <a:pt x="3028" y="2407"/>
                    </a:lnTo>
                    <a:lnTo>
                      <a:pt x="3086" y="2636"/>
                    </a:lnTo>
                    <a:lnTo>
                      <a:pt x="3105" y="2800"/>
                    </a:lnTo>
                    <a:lnTo>
                      <a:pt x="3177" y="2882"/>
                    </a:lnTo>
                    <a:lnTo>
                      <a:pt x="3273" y="2735"/>
                    </a:lnTo>
                    <a:lnTo>
                      <a:pt x="3248" y="2522"/>
                    </a:lnTo>
                    <a:lnTo>
                      <a:pt x="3164" y="2342"/>
                    </a:lnTo>
                    <a:lnTo>
                      <a:pt x="3260" y="2129"/>
                    </a:lnTo>
                    <a:lnTo>
                      <a:pt x="3177" y="1768"/>
                    </a:lnTo>
                    <a:lnTo>
                      <a:pt x="3099" y="1621"/>
                    </a:lnTo>
                    <a:lnTo>
                      <a:pt x="3164" y="1490"/>
                    </a:lnTo>
                    <a:lnTo>
                      <a:pt x="3151" y="1293"/>
                    </a:lnTo>
                    <a:lnTo>
                      <a:pt x="3196" y="1179"/>
                    </a:lnTo>
                    <a:lnTo>
                      <a:pt x="3273" y="1293"/>
                    </a:lnTo>
                    <a:lnTo>
                      <a:pt x="3453" y="1719"/>
                    </a:lnTo>
                    <a:lnTo>
                      <a:pt x="3562" y="1785"/>
                    </a:lnTo>
                    <a:lnTo>
                      <a:pt x="3595" y="1670"/>
                    </a:lnTo>
                    <a:lnTo>
                      <a:pt x="3569" y="1441"/>
                    </a:lnTo>
                    <a:lnTo>
                      <a:pt x="3633" y="1474"/>
                    </a:lnTo>
                    <a:lnTo>
                      <a:pt x="3742" y="1736"/>
                    </a:lnTo>
                    <a:lnTo>
                      <a:pt x="3762" y="1883"/>
                    </a:lnTo>
                    <a:lnTo>
                      <a:pt x="3826" y="1981"/>
                    </a:lnTo>
                    <a:lnTo>
                      <a:pt x="3955" y="2096"/>
                    </a:lnTo>
                    <a:lnTo>
                      <a:pt x="4019" y="2309"/>
                    </a:lnTo>
                    <a:lnTo>
                      <a:pt x="4115" y="2456"/>
                    </a:lnTo>
                    <a:lnTo>
                      <a:pt x="4167" y="2505"/>
                    </a:lnTo>
                    <a:lnTo>
                      <a:pt x="4173" y="2636"/>
                    </a:lnTo>
                    <a:lnTo>
                      <a:pt x="4096" y="2718"/>
                    </a:lnTo>
                    <a:lnTo>
                      <a:pt x="4051" y="2620"/>
                    </a:lnTo>
                    <a:lnTo>
                      <a:pt x="4012" y="2636"/>
                    </a:lnTo>
                    <a:lnTo>
                      <a:pt x="4000" y="2849"/>
                    </a:lnTo>
                    <a:lnTo>
                      <a:pt x="3935" y="2898"/>
                    </a:lnTo>
                    <a:lnTo>
                      <a:pt x="3865" y="2784"/>
                    </a:lnTo>
                    <a:lnTo>
                      <a:pt x="3717" y="2784"/>
                    </a:lnTo>
                    <a:lnTo>
                      <a:pt x="3697" y="3029"/>
                    </a:lnTo>
                    <a:lnTo>
                      <a:pt x="3736" y="3177"/>
                    </a:lnTo>
                    <a:lnTo>
                      <a:pt x="3794" y="3095"/>
                    </a:lnTo>
                    <a:lnTo>
                      <a:pt x="3852" y="3062"/>
                    </a:lnTo>
                    <a:lnTo>
                      <a:pt x="3910" y="3144"/>
                    </a:lnTo>
                    <a:lnTo>
                      <a:pt x="3832" y="3324"/>
                    </a:lnTo>
                    <a:lnTo>
                      <a:pt x="3910" y="3488"/>
                    </a:lnTo>
                    <a:lnTo>
                      <a:pt x="4012" y="3537"/>
                    </a:lnTo>
                    <a:lnTo>
                      <a:pt x="4000" y="3635"/>
                    </a:lnTo>
                    <a:lnTo>
                      <a:pt x="3961" y="3652"/>
                    </a:lnTo>
                    <a:lnTo>
                      <a:pt x="3865" y="4209"/>
                    </a:lnTo>
                    <a:lnTo>
                      <a:pt x="3871" y="3848"/>
                    </a:lnTo>
                    <a:lnTo>
                      <a:pt x="3916" y="3668"/>
                    </a:lnTo>
                    <a:lnTo>
                      <a:pt x="3865" y="3586"/>
                    </a:lnTo>
                    <a:lnTo>
                      <a:pt x="3807" y="3701"/>
                    </a:lnTo>
                    <a:lnTo>
                      <a:pt x="3839" y="3799"/>
                    </a:lnTo>
                    <a:lnTo>
                      <a:pt x="3794" y="3865"/>
                    </a:lnTo>
                    <a:lnTo>
                      <a:pt x="3749" y="3947"/>
                    </a:lnTo>
                    <a:lnTo>
                      <a:pt x="3755" y="4192"/>
                    </a:lnTo>
                    <a:lnTo>
                      <a:pt x="3691" y="4274"/>
                    </a:lnTo>
                    <a:lnTo>
                      <a:pt x="3601" y="4290"/>
                    </a:lnTo>
                    <a:lnTo>
                      <a:pt x="3633" y="4422"/>
                    </a:lnTo>
                    <a:lnTo>
                      <a:pt x="3601" y="4570"/>
                    </a:lnTo>
                    <a:lnTo>
                      <a:pt x="3633" y="4685"/>
                    </a:lnTo>
                    <a:lnTo>
                      <a:pt x="3582" y="4930"/>
                    </a:lnTo>
                    <a:lnTo>
                      <a:pt x="3562" y="5160"/>
                    </a:lnTo>
                    <a:lnTo>
                      <a:pt x="3485" y="5291"/>
                    </a:lnTo>
                    <a:lnTo>
                      <a:pt x="3389" y="5651"/>
                    </a:lnTo>
                    <a:lnTo>
                      <a:pt x="3376" y="5897"/>
                    </a:lnTo>
                    <a:lnTo>
                      <a:pt x="3408" y="6093"/>
                    </a:lnTo>
                    <a:lnTo>
                      <a:pt x="3453" y="6339"/>
                    </a:lnTo>
                    <a:lnTo>
                      <a:pt x="3479" y="6601"/>
                    </a:lnTo>
                    <a:lnTo>
                      <a:pt x="3434" y="6715"/>
                    </a:lnTo>
                    <a:lnTo>
                      <a:pt x="3376" y="6634"/>
                    </a:lnTo>
                    <a:lnTo>
                      <a:pt x="3389" y="6503"/>
                    </a:lnTo>
                    <a:lnTo>
                      <a:pt x="3357" y="6208"/>
                    </a:lnTo>
                    <a:lnTo>
                      <a:pt x="3318" y="6159"/>
                    </a:lnTo>
                    <a:lnTo>
                      <a:pt x="3292" y="5978"/>
                    </a:lnTo>
                    <a:lnTo>
                      <a:pt x="3241" y="5978"/>
                    </a:lnTo>
                    <a:lnTo>
                      <a:pt x="3183" y="5880"/>
                    </a:lnTo>
                    <a:lnTo>
                      <a:pt x="3118" y="5913"/>
                    </a:lnTo>
                    <a:lnTo>
                      <a:pt x="3060" y="5847"/>
                    </a:lnTo>
                    <a:lnTo>
                      <a:pt x="2989" y="5929"/>
                    </a:lnTo>
                    <a:lnTo>
                      <a:pt x="2861" y="5864"/>
                    </a:lnTo>
                    <a:lnTo>
                      <a:pt x="2944" y="6077"/>
                    </a:lnTo>
                    <a:lnTo>
                      <a:pt x="2842" y="6060"/>
                    </a:lnTo>
                    <a:lnTo>
                      <a:pt x="2771" y="5897"/>
                    </a:lnTo>
                    <a:lnTo>
                      <a:pt x="2642" y="5897"/>
                    </a:lnTo>
                    <a:lnTo>
                      <a:pt x="2662" y="6159"/>
                    </a:lnTo>
                    <a:lnTo>
                      <a:pt x="2565" y="6077"/>
                    </a:lnTo>
                    <a:lnTo>
                      <a:pt x="2514" y="6339"/>
                    </a:lnTo>
                    <a:lnTo>
                      <a:pt x="2552" y="6453"/>
                    </a:lnTo>
                    <a:lnTo>
                      <a:pt x="2514" y="6765"/>
                    </a:lnTo>
                    <a:lnTo>
                      <a:pt x="2559" y="7125"/>
                    </a:lnTo>
                    <a:lnTo>
                      <a:pt x="2610" y="7371"/>
                    </a:lnTo>
                    <a:lnTo>
                      <a:pt x="2668" y="7600"/>
                    </a:lnTo>
                    <a:lnTo>
                      <a:pt x="2842" y="7583"/>
                    </a:lnTo>
                    <a:lnTo>
                      <a:pt x="2912" y="7534"/>
                    </a:lnTo>
                    <a:lnTo>
                      <a:pt x="2925" y="7371"/>
                    </a:lnTo>
                    <a:lnTo>
                      <a:pt x="2887" y="7240"/>
                    </a:lnTo>
                    <a:lnTo>
                      <a:pt x="2893" y="7125"/>
                    </a:lnTo>
                    <a:lnTo>
                      <a:pt x="3002" y="7158"/>
                    </a:lnTo>
                    <a:lnTo>
                      <a:pt x="3112" y="7092"/>
                    </a:lnTo>
                    <a:lnTo>
                      <a:pt x="3112" y="7240"/>
                    </a:lnTo>
                    <a:lnTo>
                      <a:pt x="3079" y="7452"/>
                    </a:lnTo>
                    <a:lnTo>
                      <a:pt x="3028" y="7616"/>
                    </a:lnTo>
                    <a:lnTo>
                      <a:pt x="3015" y="7845"/>
                    </a:lnTo>
                    <a:lnTo>
                      <a:pt x="3086" y="7944"/>
                    </a:lnTo>
                    <a:lnTo>
                      <a:pt x="3183" y="7911"/>
                    </a:lnTo>
                    <a:lnTo>
                      <a:pt x="3241" y="7993"/>
                    </a:lnTo>
                    <a:lnTo>
                      <a:pt x="3292" y="7960"/>
                    </a:lnTo>
                    <a:lnTo>
                      <a:pt x="3312" y="8108"/>
                    </a:lnTo>
                    <a:lnTo>
                      <a:pt x="3267" y="8320"/>
                    </a:lnTo>
                    <a:lnTo>
                      <a:pt x="3305" y="8451"/>
                    </a:lnTo>
                    <a:lnTo>
                      <a:pt x="3312" y="8714"/>
                    </a:lnTo>
                    <a:lnTo>
                      <a:pt x="3376" y="8894"/>
                    </a:lnTo>
                    <a:lnTo>
                      <a:pt x="3460" y="8943"/>
                    </a:lnTo>
                    <a:lnTo>
                      <a:pt x="3517" y="8894"/>
                    </a:lnTo>
                    <a:lnTo>
                      <a:pt x="3543" y="8910"/>
                    </a:lnTo>
                    <a:lnTo>
                      <a:pt x="3652" y="8910"/>
                    </a:lnTo>
                    <a:lnTo>
                      <a:pt x="3749" y="8926"/>
                    </a:lnTo>
                    <a:lnTo>
                      <a:pt x="3775" y="8812"/>
                    </a:lnTo>
                    <a:lnTo>
                      <a:pt x="3691" y="9008"/>
                    </a:lnTo>
                    <a:lnTo>
                      <a:pt x="3633" y="8992"/>
                    </a:lnTo>
                    <a:lnTo>
                      <a:pt x="3575" y="9008"/>
                    </a:lnTo>
                    <a:lnTo>
                      <a:pt x="3460" y="9107"/>
                    </a:lnTo>
                    <a:lnTo>
                      <a:pt x="3363" y="8976"/>
                    </a:lnTo>
                    <a:lnTo>
                      <a:pt x="3273" y="8894"/>
                    </a:lnTo>
                    <a:lnTo>
                      <a:pt x="3235" y="8910"/>
                    </a:lnTo>
                    <a:lnTo>
                      <a:pt x="3241" y="8795"/>
                    </a:lnTo>
                    <a:lnTo>
                      <a:pt x="3235" y="8615"/>
                    </a:lnTo>
                    <a:lnTo>
                      <a:pt x="3158" y="8451"/>
                    </a:lnTo>
                    <a:lnTo>
                      <a:pt x="2996" y="8353"/>
                    </a:lnTo>
                    <a:lnTo>
                      <a:pt x="2970" y="8288"/>
                    </a:lnTo>
                    <a:lnTo>
                      <a:pt x="2925" y="8304"/>
                    </a:lnTo>
                    <a:lnTo>
                      <a:pt x="2880" y="8222"/>
                    </a:lnTo>
                    <a:lnTo>
                      <a:pt x="2822" y="8140"/>
                    </a:lnTo>
                    <a:lnTo>
                      <a:pt x="2745" y="7911"/>
                    </a:lnTo>
                    <a:lnTo>
                      <a:pt x="2655" y="7845"/>
                    </a:lnTo>
                    <a:lnTo>
                      <a:pt x="2604" y="7993"/>
                    </a:lnTo>
                    <a:lnTo>
                      <a:pt x="2546" y="7878"/>
                    </a:lnTo>
                    <a:lnTo>
                      <a:pt x="2475" y="7878"/>
                    </a:lnTo>
                    <a:lnTo>
                      <a:pt x="2334" y="7796"/>
                    </a:lnTo>
                    <a:lnTo>
                      <a:pt x="2077" y="7403"/>
                    </a:lnTo>
                    <a:lnTo>
                      <a:pt x="2057" y="6994"/>
                    </a:lnTo>
                    <a:lnTo>
                      <a:pt x="2032" y="6830"/>
                    </a:lnTo>
                    <a:lnTo>
                      <a:pt x="1987" y="6715"/>
                    </a:lnTo>
                    <a:lnTo>
                      <a:pt x="1929" y="6486"/>
                    </a:lnTo>
                    <a:lnTo>
                      <a:pt x="1659" y="5700"/>
                    </a:lnTo>
                    <a:lnTo>
                      <a:pt x="1659" y="5995"/>
                    </a:lnTo>
                    <a:lnTo>
                      <a:pt x="1826" y="6519"/>
                    </a:lnTo>
                    <a:lnTo>
                      <a:pt x="1897" y="6961"/>
                    </a:lnTo>
                    <a:lnTo>
                      <a:pt x="1794" y="6863"/>
                    </a:lnTo>
                    <a:lnTo>
                      <a:pt x="1775" y="6601"/>
                    </a:lnTo>
                    <a:lnTo>
                      <a:pt x="1640" y="6437"/>
                    </a:lnTo>
                    <a:lnTo>
                      <a:pt x="1717" y="6339"/>
                    </a:lnTo>
                    <a:lnTo>
                      <a:pt x="1537" y="6060"/>
                    </a:lnTo>
                    <a:lnTo>
                      <a:pt x="1607" y="5897"/>
                    </a:lnTo>
                    <a:lnTo>
                      <a:pt x="1543" y="5569"/>
                    </a:lnTo>
                    <a:lnTo>
                      <a:pt x="1325" y="4881"/>
                    </a:lnTo>
                    <a:lnTo>
                      <a:pt x="1299" y="4487"/>
                    </a:lnTo>
                    <a:lnTo>
                      <a:pt x="1312" y="4192"/>
                    </a:lnTo>
                    <a:lnTo>
                      <a:pt x="1370" y="3865"/>
                    </a:lnTo>
                    <a:lnTo>
                      <a:pt x="1370" y="3537"/>
                    </a:lnTo>
                    <a:lnTo>
                      <a:pt x="1325" y="3341"/>
                    </a:lnTo>
                    <a:lnTo>
                      <a:pt x="1447" y="3275"/>
                    </a:lnTo>
                    <a:lnTo>
                      <a:pt x="1299" y="2882"/>
                    </a:lnTo>
                    <a:lnTo>
                      <a:pt x="1305" y="2702"/>
                    </a:lnTo>
                    <a:lnTo>
                      <a:pt x="1241" y="2456"/>
                    </a:lnTo>
                    <a:lnTo>
                      <a:pt x="1267" y="2309"/>
                    </a:lnTo>
                    <a:lnTo>
                      <a:pt x="1222" y="2227"/>
                    </a:lnTo>
                    <a:lnTo>
                      <a:pt x="1215" y="2063"/>
                    </a:lnTo>
                    <a:lnTo>
                      <a:pt x="1170" y="1932"/>
                    </a:lnTo>
                    <a:lnTo>
                      <a:pt x="1222" y="1817"/>
                    </a:lnTo>
                    <a:lnTo>
                      <a:pt x="1151" y="1736"/>
                    </a:lnTo>
                    <a:lnTo>
                      <a:pt x="1093" y="1850"/>
                    </a:lnTo>
                    <a:lnTo>
                      <a:pt x="1009" y="1621"/>
                    </a:lnTo>
                    <a:lnTo>
                      <a:pt x="919" y="1555"/>
                    </a:lnTo>
                    <a:lnTo>
                      <a:pt x="790" y="1555"/>
                    </a:lnTo>
                    <a:lnTo>
                      <a:pt x="707" y="1768"/>
                    </a:lnTo>
                    <a:lnTo>
                      <a:pt x="668" y="1703"/>
                    </a:lnTo>
                    <a:lnTo>
                      <a:pt x="739" y="1424"/>
                    </a:lnTo>
                    <a:lnTo>
                      <a:pt x="674" y="1474"/>
                    </a:lnTo>
                    <a:lnTo>
                      <a:pt x="546" y="1768"/>
                    </a:lnTo>
                    <a:lnTo>
                      <a:pt x="411" y="2030"/>
                    </a:lnTo>
                    <a:lnTo>
                      <a:pt x="289" y="2096"/>
                    </a:lnTo>
                    <a:lnTo>
                      <a:pt x="83" y="2358"/>
                    </a:lnTo>
                    <a:lnTo>
                      <a:pt x="0" y="2342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293840" y="1492200"/>
                <a:ext cx="510120" cy="862200"/>
              </a:xfrm>
              <a:custGeom>
                <a:avLst/>
                <a:gdLst/>
                <a:ahLst/>
                <a:rect l="0" t="0" r="r" b="b"/>
                <a:pathLst>
                  <a:path w="1417" h="2395">
                    <a:moveTo>
                      <a:pt x="0" y="492"/>
                    </a:moveTo>
                    <a:lnTo>
                      <a:pt x="32" y="311"/>
                    </a:lnTo>
                    <a:lnTo>
                      <a:pt x="32" y="180"/>
                    </a:lnTo>
                    <a:lnTo>
                      <a:pt x="83" y="0"/>
                    </a:lnTo>
                    <a:lnTo>
                      <a:pt x="339" y="114"/>
                    </a:lnTo>
                    <a:lnTo>
                      <a:pt x="782" y="328"/>
                    </a:lnTo>
                    <a:lnTo>
                      <a:pt x="955" y="508"/>
                    </a:lnTo>
                    <a:lnTo>
                      <a:pt x="1186" y="672"/>
                    </a:lnTo>
                    <a:lnTo>
                      <a:pt x="1302" y="984"/>
                    </a:lnTo>
                    <a:lnTo>
                      <a:pt x="1417" y="1131"/>
                    </a:lnTo>
                    <a:lnTo>
                      <a:pt x="1372" y="1247"/>
                    </a:lnTo>
                    <a:lnTo>
                      <a:pt x="1372" y="1395"/>
                    </a:lnTo>
                    <a:lnTo>
                      <a:pt x="1327" y="1427"/>
                    </a:lnTo>
                    <a:lnTo>
                      <a:pt x="1289" y="1559"/>
                    </a:lnTo>
                    <a:lnTo>
                      <a:pt x="1327" y="1690"/>
                    </a:lnTo>
                    <a:lnTo>
                      <a:pt x="1321" y="1788"/>
                    </a:lnTo>
                    <a:lnTo>
                      <a:pt x="1276" y="1919"/>
                    </a:lnTo>
                    <a:lnTo>
                      <a:pt x="1283" y="2051"/>
                    </a:lnTo>
                    <a:lnTo>
                      <a:pt x="1359" y="2182"/>
                    </a:lnTo>
                    <a:lnTo>
                      <a:pt x="1366" y="2313"/>
                    </a:lnTo>
                    <a:lnTo>
                      <a:pt x="1347" y="2379"/>
                    </a:lnTo>
                    <a:lnTo>
                      <a:pt x="1270" y="2395"/>
                    </a:lnTo>
                    <a:lnTo>
                      <a:pt x="1212" y="2329"/>
                    </a:lnTo>
                    <a:lnTo>
                      <a:pt x="1148" y="2165"/>
                    </a:lnTo>
                    <a:lnTo>
                      <a:pt x="1122" y="2165"/>
                    </a:lnTo>
                    <a:lnTo>
                      <a:pt x="1090" y="2100"/>
                    </a:lnTo>
                    <a:lnTo>
                      <a:pt x="1057" y="1903"/>
                    </a:lnTo>
                    <a:lnTo>
                      <a:pt x="1019" y="1837"/>
                    </a:lnTo>
                    <a:lnTo>
                      <a:pt x="936" y="1739"/>
                    </a:lnTo>
                    <a:lnTo>
                      <a:pt x="865" y="1673"/>
                    </a:lnTo>
                    <a:lnTo>
                      <a:pt x="763" y="1493"/>
                    </a:lnTo>
                    <a:lnTo>
                      <a:pt x="718" y="1362"/>
                    </a:lnTo>
                    <a:lnTo>
                      <a:pt x="724" y="1263"/>
                    </a:lnTo>
                    <a:lnTo>
                      <a:pt x="769" y="1180"/>
                    </a:lnTo>
                    <a:lnTo>
                      <a:pt x="731" y="1082"/>
                    </a:lnTo>
                    <a:lnTo>
                      <a:pt x="692" y="1131"/>
                    </a:lnTo>
                    <a:lnTo>
                      <a:pt x="628" y="984"/>
                    </a:lnTo>
                    <a:lnTo>
                      <a:pt x="615" y="1066"/>
                    </a:lnTo>
                    <a:lnTo>
                      <a:pt x="558" y="1066"/>
                    </a:lnTo>
                    <a:lnTo>
                      <a:pt x="545" y="1000"/>
                    </a:lnTo>
                    <a:lnTo>
                      <a:pt x="545" y="885"/>
                    </a:lnTo>
                    <a:lnTo>
                      <a:pt x="519" y="820"/>
                    </a:lnTo>
                    <a:lnTo>
                      <a:pt x="481" y="836"/>
                    </a:lnTo>
                    <a:lnTo>
                      <a:pt x="430" y="656"/>
                    </a:lnTo>
                    <a:lnTo>
                      <a:pt x="391" y="639"/>
                    </a:lnTo>
                    <a:lnTo>
                      <a:pt x="333" y="557"/>
                    </a:lnTo>
                    <a:lnTo>
                      <a:pt x="211" y="574"/>
                    </a:lnTo>
                    <a:lnTo>
                      <a:pt x="89" y="557"/>
                    </a:lnTo>
                    <a:lnTo>
                      <a:pt x="0" y="492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190520" y="1795320"/>
                <a:ext cx="325800" cy="441720"/>
              </a:xfrm>
              <a:custGeom>
                <a:avLst/>
                <a:gdLst/>
                <a:ahLst/>
                <a:rect l="0" t="0" r="r" b="b"/>
                <a:pathLst>
                  <a:path w="905" h="1227">
                    <a:moveTo>
                      <a:pt x="31" y="0"/>
                    </a:moveTo>
                    <a:lnTo>
                      <a:pt x="0" y="98"/>
                    </a:lnTo>
                    <a:lnTo>
                      <a:pt x="0" y="212"/>
                    </a:lnTo>
                    <a:lnTo>
                      <a:pt x="63" y="327"/>
                    </a:lnTo>
                    <a:lnTo>
                      <a:pt x="101" y="294"/>
                    </a:lnTo>
                    <a:lnTo>
                      <a:pt x="114" y="344"/>
                    </a:lnTo>
                    <a:lnTo>
                      <a:pt x="152" y="360"/>
                    </a:lnTo>
                    <a:lnTo>
                      <a:pt x="178" y="277"/>
                    </a:lnTo>
                    <a:lnTo>
                      <a:pt x="268" y="294"/>
                    </a:lnTo>
                    <a:lnTo>
                      <a:pt x="281" y="376"/>
                    </a:lnTo>
                    <a:lnTo>
                      <a:pt x="312" y="409"/>
                    </a:lnTo>
                    <a:lnTo>
                      <a:pt x="389" y="393"/>
                    </a:lnTo>
                    <a:lnTo>
                      <a:pt x="414" y="442"/>
                    </a:lnTo>
                    <a:lnTo>
                      <a:pt x="452" y="491"/>
                    </a:lnTo>
                    <a:lnTo>
                      <a:pt x="484" y="589"/>
                    </a:lnTo>
                    <a:lnTo>
                      <a:pt x="484" y="720"/>
                    </a:lnTo>
                    <a:lnTo>
                      <a:pt x="459" y="752"/>
                    </a:lnTo>
                    <a:lnTo>
                      <a:pt x="472" y="801"/>
                    </a:lnTo>
                    <a:lnTo>
                      <a:pt x="433" y="883"/>
                    </a:lnTo>
                    <a:lnTo>
                      <a:pt x="433" y="999"/>
                    </a:lnTo>
                    <a:lnTo>
                      <a:pt x="491" y="1015"/>
                    </a:lnTo>
                    <a:lnTo>
                      <a:pt x="523" y="982"/>
                    </a:lnTo>
                    <a:lnTo>
                      <a:pt x="535" y="933"/>
                    </a:lnTo>
                    <a:lnTo>
                      <a:pt x="554" y="982"/>
                    </a:lnTo>
                    <a:lnTo>
                      <a:pt x="586" y="950"/>
                    </a:lnTo>
                    <a:lnTo>
                      <a:pt x="656" y="1015"/>
                    </a:lnTo>
                    <a:lnTo>
                      <a:pt x="702" y="1129"/>
                    </a:lnTo>
                    <a:lnTo>
                      <a:pt x="715" y="1129"/>
                    </a:lnTo>
                    <a:lnTo>
                      <a:pt x="721" y="1195"/>
                    </a:lnTo>
                    <a:lnTo>
                      <a:pt x="765" y="1227"/>
                    </a:lnTo>
                    <a:lnTo>
                      <a:pt x="816" y="1227"/>
                    </a:lnTo>
                    <a:lnTo>
                      <a:pt x="785" y="1162"/>
                    </a:lnTo>
                    <a:lnTo>
                      <a:pt x="797" y="1097"/>
                    </a:lnTo>
                    <a:lnTo>
                      <a:pt x="835" y="1162"/>
                    </a:lnTo>
                    <a:lnTo>
                      <a:pt x="880" y="1178"/>
                    </a:lnTo>
                    <a:lnTo>
                      <a:pt x="886" y="1080"/>
                    </a:lnTo>
                    <a:lnTo>
                      <a:pt x="842" y="999"/>
                    </a:lnTo>
                    <a:lnTo>
                      <a:pt x="810" y="999"/>
                    </a:lnTo>
                    <a:lnTo>
                      <a:pt x="765" y="916"/>
                    </a:lnTo>
                    <a:lnTo>
                      <a:pt x="810" y="916"/>
                    </a:lnTo>
                    <a:lnTo>
                      <a:pt x="842" y="966"/>
                    </a:lnTo>
                    <a:lnTo>
                      <a:pt x="905" y="966"/>
                    </a:lnTo>
                    <a:lnTo>
                      <a:pt x="893" y="867"/>
                    </a:lnTo>
                    <a:lnTo>
                      <a:pt x="835" y="769"/>
                    </a:lnTo>
                    <a:lnTo>
                      <a:pt x="797" y="752"/>
                    </a:lnTo>
                    <a:lnTo>
                      <a:pt x="740" y="638"/>
                    </a:lnTo>
                    <a:lnTo>
                      <a:pt x="669" y="605"/>
                    </a:lnTo>
                    <a:lnTo>
                      <a:pt x="612" y="556"/>
                    </a:lnTo>
                    <a:lnTo>
                      <a:pt x="567" y="409"/>
                    </a:lnTo>
                    <a:lnTo>
                      <a:pt x="535" y="228"/>
                    </a:lnTo>
                    <a:lnTo>
                      <a:pt x="491" y="228"/>
                    </a:lnTo>
                    <a:lnTo>
                      <a:pt x="478" y="179"/>
                    </a:lnTo>
                    <a:lnTo>
                      <a:pt x="452" y="196"/>
                    </a:lnTo>
                    <a:lnTo>
                      <a:pt x="408" y="114"/>
                    </a:lnTo>
                    <a:lnTo>
                      <a:pt x="332" y="81"/>
                    </a:lnTo>
                    <a:lnTo>
                      <a:pt x="300" y="130"/>
                    </a:lnTo>
                    <a:lnTo>
                      <a:pt x="230" y="81"/>
                    </a:lnTo>
                    <a:lnTo>
                      <a:pt x="184" y="81"/>
                    </a:lnTo>
                    <a:lnTo>
                      <a:pt x="165" y="16"/>
                    </a:lnTo>
                    <a:lnTo>
                      <a:pt x="146" y="0"/>
                    </a:lnTo>
                    <a:lnTo>
                      <a:pt x="114" y="16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376280" y="4265640"/>
                <a:ext cx="232200" cy="205200"/>
              </a:xfrm>
              <a:custGeom>
                <a:avLst/>
                <a:gdLst/>
                <a:ahLst/>
                <a:rect l="0" t="0" r="r" b="b"/>
                <a:pathLst>
                  <a:path w="645" h="570">
                    <a:moveTo>
                      <a:pt x="0" y="285"/>
                    </a:moveTo>
                    <a:lnTo>
                      <a:pt x="57" y="117"/>
                    </a:lnTo>
                    <a:lnTo>
                      <a:pt x="82" y="117"/>
                    </a:lnTo>
                    <a:lnTo>
                      <a:pt x="127" y="33"/>
                    </a:lnTo>
                    <a:lnTo>
                      <a:pt x="179" y="33"/>
                    </a:lnTo>
                    <a:lnTo>
                      <a:pt x="192" y="16"/>
                    </a:lnTo>
                    <a:lnTo>
                      <a:pt x="211" y="0"/>
                    </a:lnTo>
                    <a:lnTo>
                      <a:pt x="275" y="100"/>
                    </a:lnTo>
                    <a:lnTo>
                      <a:pt x="294" y="168"/>
                    </a:lnTo>
                    <a:lnTo>
                      <a:pt x="306" y="133"/>
                    </a:lnTo>
                    <a:lnTo>
                      <a:pt x="357" y="201"/>
                    </a:lnTo>
                    <a:lnTo>
                      <a:pt x="389" y="201"/>
                    </a:lnTo>
                    <a:lnTo>
                      <a:pt x="415" y="251"/>
                    </a:lnTo>
                    <a:lnTo>
                      <a:pt x="459" y="285"/>
                    </a:lnTo>
                    <a:lnTo>
                      <a:pt x="459" y="369"/>
                    </a:lnTo>
                    <a:lnTo>
                      <a:pt x="543" y="369"/>
                    </a:lnTo>
                    <a:lnTo>
                      <a:pt x="562" y="453"/>
                    </a:lnTo>
                    <a:lnTo>
                      <a:pt x="613" y="453"/>
                    </a:lnTo>
                    <a:lnTo>
                      <a:pt x="645" y="554"/>
                    </a:lnTo>
                    <a:lnTo>
                      <a:pt x="626" y="570"/>
                    </a:lnTo>
                    <a:lnTo>
                      <a:pt x="613" y="537"/>
                    </a:lnTo>
                    <a:lnTo>
                      <a:pt x="607" y="520"/>
                    </a:lnTo>
                    <a:lnTo>
                      <a:pt x="562" y="537"/>
                    </a:lnTo>
                    <a:lnTo>
                      <a:pt x="550" y="554"/>
                    </a:lnTo>
                    <a:lnTo>
                      <a:pt x="511" y="570"/>
                    </a:lnTo>
                    <a:lnTo>
                      <a:pt x="453" y="570"/>
                    </a:lnTo>
                    <a:lnTo>
                      <a:pt x="415" y="570"/>
                    </a:lnTo>
                    <a:lnTo>
                      <a:pt x="415" y="520"/>
                    </a:lnTo>
                    <a:lnTo>
                      <a:pt x="357" y="385"/>
                    </a:lnTo>
                    <a:lnTo>
                      <a:pt x="357" y="302"/>
                    </a:lnTo>
                    <a:lnTo>
                      <a:pt x="294" y="302"/>
                    </a:lnTo>
                    <a:lnTo>
                      <a:pt x="268" y="251"/>
                    </a:lnTo>
                    <a:lnTo>
                      <a:pt x="249" y="302"/>
                    </a:lnTo>
                    <a:lnTo>
                      <a:pt x="230" y="235"/>
                    </a:lnTo>
                    <a:lnTo>
                      <a:pt x="211" y="235"/>
                    </a:lnTo>
                    <a:lnTo>
                      <a:pt x="211" y="151"/>
                    </a:lnTo>
                    <a:lnTo>
                      <a:pt x="192" y="117"/>
                    </a:lnTo>
                    <a:lnTo>
                      <a:pt x="133" y="133"/>
                    </a:lnTo>
                    <a:lnTo>
                      <a:pt x="95" y="235"/>
                    </a:lnTo>
                    <a:lnTo>
                      <a:pt x="50" y="251"/>
                    </a:lnTo>
                    <a:lnTo>
                      <a:pt x="0" y="285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579680" y="4413240"/>
                <a:ext cx="152640" cy="173520"/>
              </a:xfrm>
              <a:custGeom>
                <a:avLst/>
                <a:gdLst/>
                <a:ahLst/>
                <a:rect l="0" t="0" r="r" b="b"/>
                <a:pathLst>
                  <a:path w="424" h="482">
                    <a:moveTo>
                      <a:pt x="0" y="366"/>
                    </a:moveTo>
                    <a:lnTo>
                      <a:pt x="39" y="383"/>
                    </a:lnTo>
                    <a:lnTo>
                      <a:pt x="132" y="366"/>
                    </a:lnTo>
                    <a:lnTo>
                      <a:pt x="171" y="466"/>
                    </a:lnTo>
                    <a:lnTo>
                      <a:pt x="225" y="482"/>
                    </a:lnTo>
                    <a:lnTo>
                      <a:pt x="252" y="366"/>
                    </a:lnTo>
                    <a:lnTo>
                      <a:pt x="239" y="332"/>
                    </a:lnTo>
                    <a:lnTo>
                      <a:pt x="265" y="282"/>
                    </a:lnTo>
                    <a:lnTo>
                      <a:pt x="318" y="366"/>
                    </a:lnTo>
                    <a:lnTo>
                      <a:pt x="358" y="366"/>
                    </a:lnTo>
                    <a:lnTo>
                      <a:pt x="358" y="315"/>
                    </a:lnTo>
                    <a:lnTo>
                      <a:pt x="384" y="315"/>
                    </a:lnTo>
                    <a:lnTo>
                      <a:pt x="424" y="233"/>
                    </a:lnTo>
                    <a:lnTo>
                      <a:pt x="397" y="216"/>
                    </a:lnTo>
                    <a:lnTo>
                      <a:pt x="397" y="133"/>
                    </a:lnTo>
                    <a:lnTo>
                      <a:pt x="397" y="66"/>
                    </a:lnTo>
                    <a:lnTo>
                      <a:pt x="338" y="49"/>
                    </a:lnTo>
                    <a:lnTo>
                      <a:pt x="292" y="66"/>
                    </a:lnTo>
                    <a:lnTo>
                      <a:pt x="252" y="66"/>
                    </a:lnTo>
                    <a:lnTo>
                      <a:pt x="191" y="49"/>
                    </a:lnTo>
                    <a:lnTo>
                      <a:pt x="145" y="0"/>
                    </a:lnTo>
                    <a:lnTo>
                      <a:pt x="132" y="49"/>
                    </a:lnTo>
                    <a:lnTo>
                      <a:pt x="125" y="150"/>
                    </a:lnTo>
                    <a:lnTo>
                      <a:pt x="79" y="150"/>
                    </a:lnTo>
                    <a:lnTo>
                      <a:pt x="66" y="233"/>
                    </a:lnTo>
                    <a:lnTo>
                      <a:pt x="39" y="266"/>
                    </a:lnTo>
                    <a:lnTo>
                      <a:pt x="0" y="366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484280" y="4906800"/>
                <a:ext cx="954360" cy="3591360"/>
              </a:xfrm>
              <a:custGeom>
                <a:avLst/>
                <a:gdLst/>
                <a:ahLst/>
                <a:rect l="0" t="0" r="r" b="b"/>
                <a:pathLst>
                  <a:path w="2651" h="9976">
                    <a:moveTo>
                      <a:pt x="206" y="442"/>
                    </a:moveTo>
                    <a:lnTo>
                      <a:pt x="238" y="328"/>
                    </a:lnTo>
                    <a:lnTo>
                      <a:pt x="303" y="164"/>
                    </a:lnTo>
                    <a:lnTo>
                      <a:pt x="399" y="65"/>
                    </a:lnTo>
                    <a:lnTo>
                      <a:pt x="451" y="0"/>
                    </a:lnTo>
                    <a:lnTo>
                      <a:pt x="502" y="16"/>
                    </a:lnTo>
                    <a:lnTo>
                      <a:pt x="490" y="98"/>
                    </a:lnTo>
                    <a:lnTo>
                      <a:pt x="432" y="180"/>
                    </a:lnTo>
                    <a:lnTo>
                      <a:pt x="419" y="344"/>
                    </a:lnTo>
                    <a:lnTo>
                      <a:pt x="432" y="475"/>
                    </a:lnTo>
                    <a:lnTo>
                      <a:pt x="483" y="475"/>
                    </a:lnTo>
                    <a:lnTo>
                      <a:pt x="502" y="328"/>
                    </a:lnTo>
                    <a:lnTo>
                      <a:pt x="515" y="180"/>
                    </a:lnTo>
                    <a:lnTo>
                      <a:pt x="548" y="229"/>
                    </a:lnTo>
                    <a:lnTo>
                      <a:pt x="586" y="311"/>
                    </a:lnTo>
                    <a:lnTo>
                      <a:pt x="651" y="278"/>
                    </a:lnTo>
                    <a:lnTo>
                      <a:pt x="689" y="344"/>
                    </a:lnTo>
                    <a:lnTo>
                      <a:pt x="702" y="426"/>
                    </a:lnTo>
                    <a:lnTo>
                      <a:pt x="799" y="393"/>
                    </a:lnTo>
                    <a:lnTo>
                      <a:pt x="993" y="344"/>
                    </a:lnTo>
                    <a:lnTo>
                      <a:pt x="1063" y="607"/>
                    </a:lnTo>
                    <a:lnTo>
                      <a:pt x="1186" y="738"/>
                    </a:lnTo>
                    <a:lnTo>
                      <a:pt x="1180" y="853"/>
                    </a:lnTo>
                    <a:lnTo>
                      <a:pt x="1231" y="787"/>
                    </a:lnTo>
                    <a:lnTo>
                      <a:pt x="1289" y="787"/>
                    </a:lnTo>
                    <a:lnTo>
                      <a:pt x="1361" y="902"/>
                    </a:lnTo>
                    <a:lnTo>
                      <a:pt x="1445" y="885"/>
                    </a:lnTo>
                    <a:lnTo>
                      <a:pt x="1516" y="902"/>
                    </a:lnTo>
                    <a:lnTo>
                      <a:pt x="1632" y="1115"/>
                    </a:lnTo>
                    <a:lnTo>
                      <a:pt x="1754" y="1378"/>
                    </a:lnTo>
                    <a:lnTo>
                      <a:pt x="1806" y="1673"/>
                    </a:lnTo>
                    <a:lnTo>
                      <a:pt x="1774" y="1903"/>
                    </a:lnTo>
                    <a:lnTo>
                      <a:pt x="1922" y="1985"/>
                    </a:lnTo>
                    <a:lnTo>
                      <a:pt x="2167" y="2099"/>
                    </a:lnTo>
                    <a:lnTo>
                      <a:pt x="2419" y="2231"/>
                    </a:lnTo>
                    <a:lnTo>
                      <a:pt x="2580" y="2493"/>
                    </a:lnTo>
                    <a:lnTo>
                      <a:pt x="2651" y="2740"/>
                    </a:lnTo>
                    <a:lnTo>
                      <a:pt x="2651" y="3052"/>
                    </a:lnTo>
                    <a:lnTo>
                      <a:pt x="2586" y="3331"/>
                    </a:lnTo>
                    <a:lnTo>
                      <a:pt x="2515" y="3479"/>
                    </a:lnTo>
                    <a:lnTo>
                      <a:pt x="2470" y="3577"/>
                    </a:lnTo>
                    <a:lnTo>
                      <a:pt x="2419" y="3774"/>
                    </a:lnTo>
                    <a:lnTo>
                      <a:pt x="2412" y="3954"/>
                    </a:lnTo>
                    <a:lnTo>
                      <a:pt x="2419" y="4184"/>
                    </a:lnTo>
                    <a:lnTo>
                      <a:pt x="2393" y="4414"/>
                    </a:lnTo>
                    <a:lnTo>
                      <a:pt x="2354" y="4463"/>
                    </a:lnTo>
                    <a:lnTo>
                      <a:pt x="2341" y="4594"/>
                    </a:lnTo>
                    <a:lnTo>
                      <a:pt x="2296" y="4693"/>
                    </a:lnTo>
                    <a:lnTo>
                      <a:pt x="2290" y="4807"/>
                    </a:lnTo>
                    <a:lnTo>
                      <a:pt x="2232" y="4939"/>
                    </a:lnTo>
                    <a:lnTo>
                      <a:pt x="2141" y="5168"/>
                    </a:lnTo>
                    <a:lnTo>
                      <a:pt x="2064" y="5234"/>
                    </a:lnTo>
                    <a:lnTo>
                      <a:pt x="2012" y="5218"/>
                    </a:lnTo>
                    <a:lnTo>
                      <a:pt x="1916" y="5332"/>
                    </a:lnTo>
                    <a:lnTo>
                      <a:pt x="1819" y="5595"/>
                    </a:lnTo>
                    <a:lnTo>
                      <a:pt x="1800" y="5693"/>
                    </a:lnTo>
                    <a:lnTo>
                      <a:pt x="1800" y="5825"/>
                    </a:lnTo>
                    <a:lnTo>
                      <a:pt x="1819" y="5972"/>
                    </a:lnTo>
                    <a:lnTo>
                      <a:pt x="1774" y="6120"/>
                    </a:lnTo>
                    <a:lnTo>
                      <a:pt x="1774" y="6235"/>
                    </a:lnTo>
                    <a:lnTo>
                      <a:pt x="1696" y="6366"/>
                    </a:lnTo>
                    <a:lnTo>
                      <a:pt x="1638" y="6464"/>
                    </a:lnTo>
                    <a:lnTo>
                      <a:pt x="1593" y="6612"/>
                    </a:lnTo>
                    <a:lnTo>
                      <a:pt x="1574" y="6760"/>
                    </a:lnTo>
                    <a:lnTo>
                      <a:pt x="1509" y="6940"/>
                    </a:lnTo>
                    <a:lnTo>
                      <a:pt x="1484" y="6907"/>
                    </a:lnTo>
                    <a:lnTo>
                      <a:pt x="1432" y="6907"/>
                    </a:lnTo>
                    <a:lnTo>
                      <a:pt x="1368" y="6973"/>
                    </a:lnTo>
                    <a:lnTo>
                      <a:pt x="1413" y="7055"/>
                    </a:lnTo>
                    <a:lnTo>
                      <a:pt x="1413" y="7219"/>
                    </a:lnTo>
                    <a:lnTo>
                      <a:pt x="1406" y="7350"/>
                    </a:lnTo>
                    <a:lnTo>
                      <a:pt x="1374" y="7449"/>
                    </a:lnTo>
                    <a:lnTo>
                      <a:pt x="1289" y="7465"/>
                    </a:lnTo>
                    <a:lnTo>
                      <a:pt x="1225" y="7515"/>
                    </a:lnTo>
                    <a:lnTo>
                      <a:pt x="1192" y="7614"/>
                    </a:lnTo>
                    <a:lnTo>
                      <a:pt x="1192" y="7778"/>
                    </a:lnTo>
                    <a:lnTo>
                      <a:pt x="1115" y="7794"/>
                    </a:lnTo>
                    <a:lnTo>
                      <a:pt x="1051" y="7778"/>
                    </a:lnTo>
                    <a:lnTo>
                      <a:pt x="1031" y="7844"/>
                    </a:lnTo>
                    <a:lnTo>
                      <a:pt x="1063" y="7909"/>
                    </a:lnTo>
                    <a:lnTo>
                      <a:pt x="1044" y="8155"/>
                    </a:lnTo>
                    <a:lnTo>
                      <a:pt x="1018" y="8369"/>
                    </a:lnTo>
                    <a:lnTo>
                      <a:pt x="935" y="8369"/>
                    </a:lnTo>
                    <a:lnTo>
                      <a:pt x="909" y="8451"/>
                    </a:lnTo>
                    <a:lnTo>
                      <a:pt x="915" y="8615"/>
                    </a:lnTo>
                    <a:lnTo>
                      <a:pt x="960" y="8615"/>
                    </a:lnTo>
                    <a:lnTo>
                      <a:pt x="993" y="8713"/>
                    </a:lnTo>
                    <a:lnTo>
                      <a:pt x="973" y="8877"/>
                    </a:lnTo>
                    <a:lnTo>
                      <a:pt x="928" y="8894"/>
                    </a:lnTo>
                    <a:lnTo>
                      <a:pt x="857" y="8959"/>
                    </a:lnTo>
                    <a:lnTo>
                      <a:pt x="838" y="9090"/>
                    </a:lnTo>
                    <a:lnTo>
                      <a:pt x="831" y="9287"/>
                    </a:lnTo>
                    <a:lnTo>
                      <a:pt x="786" y="9386"/>
                    </a:lnTo>
                    <a:lnTo>
                      <a:pt x="947" y="9714"/>
                    </a:lnTo>
                    <a:lnTo>
                      <a:pt x="993" y="9878"/>
                    </a:lnTo>
                    <a:lnTo>
                      <a:pt x="967" y="9976"/>
                    </a:lnTo>
                    <a:lnTo>
                      <a:pt x="896" y="9911"/>
                    </a:lnTo>
                    <a:lnTo>
                      <a:pt x="838" y="9779"/>
                    </a:lnTo>
                    <a:lnTo>
                      <a:pt x="754" y="9681"/>
                    </a:lnTo>
                    <a:lnTo>
                      <a:pt x="677" y="9517"/>
                    </a:lnTo>
                    <a:lnTo>
                      <a:pt x="625" y="9320"/>
                    </a:lnTo>
                    <a:lnTo>
                      <a:pt x="619" y="9156"/>
                    </a:lnTo>
                    <a:lnTo>
                      <a:pt x="631" y="9025"/>
                    </a:lnTo>
                    <a:lnTo>
                      <a:pt x="625" y="7958"/>
                    </a:lnTo>
                    <a:lnTo>
                      <a:pt x="606" y="7778"/>
                    </a:lnTo>
                    <a:lnTo>
                      <a:pt x="548" y="7581"/>
                    </a:lnTo>
                    <a:lnTo>
                      <a:pt x="548" y="7400"/>
                    </a:lnTo>
                    <a:lnTo>
                      <a:pt x="586" y="7186"/>
                    </a:lnTo>
                    <a:lnTo>
                      <a:pt x="619" y="6924"/>
                    </a:lnTo>
                    <a:lnTo>
                      <a:pt x="606" y="6661"/>
                    </a:lnTo>
                    <a:lnTo>
                      <a:pt x="599" y="6546"/>
                    </a:lnTo>
                    <a:lnTo>
                      <a:pt x="593" y="6399"/>
                    </a:lnTo>
                    <a:lnTo>
                      <a:pt x="612" y="6333"/>
                    </a:lnTo>
                    <a:lnTo>
                      <a:pt x="625" y="6038"/>
                    </a:lnTo>
                    <a:lnTo>
                      <a:pt x="612" y="5890"/>
                    </a:lnTo>
                    <a:lnTo>
                      <a:pt x="638" y="5529"/>
                    </a:lnTo>
                    <a:lnTo>
                      <a:pt x="612" y="5218"/>
                    </a:lnTo>
                    <a:lnTo>
                      <a:pt x="631" y="5054"/>
                    </a:lnTo>
                    <a:lnTo>
                      <a:pt x="664" y="4742"/>
                    </a:lnTo>
                    <a:lnTo>
                      <a:pt x="631" y="4545"/>
                    </a:lnTo>
                    <a:lnTo>
                      <a:pt x="567" y="4397"/>
                    </a:lnTo>
                    <a:lnTo>
                      <a:pt x="548" y="4233"/>
                    </a:lnTo>
                    <a:lnTo>
                      <a:pt x="477" y="4086"/>
                    </a:lnTo>
                    <a:lnTo>
                      <a:pt x="399" y="3987"/>
                    </a:lnTo>
                    <a:lnTo>
                      <a:pt x="290" y="3938"/>
                    </a:lnTo>
                    <a:lnTo>
                      <a:pt x="238" y="3725"/>
                    </a:lnTo>
                    <a:lnTo>
                      <a:pt x="167" y="3511"/>
                    </a:lnTo>
                    <a:lnTo>
                      <a:pt x="161" y="3331"/>
                    </a:lnTo>
                    <a:lnTo>
                      <a:pt x="154" y="3167"/>
                    </a:lnTo>
                    <a:lnTo>
                      <a:pt x="135" y="3052"/>
                    </a:lnTo>
                    <a:lnTo>
                      <a:pt x="96" y="2921"/>
                    </a:lnTo>
                    <a:lnTo>
                      <a:pt x="45" y="2855"/>
                    </a:lnTo>
                    <a:lnTo>
                      <a:pt x="6" y="2724"/>
                    </a:lnTo>
                    <a:lnTo>
                      <a:pt x="51" y="2609"/>
                    </a:lnTo>
                    <a:lnTo>
                      <a:pt x="51" y="2329"/>
                    </a:lnTo>
                    <a:lnTo>
                      <a:pt x="25" y="2181"/>
                    </a:lnTo>
                    <a:lnTo>
                      <a:pt x="0" y="2034"/>
                    </a:lnTo>
                    <a:lnTo>
                      <a:pt x="25" y="1821"/>
                    </a:lnTo>
                    <a:lnTo>
                      <a:pt x="128" y="1296"/>
                    </a:lnTo>
                    <a:lnTo>
                      <a:pt x="135" y="1066"/>
                    </a:lnTo>
                    <a:lnTo>
                      <a:pt x="193" y="820"/>
                    </a:lnTo>
                    <a:lnTo>
                      <a:pt x="193" y="689"/>
                    </a:lnTo>
                    <a:lnTo>
                      <a:pt x="206" y="442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" name=""/>
          <p:cNvSpPr txBox="1"/>
          <p:nvPr/>
        </p:nvSpPr>
        <p:spPr>
          <a:xfrm>
            <a:off x="5765760" y="8623440"/>
            <a:ext cx="488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B1AA5513-330E-4C71-A6D6-92FF845EC276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" name=""/>
          <p:cNvGrpSpPr/>
          <p:nvPr/>
        </p:nvGrpSpPr>
        <p:grpSpPr>
          <a:xfrm>
            <a:off x="6257880" y="8429760"/>
            <a:ext cx="388080" cy="549720"/>
            <a:chOff x="6257880" y="8429760"/>
            <a:chExt cx="388080" cy="549720"/>
          </a:xfrm>
        </p:grpSpPr>
        <p:sp>
          <p:nvSpPr>
            <p:cNvPr id="40" name=""/>
            <p:cNvSpPr/>
            <p:nvPr/>
          </p:nvSpPr>
          <p:spPr>
            <a:xfrm>
              <a:off x="6380280" y="8585280"/>
              <a:ext cx="43200" cy="54360"/>
            </a:xfrm>
            <a:custGeom>
              <a:avLst/>
              <a:gdLst/>
              <a:ahLst/>
              <a:rect l="0" t="0" r="r" b="b"/>
              <a:pathLst>
                <a:path w="120" h="151">
                  <a:moveTo>
                    <a:pt x="0" y="69"/>
                  </a:moveTo>
                  <a:lnTo>
                    <a:pt x="19" y="75"/>
                  </a:lnTo>
                  <a:lnTo>
                    <a:pt x="29" y="96"/>
                  </a:lnTo>
                  <a:lnTo>
                    <a:pt x="24" y="151"/>
                  </a:lnTo>
                  <a:lnTo>
                    <a:pt x="39" y="107"/>
                  </a:lnTo>
                  <a:lnTo>
                    <a:pt x="55" y="59"/>
                  </a:lnTo>
                  <a:lnTo>
                    <a:pt x="90" y="59"/>
                  </a:lnTo>
                  <a:lnTo>
                    <a:pt x="120" y="0"/>
                  </a:lnTo>
                  <a:lnTo>
                    <a:pt x="76" y="0"/>
                  </a:lnTo>
                  <a:lnTo>
                    <a:pt x="0" y="65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240" bIns="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380280" y="8585280"/>
              <a:ext cx="43200" cy="54360"/>
            </a:xfrm>
            <a:custGeom>
              <a:avLst/>
              <a:gdLst/>
              <a:ahLst/>
              <a:rect l="0" t="0" r="r" b="b"/>
              <a:pathLst>
                <a:path fill="none" w="120" h="151">
                  <a:moveTo>
                    <a:pt x="0" y="69"/>
                  </a:moveTo>
                  <a:lnTo>
                    <a:pt x="19" y="75"/>
                  </a:lnTo>
                  <a:lnTo>
                    <a:pt x="29" y="96"/>
                  </a:lnTo>
                  <a:lnTo>
                    <a:pt x="24" y="151"/>
                  </a:lnTo>
                  <a:lnTo>
                    <a:pt x="39" y="107"/>
                  </a:lnTo>
                  <a:lnTo>
                    <a:pt x="55" y="59"/>
                  </a:lnTo>
                  <a:lnTo>
                    <a:pt x="90" y="59"/>
                  </a:lnTo>
                  <a:lnTo>
                    <a:pt x="120" y="0"/>
                  </a:lnTo>
                  <a:lnTo>
                    <a:pt x="76" y="0"/>
                  </a:lnTo>
                  <a:lnTo>
                    <a:pt x="0" y="65"/>
                  </a:lnTo>
                  <a:lnTo>
                    <a:pt x="0" y="6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86680" y="8561520"/>
              <a:ext cx="359280" cy="417960"/>
            </a:xfrm>
            <a:custGeom>
              <a:avLst/>
              <a:gdLst/>
              <a:ahLst/>
              <a:rect l="0" t="0" r="r" b="b"/>
              <a:pathLst>
                <a:path w="998" h="1161">
                  <a:moveTo>
                    <a:pt x="571" y="0"/>
                  </a:moveTo>
                  <a:lnTo>
                    <a:pt x="567" y="4"/>
                  </a:lnTo>
                  <a:lnTo>
                    <a:pt x="559" y="12"/>
                  </a:lnTo>
                  <a:lnTo>
                    <a:pt x="545" y="27"/>
                  </a:lnTo>
                  <a:lnTo>
                    <a:pt x="528" y="46"/>
                  </a:lnTo>
                  <a:lnTo>
                    <a:pt x="508" y="69"/>
                  </a:lnTo>
                  <a:lnTo>
                    <a:pt x="484" y="93"/>
                  </a:lnTo>
                  <a:lnTo>
                    <a:pt x="461" y="120"/>
                  </a:lnTo>
                  <a:lnTo>
                    <a:pt x="435" y="148"/>
                  </a:lnTo>
                  <a:lnTo>
                    <a:pt x="410" y="175"/>
                  </a:lnTo>
                  <a:lnTo>
                    <a:pt x="385" y="201"/>
                  </a:lnTo>
                  <a:lnTo>
                    <a:pt x="363" y="226"/>
                  </a:lnTo>
                  <a:lnTo>
                    <a:pt x="342" y="250"/>
                  </a:lnTo>
                  <a:lnTo>
                    <a:pt x="324" y="269"/>
                  </a:lnTo>
                  <a:lnTo>
                    <a:pt x="310" y="281"/>
                  </a:lnTo>
                  <a:lnTo>
                    <a:pt x="302" y="293"/>
                  </a:lnTo>
                  <a:lnTo>
                    <a:pt x="298" y="295"/>
                  </a:lnTo>
                  <a:lnTo>
                    <a:pt x="300" y="295"/>
                  </a:lnTo>
                  <a:lnTo>
                    <a:pt x="302" y="297"/>
                  </a:lnTo>
                  <a:lnTo>
                    <a:pt x="307" y="297"/>
                  </a:lnTo>
                  <a:lnTo>
                    <a:pt x="312" y="299"/>
                  </a:lnTo>
                  <a:lnTo>
                    <a:pt x="317" y="299"/>
                  </a:lnTo>
                  <a:lnTo>
                    <a:pt x="325" y="302"/>
                  </a:lnTo>
                  <a:lnTo>
                    <a:pt x="332" y="304"/>
                  </a:lnTo>
                  <a:lnTo>
                    <a:pt x="341" y="304"/>
                  </a:lnTo>
                  <a:lnTo>
                    <a:pt x="347" y="306"/>
                  </a:lnTo>
                  <a:lnTo>
                    <a:pt x="354" y="308"/>
                  </a:lnTo>
                  <a:lnTo>
                    <a:pt x="363" y="308"/>
                  </a:lnTo>
                  <a:lnTo>
                    <a:pt x="368" y="310"/>
                  </a:lnTo>
                  <a:lnTo>
                    <a:pt x="373" y="310"/>
                  </a:lnTo>
                  <a:lnTo>
                    <a:pt x="378" y="312"/>
                  </a:lnTo>
                  <a:lnTo>
                    <a:pt x="380" y="312"/>
                  </a:lnTo>
                  <a:lnTo>
                    <a:pt x="381" y="312"/>
                  </a:lnTo>
                  <a:lnTo>
                    <a:pt x="376" y="321"/>
                  </a:lnTo>
                  <a:lnTo>
                    <a:pt x="364" y="346"/>
                  </a:lnTo>
                  <a:lnTo>
                    <a:pt x="346" y="384"/>
                  </a:lnTo>
                  <a:lnTo>
                    <a:pt x="322" y="433"/>
                  </a:lnTo>
                  <a:lnTo>
                    <a:pt x="293" y="490"/>
                  </a:lnTo>
                  <a:lnTo>
                    <a:pt x="261" y="556"/>
                  </a:lnTo>
                  <a:lnTo>
                    <a:pt x="225" y="626"/>
                  </a:lnTo>
                  <a:lnTo>
                    <a:pt x="191" y="698"/>
                  </a:lnTo>
                  <a:lnTo>
                    <a:pt x="155" y="770"/>
                  </a:lnTo>
                  <a:lnTo>
                    <a:pt x="120" y="840"/>
                  </a:lnTo>
                  <a:lnTo>
                    <a:pt x="87" y="905"/>
                  </a:lnTo>
                  <a:lnTo>
                    <a:pt x="59" y="964"/>
                  </a:lnTo>
                  <a:lnTo>
                    <a:pt x="35" y="1013"/>
                  </a:lnTo>
                  <a:lnTo>
                    <a:pt x="16" y="1051"/>
                  </a:lnTo>
                  <a:lnTo>
                    <a:pt x="5" y="1076"/>
                  </a:lnTo>
                  <a:lnTo>
                    <a:pt x="0" y="1085"/>
                  </a:lnTo>
                  <a:lnTo>
                    <a:pt x="1" y="1083"/>
                  </a:lnTo>
                  <a:lnTo>
                    <a:pt x="8" y="1081"/>
                  </a:lnTo>
                  <a:lnTo>
                    <a:pt x="15" y="1079"/>
                  </a:lnTo>
                  <a:lnTo>
                    <a:pt x="27" y="1074"/>
                  </a:lnTo>
                  <a:lnTo>
                    <a:pt x="40" y="1068"/>
                  </a:lnTo>
                  <a:lnTo>
                    <a:pt x="57" y="1064"/>
                  </a:lnTo>
                  <a:lnTo>
                    <a:pt x="76" y="1057"/>
                  </a:lnTo>
                  <a:lnTo>
                    <a:pt x="94" y="1053"/>
                  </a:lnTo>
                  <a:lnTo>
                    <a:pt x="116" y="1047"/>
                  </a:lnTo>
                  <a:lnTo>
                    <a:pt x="138" y="1043"/>
                  </a:lnTo>
                  <a:lnTo>
                    <a:pt x="162" y="1038"/>
                  </a:lnTo>
                  <a:lnTo>
                    <a:pt x="184" y="1034"/>
                  </a:lnTo>
                  <a:lnTo>
                    <a:pt x="208" y="1032"/>
                  </a:lnTo>
                  <a:lnTo>
                    <a:pt x="231" y="1032"/>
                  </a:lnTo>
                  <a:lnTo>
                    <a:pt x="256" y="1032"/>
                  </a:lnTo>
                  <a:lnTo>
                    <a:pt x="278" y="1034"/>
                  </a:lnTo>
                  <a:lnTo>
                    <a:pt x="298" y="1038"/>
                  </a:lnTo>
                  <a:lnTo>
                    <a:pt x="315" y="1045"/>
                  </a:lnTo>
                  <a:lnTo>
                    <a:pt x="329" y="1053"/>
                  </a:lnTo>
                  <a:lnTo>
                    <a:pt x="339" y="1062"/>
                  </a:lnTo>
                  <a:lnTo>
                    <a:pt x="347" y="1072"/>
                  </a:lnTo>
                  <a:lnTo>
                    <a:pt x="356" y="1083"/>
                  </a:lnTo>
                  <a:lnTo>
                    <a:pt x="363" y="1093"/>
                  </a:lnTo>
                  <a:lnTo>
                    <a:pt x="369" y="1104"/>
                  </a:lnTo>
                  <a:lnTo>
                    <a:pt x="376" y="1115"/>
                  </a:lnTo>
                  <a:lnTo>
                    <a:pt x="383" y="1125"/>
                  </a:lnTo>
                  <a:lnTo>
                    <a:pt x="391" y="1134"/>
                  </a:lnTo>
                  <a:lnTo>
                    <a:pt x="402" y="1142"/>
                  </a:lnTo>
                  <a:lnTo>
                    <a:pt x="413" y="1151"/>
                  </a:lnTo>
                  <a:lnTo>
                    <a:pt x="429" y="1155"/>
                  </a:lnTo>
                  <a:lnTo>
                    <a:pt x="447" y="1159"/>
                  </a:lnTo>
                  <a:lnTo>
                    <a:pt x="469" y="1161"/>
                  </a:lnTo>
                  <a:lnTo>
                    <a:pt x="491" y="1159"/>
                  </a:lnTo>
                  <a:lnTo>
                    <a:pt x="513" y="1157"/>
                  </a:lnTo>
                  <a:lnTo>
                    <a:pt x="535" y="1151"/>
                  </a:lnTo>
                  <a:lnTo>
                    <a:pt x="555" y="1144"/>
                  </a:lnTo>
                  <a:lnTo>
                    <a:pt x="576" y="1136"/>
                  </a:lnTo>
                  <a:lnTo>
                    <a:pt x="596" y="1127"/>
                  </a:lnTo>
                  <a:lnTo>
                    <a:pt x="615" y="1117"/>
                  </a:lnTo>
                  <a:lnTo>
                    <a:pt x="635" y="1106"/>
                  </a:lnTo>
                  <a:lnTo>
                    <a:pt x="654" y="1098"/>
                  </a:lnTo>
                  <a:lnTo>
                    <a:pt x="672" y="1087"/>
                  </a:lnTo>
                  <a:lnTo>
                    <a:pt x="689" y="1076"/>
                  </a:lnTo>
                  <a:lnTo>
                    <a:pt x="708" y="1066"/>
                  </a:lnTo>
                  <a:lnTo>
                    <a:pt x="726" y="1057"/>
                  </a:lnTo>
                  <a:lnTo>
                    <a:pt x="745" y="1051"/>
                  </a:lnTo>
                  <a:lnTo>
                    <a:pt x="765" y="1045"/>
                  </a:lnTo>
                  <a:lnTo>
                    <a:pt x="783" y="1040"/>
                  </a:lnTo>
                  <a:lnTo>
                    <a:pt x="800" y="1038"/>
                  </a:lnTo>
                  <a:lnTo>
                    <a:pt x="815" y="1036"/>
                  </a:lnTo>
                  <a:lnTo>
                    <a:pt x="827" y="1038"/>
                  </a:lnTo>
                  <a:lnTo>
                    <a:pt x="837" y="1040"/>
                  </a:lnTo>
                  <a:lnTo>
                    <a:pt x="848" y="1043"/>
                  </a:lnTo>
                  <a:lnTo>
                    <a:pt x="854" y="1047"/>
                  </a:lnTo>
                  <a:lnTo>
                    <a:pt x="859" y="1053"/>
                  </a:lnTo>
                  <a:lnTo>
                    <a:pt x="864" y="1057"/>
                  </a:lnTo>
                  <a:lnTo>
                    <a:pt x="866" y="1064"/>
                  </a:lnTo>
                  <a:lnTo>
                    <a:pt x="868" y="1068"/>
                  </a:lnTo>
                  <a:lnTo>
                    <a:pt x="870" y="1074"/>
                  </a:lnTo>
                  <a:lnTo>
                    <a:pt x="871" y="1079"/>
                  </a:lnTo>
                  <a:lnTo>
                    <a:pt x="871" y="1083"/>
                  </a:lnTo>
                  <a:lnTo>
                    <a:pt x="870" y="1087"/>
                  </a:lnTo>
                  <a:lnTo>
                    <a:pt x="870" y="1089"/>
                  </a:lnTo>
                  <a:lnTo>
                    <a:pt x="871" y="1087"/>
                  </a:lnTo>
                  <a:lnTo>
                    <a:pt x="875" y="1085"/>
                  </a:lnTo>
                  <a:lnTo>
                    <a:pt x="881" y="1079"/>
                  </a:lnTo>
                  <a:lnTo>
                    <a:pt x="890" y="1072"/>
                  </a:lnTo>
                  <a:lnTo>
                    <a:pt x="900" y="1064"/>
                  </a:lnTo>
                  <a:lnTo>
                    <a:pt x="910" y="1053"/>
                  </a:lnTo>
                  <a:lnTo>
                    <a:pt x="922" y="1043"/>
                  </a:lnTo>
                  <a:lnTo>
                    <a:pt x="934" y="1032"/>
                  </a:lnTo>
                  <a:lnTo>
                    <a:pt x="946" y="1021"/>
                  </a:lnTo>
                  <a:lnTo>
                    <a:pt x="957" y="1011"/>
                  </a:lnTo>
                  <a:lnTo>
                    <a:pt x="968" y="1002"/>
                  </a:lnTo>
                  <a:lnTo>
                    <a:pt x="978" y="992"/>
                  </a:lnTo>
                  <a:lnTo>
                    <a:pt x="986" y="985"/>
                  </a:lnTo>
                  <a:lnTo>
                    <a:pt x="993" y="979"/>
                  </a:lnTo>
                  <a:lnTo>
                    <a:pt x="996" y="977"/>
                  </a:lnTo>
                  <a:lnTo>
                    <a:pt x="998" y="975"/>
                  </a:lnTo>
                  <a:lnTo>
                    <a:pt x="993" y="964"/>
                  </a:lnTo>
                  <a:lnTo>
                    <a:pt x="979" y="932"/>
                  </a:lnTo>
                  <a:lnTo>
                    <a:pt x="959" y="886"/>
                  </a:lnTo>
                  <a:lnTo>
                    <a:pt x="932" y="821"/>
                  </a:lnTo>
                  <a:lnTo>
                    <a:pt x="902" y="749"/>
                  </a:lnTo>
                  <a:lnTo>
                    <a:pt x="864" y="666"/>
                  </a:lnTo>
                  <a:lnTo>
                    <a:pt x="827" y="579"/>
                  </a:lnTo>
                  <a:lnTo>
                    <a:pt x="788" y="488"/>
                  </a:lnTo>
                  <a:lnTo>
                    <a:pt x="749" y="397"/>
                  </a:lnTo>
                  <a:lnTo>
                    <a:pt x="709" y="310"/>
                  </a:lnTo>
                  <a:lnTo>
                    <a:pt x="674" y="226"/>
                  </a:lnTo>
                  <a:lnTo>
                    <a:pt x="642" y="152"/>
                  </a:lnTo>
                  <a:lnTo>
                    <a:pt x="615" y="91"/>
                  </a:lnTo>
                  <a:lnTo>
                    <a:pt x="594" y="42"/>
                  </a:lnTo>
                  <a:lnTo>
                    <a:pt x="581" y="12"/>
                  </a:lnTo>
                  <a:lnTo>
                    <a:pt x="576" y="0"/>
                  </a:lnTo>
                  <a:lnTo>
                    <a:pt x="57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286680" y="8561520"/>
              <a:ext cx="359280" cy="417960"/>
            </a:xfrm>
            <a:custGeom>
              <a:avLst/>
              <a:gdLst/>
              <a:ahLst/>
              <a:rect l="0" t="0" r="r" b="b"/>
              <a:pathLst>
                <a:path fill="none" w="998" h="1161">
                  <a:moveTo>
                    <a:pt x="571" y="0"/>
                  </a:moveTo>
                  <a:lnTo>
                    <a:pt x="567" y="4"/>
                  </a:lnTo>
                  <a:lnTo>
                    <a:pt x="559" y="12"/>
                  </a:lnTo>
                  <a:lnTo>
                    <a:pt x="545" y="27"/>
                  </a:lnTo>
                  <a:lnTo>
                    <a:pt x="528" y="46"/>
                  </a:lnTo>
                  <a:lnTo>
                    <a:pt x="508" y="69"/>
                  </a:lnTo>
                  <a:lnTo>
                    <a:pt x="484" y="93"/>
                  </a:lnTo>
                  <a:lnTo>
                    <a:pt x="461" y="120"/>
                  </a:lnTo>
                  <a:lnTo>
                    <a:pt x="435" y="148"/>
                  </a:lnTo>
                  <a:lnTo>
                    <a:pt x="410" y="175"/>
                  </a:lnTo>
                  <a:lnTo>
                    <a:pt x="385" y="201"/>
                  </a:lnTo>
                  <a:lnTo>
                    <a:pt x="363" y="226"/>
                  </a:lnTo>
                  <a:lnTo>
                    <a:pt x="342" y="250"/>
                  </a:lnTo>
                  <a:lnTo>
                    <a:pt x="324" y="269"/>
                  </a:lnTo>
                  <a:lnTo>
                    <a:pt x="310" y="281"/>
                  </a:lnTo>
                  <a:lnTo>
                    <a:pt x="302" y="293"/>
                  </a:lnTo>
                  <a:lnTo>
                    <a:pt x="298" y="295"/>
                  </a:lnTo>
                  <a:lnTo>
                    <a:pt x="300" y="295"/>
                  </a:lnTo>
                  <a:lnTo>
                    <a:pt x="302" y="297"/>
                  </a:lnTo>
                  <a:lnTo>
                    <a:pt x="307" y="297"/>
                  </a:lnTo>
                  <a:lnTo>
                    <a:pt x="312" y="299"/>
                  </a:lnTo>
                  <a:lnTo>
                    <a:pt x="317" y="299"/>
                  </a:lnTo>
                  <a:lnTo>
                    <a:pt x="325" y="302"/>
                  </a:lnTo>
                  <a:lnTo>
                    <a:pt x="332" y="304"/>
                  </a:lnTo>
                  <a:lnTo>
                    <a:pt x="341" y="304"/>
                  </a:lnTo>
                  <a:lnTo>
                    <a:pt x="347" y="306"/>
                  </a:lnTo>
                  <a:lnTo>
                    <a:pt x="354" y="308"/>
                  </a:lnTo>
                  <a:lnTo>
                    <a:pt x="363" y="308"/>
                  </a:lnTo>
                  <a:lnTo>
                    <a:pt x="368" y="310"/>
                  </a:lnTo>
                  <a:lnTo>
                    <a:pt x="373" y="310"/>
                  </a:lnTo>
                  <a:lnTo>
                    <a:pt x="378" y="312"/>
                  </a:lnTo>
                  <a:lnTo>
                    <a:pt x="380" y="312"/>
                  </a:lnTo>
                  <a:lnTo>
                    <a:pt x="381" y="312"/>
                  </a:lnTo>
                  <a:lnTo>
                    <a:pt x="376" y="321"/>
                  </a:lnTo>
                  <a:lnTo>
                    <a:pt x="364" y="346"/>
                  </a:lnTo>
                  <a:lnTo>
                    <a:pt x="346" y="384"/>
                  </a:lnTo>
                  <a:lnTo>
                    <a:pt x="322" y="433"/>
                  </a:lnTo>
                  <a:lnTo>
                    <a:pt x="293" y="490"/>
                  </a:lnTo>
                  <a:lnTo>
                    <a:pt x="261" y="556"/>
                  </a:lnTo>
                  <a:lnTo>
                    <a:pt x="225" y="626"/>
                  </a:lnTo>
                  <a:lnTo>
                    <a:pt x="191" y="698"/>
                  </a:lnTo>
                  <a:lnTo>
                    <a:pt x="155" y="770"/>
                  </a:lnTo>
                  <a:lnTo>
                    <a:pt x="120" y="840"/>
                  </a:lnTo>
                  <a:lnTo>
                    <a:pt x="87" y="905"/>
                  </a:lnTo>
                  <a:lnTo>
                    <a:pt x="59" y="964"/>
                  </a:lnTo>
                  <a:lnTo>
                    <a:pt x="35" y="1013"/>
                  </a:lnTo>
                  <a:lnTo>
                    <a:pt x="16" y="1051"/>
                  </a:lnTo>
                  <a:lnTo>
                    <a:pt x="5" y="1076"/>
                  </a:lnTo>
                  <a:lnTo>
                    <a:pt x="0" y="1085"/>
                  </a:lnTo>
                  <a:lnTo>
                    <a:pt x="1" y="1083"/>
                  </a:lnTo>
                  <a:lnTo>
                    <a:pt x="8" y="1081"/>
                  </a:lnTo>
                  <a:lnTo>
                    <a:pt x="15" y="1079"/>
                  </a:lnTo>
                  <a:lnTo>
                    <a:pt x="27" y="1074"/>
                  </a:lnTo>
                  <a:lnTo>
                    <a:pt x="40" y="1068"/>
                  </a:lnTo>
                  <a:lnTo>
                    <a:pt x="57" y="1064"/>
                  </a:lnTo>
                  <a:lnTo>
                    <a:pt x="76" y="1057"/>
                  </a:lnTo>
                  <a:lnTo>
                    <a:pt x="94" y="1053"/>
                  </a:lnTo>
                  <a:lnTo>
                    <a:pt x="116" y="1047"/>
                  </a:lnTo>
                  <a:lnTo>
                    <a:pt x="138" y="1043"/>
                  </a:lnTo>
                  <a:lnTo>
                    <a:pt x="162" y="1038"/>
                  </a:lnTo>
                  <a:lnTo>
                    <a:pt x="184" y="1034"/>
                  </a:lnTo>
                  <a:lnTo>
                    <a:pt x="208" y="1032"/>
                  </a:lnTo>
                  <a:lnTo>
                    <a:pt x="231" y="1032"/>
                  </a:lnTo>
                  <a:lnTo>
                    <a:pt x="256" y="1032"/>
                  </a:lnTo>
                  <a:lnTo>
                    <a:pt x="278" y="1034"/>
                  </a:lnTo>
                  <a:lnTo>
                    <a:pt x="298" y="1038"/>
                  </a:lnTo>
                  <a:lnTo>
                    <a:pt x="315" y="1045"/>
                  </a:lnTo>
                  <a:lnTo>
                    <a:pt x="329" y="1053"/>
                  </a:lnTo>
                  <a:lnTo>
                    <a:pt x="339" y="1062"/>
                  </a:lnTo>
                  <a:lnTo>
                    <a:pt x="347" y="1072"/>
                  </a:lnTo>
                  <a:lnTo>
                    <a:pt x="356" y="1083"/>
                  </a:lnTo>
                  <a:lnTo>
                    <a:pt x="363" y="1093"/>
                  </a:lnTo>
                  <a:lnTo>
                    <a:pt x="369" y="1104"/>
                  </a:lnTo>
                  <a:lnTo>
                    <a:pt x="376" y="1115"/>
                  </a:lnTo>
                  <a:lnTo>
                    <a:pt x="383" y="1125"/>
                  </a:lnTo>
                  <a:lnTo>
                    <a:pt x="391" y="1134"/>
                  </a:lnTo>
                  <a:lnTo>
                    <a:pt x="402" y="1142"/>
                  </a:lnTo>
                  <a:lnTo>
                    <a:pt x="413" y="1151"/>
                  </a:lnTo>
                  <a:lnTo>
                    <a:pt x="429" y="1155"/>
                  </a:lnTo>
                  <a:lnTo>
                    <a:pt x="447" y="1159"/>
                  </a:lnTo>
                  <a:lnTo>
                    <a:pt x="469" y="1161"/>
                  </a:lnTo>
                  <a:lnTo>
                    <a:pt x="491" y="1159"/>
                  </a:lnTo>
                  <a:lnTo>
                    <a:pt x="513" y="1157"/>
                  </a:lnTo>
                  <a:lnTo>
                    <a:pt x="535" y="1151"/>
                  </a:lnTo>
                  <a:lnTo>
                    <a:pt x="555" y="1144"/>
                  </a:lnTo>
                  <a:lnTo>
                    <a:pt x="576" y="1136"/>
                  </a:lnTo>
                  <a:lnTo>
                    <a:pt x="596" y="1127"/>
                  </a:lnTo>
                  <a:lnTo>
                    <a:pt x="615" y="1117"/>
                  </a:lnTo>
                  <a:lnTo>
                    <a:pt x="635" y="1106"/>
                  </a:lnTo>
                  <a:lnTo>
                    <a:pt x="654" y="1098"/>
                  </a:lnTo>
                  <a:lnTo>
                    <a:pt x="672" y="1087"/>
                  </a:lnTo>
                  <a:lnTo>
                    <a:pt x="689" y="1076"/>
                  </a:lnTo>
                  <a:lnTo>
                    <a:pt x="708" y="1066"/>
                  </a:lnTo>
                  <a:lnTo>
                    <a:pt x="726" y="1057"/>
                  </a:lnTo>
                  <a:lnTo>
                    <a:pt x="745" y="1051"/>
                  </a:lnTo>
                  <a:lnTo>
                    <a:pt x="765" y="1045"/>
                  </a:lnTo>
                  <a:lnTo>
                    <a:pt x="783" y="1040"/>
                  </a:lnTo>
                  <a:lnTo>
                    <a:pt x="800" y="1038"/>
                  </a:lnTo>
                  <a:lnTo>
                    <a:pt x="815" y="1036"/>
                  </a:lnTo>
                  <a:lnTo>
                    <a:pt x="827" y="1038"/>
                  </a:lnTo>
                  <a:lnTo>
                    <a:pt x="837" y="1040"/>
                  </a:lnTo>
                  <a:lnTo>
                    <a:pt x="848" y="1043"/>
                  </a:lnTo>
                  <a:lnTo>
                    <a:pt x="854" y="1047"/>
                  </a:lnTo>
                  <a:lnTo>
                    <a:pt x="859" y="1053"/>
                  </a:lnTo>
                  <a:lnTo>
                    <a:pt x="864" y="1057"/>
                  </a:lnTo>
                  <a:lnTo>
                    <a:pt x="866" y="1064"/>
                  </a:lnTo>
                  <a:lnTo>
                    <a:pt x="868" y="1068"/>
                  </a:lnTo>
                  <a:lnTo>
                    <a:pt x="870" y="1074"/>
                  </a:lnTo>
                  <a:lnTo>
                    <a:pt x="871" y="1079"/>
                  </a:lnTo>
                  <a:lnTo>
                    <a:pt x="871" y="1083"/>
                  </a:lnTo>
                  <a:lnTo>
                    <a:pt x="870" y="1087"/>
                  </a:lnTo>
                  <a:lnTo>
                    <a:pt x="870" y="1089"/>
                  </a:lnTo>
                  <a:lnTo>
                    <a:pt x="871" y="1087"/>
                  </a:lnTo>
                  <a:lnTo>
                    <a:pt x="875" y="1085"/>
                  </a:lnTo>
                  <a:lnTo>
                    <a:pt x="881" y="1079"/>
                  </a:lnTo>
                  <a:lnTo>
                    <a:pt x="890" y="1072"/>
                  </a:lnTo>
                  <a:lnTo>
                    <a:pt x="900" y="1064"/>
                  </a:lnTo>
                  <a:lnTo>
                    <a:pt x="910" y="1053"/>
                  </a:lnTo>
                  <a:lnTo>
                    <a:pt x="922" y="1043"/>
                  </a:lnTo>
                  <a:lnTo>
                    <a:pt x="934" y="1032"/>
                  </a:lnTo>
                  <a:lnTo>
                    <a:pt x="946" y="1021"/>
                  </a:lnTo>
                  <a:lnTo>
                    <a:pt x="957" y="1011"/>
                  </a:lnTo>
                  <a:lnTo>
                    <a:pt x="968" y="1002"/>
                  </a:lnTo>
                  <a:lnTo>
                    <a:pt x="978" y="992"/>
                  </a:lnTo>
                  <a:lnTo>
                    <a:pt x="986" y="985"/>
                  </a:lnTo>
                  <a:lnTo>
                    <a:pt x="993" y="979"/>
                  </a:lnTo>
                  <a:lnTo>
                    <a:pt x="996" y="977"/>
                  </a:lnTo>
                  <a:lnTo>
                    <a:pt x="998" y="975"/>
                  </a:lnTo>
                  <a:lnTo>
                    <a:pt x="993" y="964"/>
                  </a:lnTo>
                  <a:lnTo>
                    <a:pt x="979" y="932"/>
                  </a:lnTo>
                  <a:lnTo>
                    <a:pt x="959" y="886"/>
                  </a:lnTo>
                  <a:lnTo>
                    <a:pt x="932" y="821"/>
                  </a:lnTo>
                  <a:lnTo>
                    <a:pt x="902" y="749"/>
                  </a:lnTo>
                  <a:lnTo>
                    <a:pt x="864" y="666"/>
                  </a:lnTo>
                  <a:lnTo>
                    <a:pt x="827" y="579"/>
                  </a:lnTo>
                  <a:lnTo>
                    <a:pt x="788" y="488"/>
                  </a:lnTo>
                  <a:lnTo>
                    <a:pt x="749" y="397"/>
                  </a:lnTo>
                  <a:lnTo>
                    <a:pt x="709" y="310"/>
                  </a:lnTo>
                  <a:lnTo>
                    <a:pt x="674" y="226"/>
                  </a:lnTo>
                  <a:lnTo>
                    <a:pt x="642" y="152"/>
                  </a:lnTo>
                  <a:lnTo>
                    <a:pt x="615" y="91"/>
                  </a:lnTo>
                  <a:lnTo>
                    <a:pt x="594" y="42"/>
                  </a:lnTo>
                  <a:lnTo>
                    <a:pt x="581" y="12"/>
                  </a:lnTo>
                  <a:lnTo>
                    <a:pt x="576" y="0"/>
                  </a:lnTo>
                  <a:lnTo>
                    <a:pt x="571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303960" y="8429760"/>
              <a:ext cx="259200" cy="192600"/>
            </a:xfrm>
            <a:custGeom>
              <a:avLst/>
              <a:gdLst/>
              <a:ahLst/>
              <a:rect l="0" t="0" r="r" b="b"/>
              <a:pathLst>
                <a:path w="720" h="535">
                  <a:moveTo>
                    <a:pt x="5" y="535"/>
                  </a:moveTo>
                  <a:lnTo>
                    <a:pt x="148" y="425"/>
                  </a:lnTo>
                  <a:lnTo>
                    <a:pt x="195" y="48"/>
                  </a:lnTo>
                  <a:lnTo>
                    <a:pt x="278" y="124"/>
                  </a:lnTo>
                  <a:lnTo>
                    <a:pt x="313" y="0"/>
                  </a:lnTo>
                  <a:lnTo>
                    <a:pt x="508" y="262"/>
                  </a:lnTo>
                  <a:lnTo>
                    <a:pt x="720" y="186"/>
                  </a:lnTo>
                  <a:lnTo>
                    <a:pt x="523" y="338"/>
                  </a:lnTo>
                  <a:lnTo>
                    <a:pt x="427" y="321"/>
                  </a:lnTo>
                  <a:lnTo>
                    <a:pt x="241" y="421"/>
                  </a:lnTo>
                  <a:lnTo>
                    <a:pt x="205" y="480"/>
                  </a:lnTo>
                  <a:lnTo>
                    <a:pt x="0" y="535"/>
                  </a:lnTo>
                  <a:lnTo>
                    <a:pt x="5" y="53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303960" y="8429760"/>
              <a:ext cx="259200" cy="192600"/>
            </a:xfrm>
            <a:custGeom>
              <a:avLst/>
              <a:gdLst/>
              <a:ahLst/>
              <a:rect l="0" t="0" r="r" b="b"/>
              <a:pathLst>
                <a:path fill="none" w="720" h="535">
                  <a:moveTo>
                    <a:pt x="5" y="535"/>
                  </a:moveTo>
                  <a:lnTo>
                    <a:pt x="148" y="425"/>
                  </a:lnTo>
                  <a:lnTo>
                    <a:pt x="195" y="48"/>
                  </a:lnTo>
                  <a:lnTo>
                    <a:pt x="278" y="124"/>
                  </a:lnTo>
                  <a:lnTo>
                    <a:pt x="313" y="0"/>
                  </a:lnTo>
                  <a:lnTo>
                    <a:pt x="508" y="262"/>
                  </a:lnTo>
                  <a:lnTo>
                    <a:pt x="720" y="186"/>
                  </a:lnTo>
                  <a:lnTo>
                    <a:pt x="523" y="338"/>
                  </a:lnTo>
                  <a:lnTo>
                    <a:pt x="427" y="321"/>
                  </a:lnTo>
                  <a:lnTo>
                    <a:pt x="241" y="421"/>
                  </a:lnTo>
                  <a:lnTo>
                    <a:pt x="205" y="480"/>
                  </a:lnTo>
                  <a:lnTo>
                    <a:pt x="0" y="535"/>
                  </a:lnTo>
                  <a:lnTo>
                    <a:pt x="5" y="53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353280" y="8715240"/>
              <a:ext cx="117720" cy="84600"/>
            </a:xfrm>
            <a:custGeom>
              <a:avLst/>
              <a:gdLst/>
              <a:ahLst/>
              <a:rect l="0" t="0" r="r" b="b"/>
              <a:pathLst>
                <a:path w="327" h="235">
                  <a:moveTo>
                    <a:pt x="95" y="108"/>
                  </a:moveTo>
                  <a:lnTo>
                    <a:pt x="15" y="177"/>
                  </a:lnTo>
                  <a:lnTo>
                    <a:pt x="0" y="184"/>
                  </a:lnTo>
                  <a:lnTo>
                    <a:pt x="122" y="0"/>
                  </a:lnTo>
                  <a:lnTo>
                    <a:pt x="298" y="125"/>
                  </a:lnTo>
                  <a:lnTo>
                    <a:pt x="327" y="235"/>
                  </a:lnTo>
                  <a:lnTo>
                    <a:pt x="171" y="110"/>
                  </a:lnTo>
                  <a:lnTo>
                    <a:pt x="142" y="166"/>
                  </a:lnTo>
                  <a:lnTo>
                    <a:pt x="100" y="148"/>
                  </a:lnTo>
                  <a:lnTo>
                    <a:pt x="93" y="108"/>
                  </a:lnTo>
                  <a:lnTo>
                    <a:pt x="95" y="10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353280" y="8715240"/>
              <a:ext cx="117720" cy="84600"/>
            </a:xfrm>
            <a:custGeom>
              <a:avLst/>
              <a:gdLst/>
              <a:ahLst/>
              <a:rect l="0" t="0" r="r" b="b"/>
              <a:pathLst>
                <a:path fill="none" w="327" h="235">
                  <a:moveTo>
                    <a:pt x="95" y="108"/>
                  </a:moveTo>
                  <a:lnTo>
                    <a:pt x="15" y="177"/>
                  </a:lnTo>
                  <a:lnTo>
                    <a:pt x="0" y="184"/>
                  </a:lnTo>
                  <a:lnTo>
                    <a:pt x="122" y="0"/>
                  </a:lnTo>
                  <a:lnTo>
                    <a:pt x="298" y="125"/>
                  </a:lnTo>
                  <a:lnTo>
                    <a:pt x="327" y="235"/>
                  </a:lnTo>
                  <a:lnTo>
                    <a:pt x="171" y="110"/>
                  </a:lnTo>
                  <a:lnTo>
                    <a:pt x="142" y="166"/>
                  </a:lnTo>
                  <a:lnTo>
                    <a:pt x="100" y="148"/>
                  </a:lnTo>
                  <a:lnTo>
                    <a:pt x="93" y="108"/>
                  </a:lnTo>
                  <a:lnTo>
                    <a:pt x="95" y="10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257880" y="8666280"/>
              <a:ext cx="168480" cy="133560"/>
            </a:xfrm>
            <a:custGeom>
              <a:avLst/>
              <a:gdLst/>
              <a:ahLst/>
              <a:rect l="0" t="0" r="r" b="b"/>
              <a:pathLst>
                <a:path w="468" h="371">
                  <a:moveTo>
                    <a:pt x="0" y="27"/>
                  </a:moveTo>
                  <a:lnTo>
                    <a:pt x="40" y="0"/>
                  </a:lnTo>
                  <a:lnTo>
                    <a:pt x="204" y="305"/>
                  </a:lnTo>
                  <a:lnTo>
                    <a:pt x="468" y="305"/>
                  </a:lnTo>
                  <a:lnTo>
                    <a:pt x="468" y="371"/>
                  </a:lnTo>
                  <a:lnTo>
                    <a:pt x="46" y="371"/>
                  </a:lnTo>
                  <a:lnTo>
                    <a:pt x="43" y="305"/>
                  </a:lnTo>
                  <a:lnTo>
                    <a:pt x="149" y="305"/>
                  </a:lnTo>
                  <a:lnTo>
                    <a:pt x="0" y="36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257880" y="8666280"/>
              <a:ext cx="168480" cy="133560"/>
            </a:xfrm>
            <a:custGeom>
              <a:avLst/>
              <a:gdLst/>
              <a:ahLst/>
              <a:rect l="0" t="0" r="r" b="b"/>
              <a:pathLst>
                <a:path fill="none" w="468" h="371">
                  <a:moveTo>
                    <a:pt x="0" y="27"/>
                  </a:moveTo>
                  <a:lnTo>
                    <a:pt x="40" y="0"/>
                  </a:lnTo>
                  <a:lnTo>
                    <a:pt x="204" y="305"/>
                  </a:lnTo>
                  <a:lnTo>
                    <a:pt x="468" y="305"/>
                  </a:lnTo>
                  <a:lnTo>
                    <a:pt x="468" y="371"/>
                  </a:lnTo>
                  <a:lnTo>
                    <a:pt x="46" y="371"/>
                  </a:lnTo>
                  <a:lnTo>
                    <a:pt x="43" y="305"/>
                  </a:lnTo>
                  <a:lnTo>
                    <a:pt x="149" y="305"/>
                  </a:lnTo>
                  <a:lnTo>
                    <a:pt x="0" y="36"/>
                  </a:lnTo>
                  <a:lnTo>
                    <a:pt x="0" y="2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399960" y="571680"/>
            <a:ext cx="6000840" cy="7515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733320" y="8439120"/>
            <a:ext cx="1876680" cy="438480"/>
            <a:chOff x="733320" y="8439120"/>
            <a:chExt cx="1876680" cy="438480"/>
          </a:xfrm>
        </p:grpSpPr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733320" y="8439120"/>
              <a:ext cx="1838160" cy="2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 txBox="1"/>
            <p:nvPr/>
          </p:nvSpPr>
          <p:spPr>
            <a:xfrm>
              <a:off x="755640" y="8693280"/>
              <a:ext cx="18543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TECH STRATEGIC ASSOCIATES, LTD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328760" y="380880"/>
            <a:ext cx="4386240" cy="320040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1467000" y="6829560"/>
            <a:ext cx="4191120" cy="1211040"/>
            <a:chOff x="1467000" y="6829560"/>
            <a:chExt cx="4191120" cy="1211040"/>
          </a:xfrm>
        </p:grpSpPr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1467000" y="6829560"/>
              <a:ext cx="419112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 txBox="1"/>
            <p:nvPr/>
          </p:nvSpPr>
          <p:spPr>
            <a:xfrm>
              <a:off x="1908000" y="7765920"/>
              <a:ext cx="36734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TECH STRATEGIC ASSOCIATES, LT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 txBox="1"/>
          <p:nvPr/>
        </p:nvSpPr>
        <p:spPr>
          <a:xfrm>
            <a:off x="2575080" y="3840120"/>
            <a:ext cx="17366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O-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04880" y="4735440"/>
            <a:ext cx="5486400" cy="19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  <a:ea typeface="Monotype Corsiva"/>
              </a:rPr>
              <a:t>Automated Informa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  <a:ea typeface="Monotype Corsiva"/>
              </a:rPr>
              <a:t>Security Program Management 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70000" y="6737400"/>
            <a:ext cx="1011240" cy="1146600"/>
            <a:chOff x="270000" y="6737400"/>
            <a:chExt cx="1011240" cy="1146600"/>
          </a:xfrm>
        </p:grpSpPr>
        <p:sp>
          <p:nvSpPr>
            <p:cNvPr id="137" name=""/>
            <p:cNvSpPr/>
            <p:nvPr/>
          </p:nvSpPr>
          <p:spPr>
            <a:xfrm>
              <a:off x="847800" y="7061040"/>
              <a:ext cx="116280" cy="114840"/>
            </a:xfrm>
            <a:custGeom>
              <a:avLst/>
              <a:gdLst/>
              <a:ahLst/>
              <a:rect l="0" t="0" r="r" b="b"/>
              <a:pathLst>
                <a:path w="323" h="319">
                  <a:moveTo>
                    <a:pt x="323" y="146"/>
                  </a:moveTo>
                  <a:lnTo>
                    <a:pt x="270" y="159"/>
                  </a:lnTo>
                  <a:lnTo>
                    <a:pt x="244" y="203"/>
                  </a:lnTo>
                  <a:lnTo>
                    <a:pt x="257" y="319"/>
                  </a:lnTo>
                  <a:lnTo>
                    <a:pt x="217" y="225"/>
                  </a:lnTo>
                  <a:lnTo>
                    <a:pt x="172" y="124"/>
                  </a:lnTo>
                  <a:lnTo>
                    <a:pt x="79" y="124"/>
                  </a:lnTo>
                  <a:lnTo>
                    <a:pt x="0" y="0"/>
                  </a:lnTo>
                  <a:lnTo>
                    <a:pt x="120" y="0"/>
                  </a:lnTo>
                  <a:lnTo>
                    <a:pt x="323" y="137"/>
                  </a:lnTo>
                  <a:lnTo>
                    <a:pt x="323" y="14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7800" y="7061040"/>
              <a:ext cx="116280" cy="114840"/>
            </a:xfrm>
            <a:custGeom>
              <a:avLst/>
              <a:gdLst/>
              <a:ahLst/>
              <a:rect l="0" t="0" r="r" b="b"/>
              <a:pathLst>
                <a:path fill="none" w="323" h="319">
                  <a:moveTo>
                    <a:pt x="323" y="146"/>
                  </a:moveTo>
                  <a:lnTo>
                    <a:pt x="270" y="159"/>
                  </a:lnTo>
                  <a:lnTo>
                    <a:pt x="244" y="203"/>
                  </a:lnTo>
                  <a:lnTo>
                    <a:pt x="257" y="319"/>
                  </a:lnTo>
                  <a:lnTo>
                    <a:pt x="217" y="225"/>
                  </a:lnTo>
                  <a:lnTo>
                    <a:pt x="172" y="124"/>
                  </a:lnTo>
                  <a:lnTo>
                    <a:pt x="79" y="124"/>
                  </a:lnTo>
                  <a:lnTo>
                    <a:pt x="0" y="0"/>
                  </a:lnTo>
                  <a:lnTo>
                    <a:pt x="120" y="0"/>
                  </a:lnTo>
                  <a:lnTo>
                    <a:pt x="323" y="137"/>
                  </a:lnTo>
                  <a:lnTo>
                    <a:pt x="323" y="14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0000" y="7015320"/>
              <a:ext cx="935280" cy="868680"/>
            </a:xfrm>
            <a:custGeom>
              <a:avLst/>
              <a:gdLst/>
              <a:ahLst/>
              <a:rect l="0" t="0" r="r" b="b"/>
              <a:pathLst>
                <a:path w="2598" h="2413">
                  <a:moveTo>
                    <a:pt x="1111" y="0"/>
                  </a:moveTo>
                  <a:lnTo>
                    <a:pt x="1120" y="8"/>
                  </a:lnTo>
                  <a:lnTo>
                    <a:pt x="1142" y="26"/>
                  </a:lnTo>
                  <a:lnTo>
                    <a:pt x="1177" y="57"/>
                  </a:lnTo>
                  <a:lnTo>
                    <a:pt x="1221" y="97"/>
                  </a:lnTo>
                  <a:lnTo>
                    <a:pt x="1274" y="145"/>
                  </a:lnTo>
                  <a:lnTo>
                    <a:pt x="1337" y="194"/>
                  </a:lnTo>
                  <a:lnTo>
                    <a:pt x="1398" y="251"/>
                  </a:lnTo>
                  <a:lnTo>
                    <a:pt x="1465" y="308"/>
                  </a:lnTo>
                  <a:lnTo>
                    <a:pt x="1531" y="366"/>
                  </a:lnTo>
                  <a:lnTo>
                    <a:pt x="1597" y="418"/>
                  </a:lnTo>
                  <a:lnTo>
                    <a:pt x="1654" y="471"/>
                  </a:lnTo>
                  <a:lnTo>
                    <a:pt x="1707" y="520"/>
                  </a:lnTo>
                  <a:lnTo>
                    <a:pt x="1756" y="560"/>
                  </a:lnTo>
                  <a:lnTo>
                    <a:pt x="1791" y="586"/>
                  </a:lnTo>
                  <a:lnTo>
                    <a:pt x="1813" y="608"/>
                  </a:lnTo>
                  <a:lnTo>
                    <a:pt x="1822" y="612"/>
                  </a:lnTo>
                  <a:lnTo>
                    <a:pt x="1817" y="612"/>
                  </a:lnTo>
                  <a:lnTo>
                    <a:pt x="1813" y="617"/>
                  </a:lnTo>
                  <a:lnTo>
                    <a:pt x="1800" y="617"/>
                  </a:lnTo>
                  <a:lnTo>
                    <a:pt x="1786" y="621"/>
                  </a:lnTo>
                  <a:lnTo>
                    <a:pt x="1773" y="621"/>
                  </a:lnTo>
                  <a:lnTo>
                    <a:pt x="1751" y="626"/>
                  </a:lnTo>
                  <a:lnTo>
                    <a:pt x="1734" y="630"/>
                  </a:lnTo>
                  <a:lnTo>
                    <a:pt x="1711" y="630"/>
                  </a:lnTo>
                  <a:lnTo>
                    <a:pt x="1694" y="635"/>
                  </a:lnTo>
                  <a:lnTo>
                    <a:pt x="1676" y="639"/>
                  </a:lnTo>
                  <a:lnTo>
                    <a:pt x="1654" y="639"/>
                  </a:lnTo>
                  <a:lnTo>
                    <a:pt x="1641" y="643"/>
                  </a:lnTo>
                  <a:lnTo>
                    <a:pt x="1628" y="643"/>
                  </a:lnTo>
                  <a:lnTo>
                    <a:pt x="1614" y="648"/>
                  </a:lnTo>
                  <a:lnTo>
                    <a:pt x="1610" y="648"/>
                  </a:lnTo>
                  <a:lnTo>
                    <a:pt x="1606" y="648"/>
                  </a:lnTo>
                  <a:lnTo>
                    <a:pt x="1619" y="665"/>
                  </a:lnTo>
                  <a:lnTo>
                    <a:pt x="1650" y="718"/>
                  </a:lnTo>
                  <a:lnTo>
                    <a:pt x="1698" y="798"/>
                  </a:lnTo>
                  <a:lnTo>
                    <a:pt x="1760" y="899"/>
                  </a:lnTo>
                  <a:lnTo>
                    <a:pt x="1835" y="1018"/>
                  </a:lnTo>
                  <a:lnTo>
                    <a:pt x="1919" y="1155"/>
                  </a:lnTo>
                  <a:lnTo>
                    <a:pt x="2011" y="1301"/>
                  </a:lnTo>
                  <a:lnTo>
                    <a:pt x="2100" y="1451"/>
                  </a:lnTo>
                  <a:lnTo>
                    <a:pt x="2192" y="1601"/>
                  </a:lnTo>
                  <a:lnTo>
                    <a:pt x="2285" y="1747"/>
                  </a:lnTo>
                  <a:lnTo>
                    <a:pt x="2369" y="1879"/>
                  </a:lnTo>
                  <a:lnTo>
                    <a:pt x="2443" y="2003"/>
                  </a:lnTo>
                  <a:lnTo>
                    <a:pt x="2505" y="2104"/>
                  </a:lnTo>
                  <a:lnTo>
                    <a:pt x="2554" y="2183"/>
                  </a:lnTo>
                  <a:lnTo>
                    <a:pt x="2585" y="2236"/>
                  </a:lnTo>
                  <a:lnTo>
                    <a:pt x="2598" y="2254"/>
                  </a:lnTo>
                  <a:lnTo>
                    <a:pt x="2593" y="2249"/>
                  </a:lnTo>
                  <a:lnTo>
                    <a:pt x="2576" y="2245"/>
                  </a:lnTo>
                  <a:lnTo>
                    <a:pt x="2558" y="2241"/>
                  </a:lnTo>
                  <a:lnTo>
                    <a:pt x="2527" y="2232"/>
                  </a:lnTo>
                  <a:lnTo>
                    <a:pt x="2492" y="2219"/>
                  </a:lnTo>
                  <a:lnTo>
                    <a:pt x="2448" y="2210"/>
                  </a:lnTo>
                  <a:lnTo>
                    <a:pt x="2399" y="2197"/>
                  </a:lnTo>
                  <a:lnTo>
                    <a:pt x="2351" y="2188"/>
                  </a:lnTo>
                  <a:lnTo>
                    <a:pt x="2294" y="2174"/>
                  </a:lnTo>
                  <a:lnTo>
                    <a:pt x="2236" y="2166"/>
                  </a:lnTo>
                  <a:lnTo>
                    <a:pt x="2174" y="2157"/>
                  </a:lnTo>
                  <a:lnTo>
                    <a:pt x="2117" y="2148"/>
                  </a:lnTo>
                  <a:lnTo>
                    <a:pt x="2055" y="2144"/>
                  </a:lnTo>
                  <a:lnTo>
                    <a:pt x="1994" y="2144"/>
                  </a:lnTo>
                  <a:lnTo>
                    <a:pt x="1932" y="2144"/>
                  </a:lnTo>
                  <a:lnTo>
                    <a:pt x="1875" y="2148"/>
                  </a:lnTo>
                  <a:lnTo>
                    <a:pt x="1822" y="2157"/>
                  </a:lnTo>
                  <a:lnTo>
                    <a:pt x="1778" y="2170"/>
                  </a:lnTo>
                  <a:lnTo>
                    <a:pt x="1742" y="2188"/>
                  </a:lnTo>
                  <a:lnTo>
                    <a:pt x="1716" y="2205"/>
                  </a:lnTo>
                  <a:lnTo>
                    <a:pt x="1694" y="2227"/>
                  </a:lnTo>
                  <a:lnTo>
                    <a:pt x="1672" y="2249"/>
                  </a:lnTo>
                  <a:lnTo>
                    <a:pt x="1654" y="2272"/>
                  </a:lnTo>
                  <a:lnTo>
                    <a:pt x="1637" y="2294"/>
                  </a:lnTo>
                  <a:lnTo>
                    <a:pt x="1619" y="2316"/>
                  </a:lnTo>
                  <a:lnTo>
                    <a:pt x="1601" y="2338"/>
                  </a:lnTo>
                  <a:lnTo>
                    <a:pt x="1579" y="2355"/>
                  </a:lnTo>
                  <a:lnTo>
                    <a:pt x="1553" y="2373"/>
                  </a:lnTo>
                  <a:lnTo>
                    <a:pt x="1522" y="2391"/>
                  </a:lnTo>
                  <a:lnTo>
                    <a:pt x="1482" y="2399"/>
                  </a:lnTo>
                  <a:lnTo>
                    <a:pt x="1434" y="2408"/>
                  </a:lnTo>
                  <a:lnTo>
                    <a:pt x="1376" y="2413"/>
                  </a:lnTo>
                  <a:lnTo>
                    <a:pt x="1319" y="2408"/>
                  </a:lnTo>
                  <a:lnTo>
                    <a:pt x="1261" y="2404"/>
                  </a:lnTo>
                  <a:lnTo>
                    <a:pt x="1203" y="2391"/>
                  </a:lnTo>
                  <a:lnTo>
                    <a:pt x="1150" y="2377"/>
                  </a:lnTo>
                  <a:lnTo>
                    <a:pt x="1098" y="2360"/>
                  </a:lnTo>
                  <a:lnTo>
                    <a:pt x="1045" y="2342"/>
                  </a:lnTo>
                  <a:lnTo>
                    <a:pt x="996" y="2320"/>
                  </a:lnTo>
                  <a:lnTo>
                    <a:pt x="943" y="2298"/>
                  </a:lnTo>
                  <a:lnTo>
                    <a:pt x="895" y="2280"/>
                  </a:lnTo>
                  <a:lnTo>
                    <a:pt x="846" y="2258"/>
                  </a:lnTo>
                  <a:lnTo>
                    <a:pt x="802" y="2236"/>
                  </a:lnTo>
                  <a:lnTo>
                    <a:pt x="754" y="2214"/>
                  </a:lnTo>
                  <a:lnTo>
                    <a:pt x="705" y="2197"/>
                  </a:lnTo>
                  <a:lnTo>
                    <a:pt x="657" y="2183"/>
                  </a:lnTo>
                  <a:lnTo>
                    <a:pt x="608" y="2170"/>
                  </a:lnTo>
                  <a:lnTo>
                    <a:pt x="560" y="2161"/>
                  </a:lnTo>
                  <a:lnTo>
                    <a:pt x="515" y="2157"/>
                  </a:lnTo>
                  <a:lnTo>
                    <a:pt x="476" y="2152"/>
                  </a:lnTo>
                  <a:lnTo>
                    <a:pt x="445" y="2157"/>
                  </a:lnTo>
                  <a:lnTo>
                    <a:pt x="418" y="2161"/>
                  </a:lnTo>
                  <a:lnTo>
                    <a:pt x="392" y="2166"/>
                  </a:lnTo>
                  <a:lnTo>
                    <a:pt x="374" y="2174"/>
                  </a:lnTo>
                  <a:lnTo>
                    <a:pt x="361" y="2188"/>
                  </a:lnTo>
                  <a:lnTo>
                    <a:pt x="348" y="2197"/>
                  </a:lnTo>
                  <a:lnTo>
                    <a:pt x="343" y="2210"/>
                  </a:lnTo>
                  <a:lnTo>
                    <a:pt x="339" y="2219"/>
                  </a:lnTo>
                  <a:lnTo>
                    <a:pt x="335" y="2232"/>
                  </a:lnTo>
                  <a:lnTo>
                    <a:pt x="330" y="2241"/>
                  </a:lnTo>
                  <a:lnTo>
                    <a:pt x="330" y="2249"/>
                  </a:lnTo>
                  <a:lnTo>
                    <a:pt x="335" y="2258"/>
                  </a:lnTo>
                  <a:lnTo>
                    <a:pt x="335" y="2263"/>
                  </a:lnTo>
                  <a:lnTo>
                    <a:pt x="330" y="2258"/>
                  </a:lnTo>
                  <a:lnTo>
                    <a:pt x="321" y="2254"/>
                  </a:lnTo>
                  <a:lnTo>
                    <a:pt x="304" y="2241"/>
                  </a:lnTo>
                  <a:lnTo>
                    <a:pt x="282" y="2227"/>
                  </a:lnTo>
                  <a:lnTo>
                    <a:pt x="255" y="2210"/>
                  </a:lnTo>
                  <a:lnTo>
                    <a:pt x="229" y="2188"/>
                  </a:lnTo>
                  <a:lnTo>
                    <a:pt x="198" y="2166"/>
                  </a:lnTo>
                  <a:lnTo>
                    <a:pt x="167" y="2144"/>
                  </a:lnTo>
                  <a:lnTo>
                    <a:pt x="136" y="2122"/>
                  </a:lnTo>
                  <a:lnTo>
                    <a:pt x="105" y="2100"/>
                  </a:lnTo>
                  <a:lnTo>
                    <a:pt x="79" y="2082"/>
                  </a:lnTo>
                  <a:lnTo>
                    <a:pt x="52" y="2060"/>
                  </a:lnTo>
                  <a:lnTo>
                    <a:pt x="30" y="2047"/>
                  </a:lnTo>
                  <a:lnTo>
                    <a:pt x="13" y="2033"/>
                  </a:lnTo>
                  <a:lnTo>
                    <a:pt x="4" y="2029"/>
                  </a:lnTo>
                  <a:lnTo>
                    <a:pt x="0" y="2025"/>
                  </a:lnTo>
                  <a:lnTo>
                    <a:pt x="13" y="2003"/>
                  </a:lnTo>
                  <a:lnTo>
                    <a:pt x="48" y="1936"/>
                  </a:lnTo>
                  <a:lnTo>
                    <a:pt x="101" y="1839"/>
                  </a:lnTo>
                  <a:lnTo>
                    <a:pt x="171" y="1707"/>
                  </a:lnTo>
                  <a:lnTo>
                    <a:pt x="251" y="1557"/>
                  </a:lnTo>
                  <a:lnTo>
                    <a:pt x="348" y="1385"/>
                  </a:lnTo>
                  <a:lnTo>
                    <a:pt x="445" y="1203"/>
                  </a:lnTo>
                  <a:lnTo>
                    <a:pt x="546" y="1014"/>
                  </a:lnTo>
                  <a:lnTo>
                    <a:pt x="648" y="824"/>
                  </a:lnTo>
                  <a:lnTo>
                    <a:pt x="749" y="643"/>
                  </a:lnTo>
                  <a:lnTo>
                    <a:pt x="842" y="471"/>
                  </a:lnTo>
                  <a:lnTo>
                    <a:pt x="926" y="317"/>
                  </a:lnTo>
                  <a:lnTo>
                    <a:pt x="996" y="189"/>
                  </a:lnTo>
                  <a:lnTo>
                    <a:pt x="1049" y="88"/>
                  </a:lnTo>
                  <a:lnTo>
                    <a:pt x="1084" y="26"/>
                  </a:lnTo>
                  <a:lnTo>
                    <a:pt x="1098" y="0"/>
                  </a:lnTo>
                  <a:lnTo>
                    <a:pt x="111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0000" y="7015320"/>
              <a:ext cx="935280" cy="868680"/>
            </a:xfrm>
            <a:custGeom>
              <a:avLst/>
              <a:gdLst/>
              <a:ahLst/>
              <a:rect l="0" t="0" r="r" b="b"/>
              <a:pathLst>
                <a:path fill="none" w="2598" h="2413">
                  <a:moveTo>
                    <a:pt x="1111" y="0"/>
                  </a:moveTo>
                  <a:lnTo>
                    <a:pt x="1120" y="8"/>
                  </a:lnTo>
                  <a:lnTo>
                    <a:pt x="1142" y="26"/>
                  </a:lnTo>
                  <a:lnTo>
                    <a:pt x="1177" y="57"/>
                  </a:lnTo>
                  <a:lnTo>
                    <a:pt x="1221" y="97"/>
                  </a:lnTo>
                  <a:lnTo>
                    <a:pt x="1274" y="145"/>
                  </a:lnTo>
                  <a:lnTo>
                    <a:pt x="1337" y="194"/>
                  </a:lnTo>
                  <a:lnTo>
                    <a:pt x="1398" y="251"/>
                  </a:lnTo>
                  <a:lnTo>
                    <a:pt x="1465" y="308"/>
                  </a:lnTo>
                  <a:lnTo>
                    <a:pt x="1531" y="366"/>
                  </a:lnTo>
                  <a:lnTo>
                    <a:pt x="1597" y="418"/>
                  </a:lnTo>
                  <a:lnTo>
                    <a:pt x="1654" y="471"/>
                  </a:lnTo>
                  <a:lnTo>
                    <a:pt x="1707" y="520"/>
                  </a:lnTo>
                  <a:lnTo>
                    <a:pt x="1756" y="560"/>
                  </a:lnTo>
                  <a:lnTo>
                    <a:pt x="1791" y="586"/>
                  </a:lnTo>
                  <a:lnTo>
                    <a:pt x="1813" y="608"/>
                  </a:lnTo>
                  <a:lnTo>
                    <a:pt x="1822" y="612"/>
                  </a:lnTo>
                  <a:lnTo>
                    <a:pt x="1817" y="612"/>
                  </a:lnTo>
                  <a:lnTo>
                    <a:pt x="1813" y="617"/>
                  </a:lnTo>
                  <a:lnTo>
                    <a:pt x="1800" y="617"/>
                  </a:lnTo>
                  <a:lnTo>
                    <a:pt x="1786" y="621"/>
                  </a:lnTo>
                  <a:lnTo>
                    <a:pt x="1773" y="621"/>
                  </a:lnTo>
                  <a:lnTo>
                    <a:pt x="1751" y="626"/>
                  </a:lnTo>
                  <a:lnTo>
                    <a:pt x="1734" y="630"/>
                  </a:lnTo>
                  <a:lnTo>
                    <a:pt x="1711" y="630"/>
                  </a:lnTo>
                  <a:lnTo>
                    <a:pt x="1694" y="635"/>
                  </a:lnTo>
                  <a:lnTo>
                    <a:pt x="1676" y="639"/>
                  </a:lnTo>
                  <a:lnTo>
                    <a:pt x="1654" y="639"/>
                  </a:lnTo>
                  <a:lnTo>
                    <a:pt x="1641" y="643"/>
                  </a:lnTo>
                  <a:lnTo>
                    <a:pt x="1628" y="643"/>
                  </a:lnTo>
                  <a:lnTo>
                    <a:pt x="1614" y="648"/>
                  </a:lnTo>
                  <a:lnTo>
                    <a:pt x="1610" y="648"/>
                  </a:lnTo>
                  <a:lnTo>
                    <a:pt x="1606" y="648"/>
                  </a:lnTo>
                  <a:lnTo>
                    <a:pt x="1619" y="665"/>
                  </a:lnTo>
                  <a:lnTo>
                    <a:pt x="1650" y="718"/>
                  </a:lnTo>
                  <a:lnTo>
                    <a:pt x="1698" y="798"/>
                  </a:lnTo>
                  <a:lnTo>
                    <a:pt x="1760" y="899"/>
                  </a:lnTo>
                  <a:lnTo>
                    <a:pt x="1835" y="1018"/>
                  </a:lnTo>
                  <a:lnTo>
                    <a:pt x="1919" y="1155"/>
                  </a:lnTo>
                  <a:lnTo>
                    <a:pt x="2011" y="1301"/>
                  </a:lnTo>
                  <a:lnTo>
                    <a:pt x="2100" y="1451"/>
                  </a:lnTo>
                  <a:lnTo>
                    <a:pt x="2192" y="1601"/>
                  </a:lnTo>
                  <a:lnTo>
                    <a:pt x="2285" y="1747"/>
                  </a:lnTo>
                  <a:lnTo>
                    <a:pt x="2369" y="1879"/>
                  </a:lnTo>
                  <a:lnTo>
                    <a:pt x="2443" y="2003"/>
                  </a:lnTo>
                  <a:lnTo>
                    <a:pt x="2505" y="2104"/>
                  </a:lnTo>
                  <a:lnTo>
                    <a:pt x="2554" y="2183"/>
                  </a:lnTo>
                  <a:lnTo>
                    <a:pt x="2585" y="2236"/>
                  </a:lnTo>
                  <a:lnTo>
                    <a:pt x="2598" y="2254"/>
                  </a:lnTo>
                  <a:lnTo>
                    <a:pt x="2593" y="2249"/>
                  </a:lnTo>
                  <a:lnTo>
                    <a:pt x="2576" y="2245"/>
                  </a:lnTo>
                  <a:lnTo>
                    <a:pt x="2558" y="2241"/>
                  </a:lnTo>
                  <a:lnTo>
                    <a:pt x="2527" y="2232"/>
                  </a:lnTo>
                  <a:lnTo>
                    <a:pt x="2492" y="2219"/>
                  </a:lnTo>
                  <a:lnTo>
                    <a:pt x="2448" y="2210"/>
                  </a:lnTo>
                  <a:lnTo>
                    <a:pt x="2399" y="2197"/>
                  </a:lnTo>
                  <a:lnTo>
                    <a:pt x="2351" y="2188"/>
                  </a:lnTo>
                  <a:lnTo>
                    <a:pt x="2294" y="2174"/>
                  </a:lnTo>
                  <a:lnTo>
                    <a:pt x="2236" y="2166"/>
                  </a:lnTo>
                  <a:lnTo>
                    <a:pt x="2174" y="2157"/>
                  </a:lnTo>
                  <a:lnTo>
                    <a:pt x="2117" y="2148"/>
                  </a:lnTo>
                  <a:lnTo>
                    <a:pt x="2055" y="2144"/>
                  </a:lnTo>
                  <a:lnTo>
                    <a:pt x="1994" y="2144"/>
                  </a:lnTo>
                  <a:lnTo>
                    <a:pt x="1932" y="2144"/>
                  </a:lnTo>
                  <a:lnTo>
                    <a:pt x="1875" y="2148"/>
                  </a:lnTo>
                  <a:lnTo>
                    <a:pt x="1822" y="2157"/>
                  </a:lnTo>
                  <a:lnTo>
                    <a:pt x="1778" y="2170"/>
                  </a:lnTo>
                  <a:lnTo>
                    <a:pt x="1742" y="2188"/>
                  </a:lnTo>
                  <a:lnTo>
                    <a:pt x="1716" y="2205"/>
                  </a:lnTo>
                  <a:lnTo>
                    <a:pt x="1694" y="2227"/>
                  </a:lnTo>
                  <a:lnTo>
                    <a:pt x="1672" y="2249"/>
                  </a:lnTo>
                  <a:lnTo>
                    <a:pt x="1654" y="2272"/>
                  </a:lnTo>
                  <a:lnTo>
                    <a:pt x="1637" y="2294"/>
                  </a:lnTo>
                  <a:lnTo>
                    <a:pt x="1619" y="2316"/>
                  </a:lnTo>
                  <a:lnTo>
                    <a:pt x="1601" y="2338"/>
                  </a:lnTo>
                  <a:lnTo>
                    <a:pt x="1579" y="2355"/>
                  </a:lnTo>
                  <a:lnTo>
                    <a:pt x="1553" y="2373"/>
                  </a:lnTo>
                  <a:lnTo>
                    <a:pt x="1522" y="2391"/>
                  </a:lnTo>
                  <a:lnTo>
                    <a:pt x="1482" y="2399"/>
                  </a:lnTo>
                  <a:lnTo>
                    <a:pt x="1434" y="2408"/>
                  </a:lnTo>
                  <a:lnTo>
                    <a:pt x="1376" y="2413"/>
                  </a:lnTo>
                  <a:lnTo>
                    <a:pt x="1319" y="2408"/>
                  </a:lnTo>
                  <a:lnTo>
                    <a:pt x="1261" y="2404"/>
                  </a:lnTo>
                  <a:lnTo>
                    <a:pt x="1203" y="2391"/>
                  </a:lnTo>
                  <a:lnTo>
                    <a:pt x="1150" y="2377"/>
                  </a:lnTo>
                  <a:lnTo>
                    <a:pt x="1098" y="2360"/>
                  </a:lnTo>
                  <a:lnTo>
                    <a:pt x="1045" y="2342"/>
                  </a:lnTo>
                  <a:lnTo>
                    <a:pt x="996" y="2320"/>
                  </a:lnTo>
                  <a:lnTo>
                    <a:pt x="943" y="2298"/>
                  </a:lnTo>
                  <a:lnTo>
                    <a:pt x="895" y="2280"/>
                  </a:lnTo>
                  <a:lnTo>
                    <a:pt x="846" y="2258"/>
                  </a:lnTo>
                  <a:lnTo>
                    <a:pt x="802" y="2236"/>
                  </a:lnTo>
                  <a:lnTo>
                    <a:pt x="754" y="2214"/>
                  </a:lnTo>
                  <a:lnTo>
                    <a:pt x="705" y="2197"/>
                  </a:lnTo>
                  <a:lnTo>
                    <a:pt x="657" y="2183"/>
                  </a:lnTo>
                  <a:lnTo>
                    <a:pt x="608" y="2170"/>
                  </a:lnTo>
                  <a:lnTo>
                    <a:pt x="560" y="2161"/>
                  </a:lnTo>
                  <a:lnTo>
                    <a:pt x="515" y="2157"/>
                  </a:lnTo>
                  <a:lnTo>
                    <a:pt x="476" y="2152"/>
                  </a:lnTo>
                  <a:lnTo>
                    <a:pt x="445" y="2157"/>
                  </a:lnTo>
                  <a:lnTo>
                    <a:pt x="418" y="2161"/>
                  </a:lnTo>
                  <a:lnTo>
                    <a:pt x="392" y="2166"/>
                  </a:lnTo>
                  <a:lnTo>
                    <a:pt x="374" y="2174"/>
                  </a:lnTo>
                  <a:lnTo>
                    <a:pt x="361" y="2188"/>
                  </a:lnTo>
                  <a:lnTo>
                    <a:pt x="348" y="2197"/>
                  </a:lnTo>
                  <a:lnTo>
                    <a:pt x="343" y="2210"/>
                  </a:lnTo>
                  <a:lnTo>
                    <a:pt x="339" y="2219"/>
                  </a:lnTo>
                  <a:lnTo>
                    <a:pt x="335" y="2232"/>
                  </a:lnTo>
                  <a:lnTo>
                    <a:pt x="330" y="2241"/>
                  </a:lnTo>
                  <a:lnTo>
                    <a:pt x="330" y="2249"/>
                  </a:lnTo>
                  <a:lnTo>
                    <a:pt x="335" y="2258"/>
                  </a:lnTo>
                  <a:lnTo>
                    <a:pt x="335" y="2263"/>
                  </a:lnTo>
                  <a:lnTo>
                    <a:pt x="330" y="2258"/>
                  </a:lnTo>
                  <a:lnTo>
                    <a:pt x="321" y="2254"/>
                  </a:lnTo>
                  <a:lnTo>
                    <a:pt x="304" y="2241"/>
                  </a:lnTo>
                  <a:lnTo>
                    <a:pt x="282" y="2227"/>
                  </a:lnTo>
                  <a:lnTo>
                    <a:pt x="255" y="2210"/>
                  </a:lnTo>
                  <a:lnTo>
                    <a:pt x="229" y="2188"/>
                  </a:lnTo>
                  <a:lnTo>
                    <a:pt x="198" y="2166"/>
                  </a:lnTo>
                  <a:lnTo>
                    <a:pt x="167" y="2144"/>
                  </a:lnTo>
                  <a:lnTo>
                    <a:pt x="136" y="2122"/>
                  </a:lnTo>
                  <a:lnTo>
                    <a:pt x="105" y="2100"/>
                  </a:lnTo>
                  <a:lnTo>
                    <a:pt x="79" y="2082"/>
                  </a:lnTo>
                  <a:lnTo>
                    <a:pt x="52" y="2060"/>
                  </a:lnTo>
                  <a:lnTo>
                    <a:pt x="30" y="2047"/>
                  </a:lnTo>
                  <a:lnTo>
                    <a:pt x="13" y="2033"/>
                  </a:lnTo>
                  <a:lnTo>
                    <a:pt x="4" y="2029"/>
                  </a:lnTo>
                  <a:lnTo>
                    <a:pt x="0" y="2025"/>
                  </a:lnTo>
                  <a:lnTo>
                    <a:pt x="13" y="2003"/>
                  </a:lnTo>
                  <a:lnTo>
                    <a:pt x="48" y="1936"/>
                  </a:lnTo>
                  <a:lnTo>
                    <a:pt x="101" y="1839"/>
                  </a:lnTo>
                  <a:lnTo>
                    <a:pt x="171" y="1707"/>
                  </a:lnTo>
                  <a:lnTo>
                    <a:pt x="251" y="1557"/>
                  </a:lnTo>
                  <a:lnTo>
                    <a:pt x="348" y="1385"/>
                  </a:lnTo>
                  <a:lnTo>
                    <a:pt x="445" y="1203"/>
                  </a:lnTo>
                  <a:lnTo>
                    <a:pt x="546" y="1014"/>
                  </a:lnTo>
                  <a:lnTo>
                    <a:pt x="648" y="824"/>
                  </a:lnTo>
                  <a:lnTo>
                    <a:pt x="749" y="643"/>
                  </a:lnTo>
                  <a:lnTo>
                    <a:pt x="842" y="471"/>
                  </a:lnTo>
                  <a:lnTo>
                    <a:pt x="926" y="317"/>
                  </a:lnTo>
                  <a:lnTo>
                    <a:pt x="996" y="189"/>
                  </a:lnTo>
                  <a:lnTo>
                    <a:pt x="1049" y="88"/>
                  </a:lnTo>
                  <a:lnTo>
                    <a:pt x="1084" y="26"/>
                  </a:lnTo>
                  <a:lnTo>
                    <a:pt x="1098" y="0"/>
                  </a:lnTo>
                  <a:lnTo>
                    <a:pt x="1111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0680" y="6737400"/>
              <a:ext cx="675000" cy="402120"/>
            </a:xfrm>
            <a:custGeom>
              <a:avLst/>
              <a:gdLst/>
              <a:ahLst/>
              <a:rect l="0" t="0" r="r" b="b"/>
              <a:pathLst>
                <a:path w="1875" h="1117">
                  <a:moveTo>
                    <a:pt x="1861" y="1117"/>
                  </a:moveTo>
                  <a:lnTo>
                    <a:pt x="1487" y="888"/>
                  </a:lnTo>
                  <a:lnTo>
                    <a:pt x="1368" y="101"/>
                  </a:lnTo>
                  <a:lnTo>
                    <a:pt x="1151" y="260"/>
                  </a:lnTo>
                  <a:lnTo>
                    <a:pt x="1059" y="0"/>
                  </a:lnTo>
                  <a:lnTo>
                    <a:pt x="551" y="547"/>
                  </a:lnTo>
                  <a:lnTo>
                    <a:pt x="0" y="389"/>
                  </a:lnTo>
                  <a:lnTo>
                    <a:pt x="511" y="706"/>
                  </a:lnTo>
                  <a:lnTo>
                    <a:pt x="762" y="671"/>
                  </a:lnTo>
                  <a:lnTo>
                    <a:pt x="1248" y="879"/>
                  </a:lnTo>
                  <a:lnTo>
                    <a:pt x="1341" y="1003"/>
                  </a:lnTo>
                  <a:lnTo>
                    <a:pt x="1875" y="1117"/>
                  </a:lnTo>
                  <a:lnTo>
                    <a:pt x="1861" y="11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0680" y="6737400"/>
              <a:ext cx="675000" cy="402120"/>
            </a:xfrm>
            <a:custGeom>
              <a:avLst/>
              <a:gdLst/>
              <a:ahLst/>
              <a:rect l="0" t="0" r="r" b="b"/>
              <a:pathLst>
                <a:path fill="none" w="1875" h="1117">
                  <a:moveTo>
                    <a:pt x="1861" y="1117"/>
                  </a:moveTo>
                  <a:lnTo>
                    <a:pt x="1487" y="888"/>
                  </a:lnTo>
                  <a:lnTo>
                    <a:pt x="1368" y="101"/>
                  </a:lnTo>
                  <a:lnTo>
                    <a:pt x="1151" y="260"/>
                  </a:lnTo>
                  <a:lnTo>
                    <a:pt x="1059" y="0"/>
                  </a:lnTo>
                  <a:lnTo>
                    <a:pt x="551" y="547"/>
                  </a:lnTo>
                  <a:lnTo>
                    <a:pt x="0" y="389"/>
                  </a:lnTo>
                  <a:lnTo>
                    <a:pt x="511" y="706"/>
                  </a:lnTo>
                  <a:lnTo>
                    <a:pt x="762" y="671"/>
                  </a:lnTo>
                  <a:lnTo>
                    <a:pt x="1248" y="879"/>
                  </a:lnTo>
                  <a:lnTo>
                    <a:pt x="1341" y="1003"/>
                  </a:lnTo>
                  <a:lnTo>
                    <a:pt x="1875" y="1117"/>
                  </a:lnTo>
                  <a:lnTo>
                    <a:pt x="1861" y="111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25400" y="7334280"/>
              <a:ext cx="309960" cy="173520"/>
            </a:xfrm>
            <a:custGeom>
              <a:avLst/>
              <a:gdLst/>
              <a:ahLst/>
              <a:rect l="0" t="0" r="r" b="b"/>
              <a:pathLst>
                <a:path w="861" h="482">
                  <a:moveTo>
                    <a:pt x="609" y="221"/>
                  </a:moveTo>
                  <a:lnTo>
                    <a:pt x="822" y="363"/>
                  </a:lnTo>
                  <a:lnTo>
                    <a:pt x="861" y="376"/>
                  </a:lnTo>
                  <a:lnTo>
                    <a:pt x="538" y="0"/>
                  </a:lnTo>
                  <a:lnTo>
                    <a:pt x="74" y="256"/>
                  </a:lnTo>
                  <a:lnTo>
                    <a:pt x="0" y="482"/>
                  </a:lnTo>
                  <a:lnTo>
                    <a:pt x="411" y="225"/>
                  </a:lnTo>
                  <a:lnTo>
                    <a:pt x="486" y="340"/>
                  </a:lnTo>
                  <a:lnTo>
                    <a:pt x="596" y="305"/>
                  </a:lnTo>
                  <a:lnTo>
                    <a:pt x="613" y="221"/>
                  </a:lnTo>
                  <a:lnTo>
                    <a:pt x="609" y="2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5400" y="7334280"/>
              <a:ext cx="309960" cy="173520"/>
            </a:xfrm>
            <a:custGeom>
              <a:avLst/>
              <a:gdLst/>
              <a:ahLst/>
              <a:rect l="0" t="0" r="r" b="b"/>
              <a:pathLst>
                <a:path fill="none" w="861" h="482">
                  <a:moveTo>
                    <a:pt x="609" y="221"/>
                  </a:moveTo>
                  <a:lnTo>
                    <a:pt x="822" y="363"/>
                  </a:lnTo>
                  <a:lnTo>
                    <a:pt x="861" y="376"/>
                  </a:lnTo>
                  <a:lnTo>
                    <a:pt x="538" y="0"/>
                  </a:lnTo>
                  <a:lnTo>
                    <a:pt x="74" y="256"/>
                  </a:lnTo>
                  <a:lnTo>
                    <a:pt x="0" y="482"/>
                  </a:lnTo>
                  <a:lnTo>
                    <a:pt x="411" y="225"/>
                  </a:lnTo>
                  <a:lnTo>
                    <a:pt x="486" y="340"/>
                  </a:lnTo>
                  <a:lnTo>
                    <a:pt x="596" y="305"/>
                  </a:lnTo>
                  <a:lnTo>
                    <a:pt x="613" y="221"/>
                  </a:lnTo>
                  <a:lnTo>
                    <a:pt x="609" y="22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38080" y="7234200"/>
              <a:ext cx="443160" cy="276480"/>
            </a:xfrm>
            <a:custGeom>
              <a:avLst/>
              <a:gdLst/>
              <a:ahLst/>
              <a:rect l="0" t="0" r="r" b="b"/>
              <a:pathLst>
                <a:path w="1231" h="768">
                  <a:moveTo>
                    <a:pt x="1231" y="57"/>
                  </a:moveTo>
                  <a:lnTo>
                    <a:pt x="1125" y="0"/>
                  </a:lnTo>
                  <a:lnTo>
                    <a:pt x="693" y="631"/>
                  </a:lnTo>
                  <a:lnTo>
                    <a:pt x="0" y="631"/>
                  </a:lnTo>
                  <a:lnTo>
                    <a:pt x="0" y="768"/>
                  </a:lnTo>
                  <a:lnTo>
                    <a:pt x="1107" y="768"/>
                  </a:lnTo>
                  <a:lnTo>
                    <a:pt x="1116" y="631"/>
                  </a:lnTo>
                  <a:lnTo>
                    <a:pt x="838" y="631"/>
                  </a:lnTo>
                  <a:lnTo>
                    <a:pt x="1231" y="74"/>
                  </a:lnTo>
                  <a:lnTo>
                    <a:pt x="1231" y="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38080" y="7234200"/>
              <a:ext cx="443160" cy="276480"/>
            </a:xfrm>
            <a:custGeom>
              <a:avLst/>
              <a:gdLst/>
              <a:ahLst/>
              <a:rect l="0" t="0" r="r" b="b"/>
              <a:pathLst>
                <a:path fill="none" w="1231" h="768">
                  <a:moveTo>
                    <a:pt x="1231" y="57"/>
                  </a:moveTo>
                  <a:lnTo>
                    <a:pt x="1125" y="0"/>
                  </a:lnTo>
                  <a:lnTo>
                    <a:pt x="693" y="631"/>
                  </a:lnTo>
                  <a:lnTo>
                    <a:pt x="0" y="631"/>
                  </a:lnTo>
                  <a:lnTo>
                    <a:pt x="0" y="768"/>
                  </a:lnTo>
                  <a:lnTo>
                    <a:pt x="1107" y="768"/>
                  </a:lnTo>
                  <a:lnTo>
                    <a:pt x="1116" y="631"/>
                  </a:lnTo>
                  <a:lnTo>
                    <a:pt x="838" y="631"/>
                  </a:lnTo>
                  <a:lnTo>
                    <a:pt x="1231" y="74"/>
                  </a:lnTo>
                  <a:lnTo>
                    <a:pt x="1231" y="5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719680" y="6680160"/>
            <a:ext cx="1011600" cy="1146600"/>
            <a:chOff x="5719680" y="6680160"/>
            <a:chExt cx="1011600" cy="1146600"/>
          </a:xfrm>
        </p:grpSpPr>
        <p:sp>
          <p:nvSpPr>
            <p:cNvPr id="148" name=""/>
            <p:cNvSpPr/>
            <p:nvPr/>
          </p:nvSpPr>
          <p:spPr>
            <a:xfrm>
              <a:off x="6037200" y="7004160"/>
              <a:ext cx="116280" cy="114840"/>
            </a:xfrm>
            <a:custGeom>
              <a:avLst/>
              <a:gdLst/>
              <a:ahLst/>
              <a:rect l="0" t="0" r="r" b="b"/>
              <a:pathLst>
                <a:path w="323" h="319">
                  <a:moveTo>
                    <a:pt x="0" y="146"/>
                  </a:moveTo>
                  <a:lnTo>
                    <a:pt x="52" y="159"/>
                  </a:lnTo>
                  <a:lnTo>
                    <a:pt x="79" y="203"/>
                  </a:lnTo>
                  <a:lnTo>
                    <a:pt x="66" y="319"/>
                  </a:lnTo>
                  <a:lnTo>
                    <a:pt x="106" y="225"/>
                  </a:lnTo>
                  <a:lnTo>
                    <a:pt x="150" y="124"/>
                  </a:lnTo>
                  <a:lnTo>
                    <a:pt x="244" y="124"/>
                  </a:lnTo>
                  <a:lnTo>
                    <a:pt x="323" y="0"/>
                  </a:lnTo>
                  <a:lnTo>
                    <a:pt x="203" y="0"/>
                  </a:lnTo>
                  <a:lnTo>
                    <a:pt x="0" y="137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37200" y="7004160"/>
              <a:ext cx="116280" cy="114840"/>
            </a:xfrm>
            <a:custGeom>
              <a:avLst/>
              <a:gdLst/>
              <a:ahLst/>
              <a:rect l="0" t="0" r="r" b="b"/>
              <a:pathLst>
                <a:path fill="none" w="323" h="319">
                  <a:moveTo>
                    <a:pt x="0" y="146"/>
                  </a:moveTo>
                  <a:lnTo>
                    <a:pt x="52" y="159"/>
                  </a:lnTo>
                  <a:lnTo>
                    <a:pt x="79" y="203"/>
                  </a:lnTo>
                  <a:lnTo>
                    <a:pt x="66" y="319"/>
                  </a:lnTo>
                  <a:lnTo>
                    <a:pt x="106" y="225"/>
                  </a:lnTo>
                  <a:lnTo>
                    <a:pt x="150" y="124"/>
                  </a:lnTo>
                  <a:lnTo>
                    <a:pt x="244" y="124"/>
                  </a:lnTo>
                  <a:lnTo>
                    <a:pt x="323" y="0"/>
                  </a:lnTo>
                  <a:lnTo>
                    <a:pt x="203" y="0"/>
                  </a:lnTo>
                  <a:lnTo>
                    <a:pt x="0" y="137"/>
                  </a:lnTo>
                  <a:lnTo>
                    <a:pt x="0" y="14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96000" y="6958080"/>
              <a:ext cx="935280" cy="868680"/>
            </a:xfrm>
            <a:custGeom>
              <a:avLst/>
              <a:gdLst/>
              <a:ahLst/>
              <a:rect l="0" t="0" r="r" b="b"/>
              <a:pathLst>
                <a:path w="2598" h="2413">
                  <a:moveTo>
                    <a:pt x="1487" y="0"/>
                  </a:moveTo>
                  <a:lnTo>
                    <a:pt x="1478" y="8"/>
                  </a:lnTo>
                  <a:lnTo>
                    <a:pt x="1456" y="26"/>
                  </a:lnTo>
                  <a:lnTo>
                    <a:pt x="1420" y="57"/>
                  </a:lnTo>
                  <a:lnTo>
                    <a:pt x="1376" y="97"/>
                  </a:lnTo>
                  <a:lnTo>
                    <a:pt x="1323" y="145"/>
                  </a:lnTo>
                  <a:lnTo>
                    <a:pt x="1261" y="194"/>
                  </a:lnTo>
                  <a:lnTo>
                    <a:pt x="1199" y="251"/>
                  </a:lnTo>
                  <a:lnTo>
                    <a:pt x="1133" y="308"/>
                  </a:lnTo>
                  <a:lnTo>
                    <a:pt x="1067" y="366"/>
                  </a:lnTo>
                  <a:lnTo>
                    <a:pt x="1001" y="418"/>
                  </a:lnTo>
                  <a:lnTo>
                    <a:pt x="943" y="471"/>
                  </a:lnTo>
                  <a:lnTo>
                    <a:pt x="890" y="520"/>
                  </a:lnTo>
                  <a:lnTo>
                    <a:pt x="842" y="560"/>
                  </a:lnTo>
                  <a:lnTo>
                    <a:pt x="806" y="586"/>
                  </a:lnTo>
                  <a:lnTo>
                    <a:pt x="784" y="608"/>
                  </a:lnTo>
                  <a:lnTo>
                    <a:pt x="776" y="612"/>
                  </a:lnTo>
                  <a:lnTo>
                    <a:pt x="780" y="612"/>
                  </a:lnTo>
                  <a:lnTo>
                    <a:pt x="784" y="617"/>
                  </a:lnTo>
                  <a:lnTo>
                    <a:pt x="798" y="617"/>
                  </a:lnTo>
                  <a:lnTo>
                    <a:pt x="811" y="621"/>
                  </a:lnTo>
                  <a:lnTo>
                    <a:pt x="824" y="621"/>
                  </a:lnTo>
                  <a:lnTo>
                    <a:pt x="846" y="626"/>
                  </a:lnTo>
                  <a:lnTo>
                    <a:pt x="864" y="630"/>
                  </a:lnTo>
                  <a:lnTo>
                    <a:pt x="886" y="630"/>
                  </a:lnTo>
                  <a:lnTo>
                    <a:pt x="903" y="635"/>
                  </a:lnTo>
                  <a:lnTo>
                    <a:pt x="921" y="639"/>
                  </a:lnTo>
                  <a:lnTo>
                    <a:pt x="943" y="639"/>
                  </a:lnTo>
                  <a:lnTo>
                    <a:pt x="956" y="643"/>
                  </a:lnTo>
                  <a:lnTo>
                    <a:pt x="970" y="643"/>
                  </a:lnTo>
                  <a:lnTo>
                    <a:pt x="983" y="648"/>
                  </a:lnTo>
                  <a:lnTo>
                    <a:pt x="987" y="648"/>
                  </a:lnTo>
                  <a:lnTo>
                    <a:pt x="992" y="648"/>
                  </a:lnTo>
                  <a:lnTo>
                    <a:pt x="978" y="665"/>
                  </a:lnTo>
                  <a:lnTo>
                    <a:pt x="948" y="718"/>
                  </a:lnTo>
                  <a:lnTo>
                    <a:pt x="899" y="798"/>
                  </a:lnTo>
                  <a:lnTo>
                    <a:pt x="837" y="899"/>
                  </a:lnTo>
                  <a:lnTo>
                    <a:pt x="762" y="1018"/>
                  </a:lnTo>
                  <a:lnTo>
                    <a:pt x="679" y="1155"/>
                  </a:lnTo>
                  <a:lnTo>
                    <a:pt x="586" y="1301"/>
                  </a:lnTo>
                  <a:lnTo>
                    <a:pt x="498" y="1451"/>
                  </a:lnTo>
                  <a:lnTo>
                    <a:pt x="405" y="1601"/>
                  </a:lnTo>
                  <a:lnTo>
                    <a:pt x="313" y="1747"/>
                  </a:lnTo>
                  <a:lnTo>
                    <a:pt x="229" y="1879"/>
                  </a:lnTo>
                  <a:lnTo>
                    <a:pt x="154" y="2003"/>
                  </a:lnTo>
                  <a:lnTo>
                    <a:pt x="92" y="2104"/>
                  </a:lnTo>
                  <a:lnTo>
                    <a:pt x="44" y="2183"/>
                  </a:lnTo>
                  <a:lnTo>
                    <a:pt x="13" y="2236"/>
                  </a:lnTo>
                  <a:lnTo>
                    <a:pt x="0" y="2254"/>
                  </a:lnTo>
                  <a:lnTo>
                    <a:pt x="4" y="2249"/>
                  </a:lnTo>
                  <a:lnTo>
                    <a:pt x="22" y="2245"/>
                  </a:lnTo>
                  <a:lnTo>
                    <a:pt x="39" y="2241"/>
                  </a:lnTo>
                  <a:lnTo>
                    <a:pt x="70" y="2232"/>
                  </a:lnTo>
                  <a:lnTo>
                    <a:pt x="105" y="2219"/>
                  </a:lnTo>
                  <a:lnTo>
                    <a:pt x="149" y="2210"/>
                  </a:lnTo>
                  <a:lnTo>
                    <a:pt x="198" y="2197"/>
                  </a:lnTo>
                  <a:lnTo>
                    <a:pt x="246" y="2188"/>
                  </a:lnTo>
                  <a:lnTo>
                    <a:pt x="304" y="2174"/>
                  </a:lnTo>
                  <a:lnTo>
                    <a:pt x="361" y="2166"/>
                  </a:lnTo>
                  <a:lnTo>
                    <a:pt x="423" y="2157"/>
                  </a:lnTo>
                  <a:lnTo>
                    <a:pt x="480" y="2148"/>
                  </a:lnTo>
                  <a:lnTo>
                    <a:pt x="542" y="2144"/>
                  </a:lnTo>
                  <a:lnTo>
                    <a:pt x="604" y="2144"/>
                  </a:lnTo>
                  <a:lnTo>
                    <a:pt x="665" y="2144"/>
                  </a:lnTo>
                  <a:lnTo>
                    <a:pt x="723" y="2148"/>
                  </a:lnTo>
                  <a:lnTo>
                    <a:pt x="776" y="2157"/>
                  </a:lnTo>
                  <a:lnTo>
                    <a:pt x="820" y="2170"/>
                  </a:lnTo>
                  <a:lnTo>
                    <a:pt x="855" y="2188"/>
                  </a:lnTo>
                  <a:lnTo>
                    <a:pt x="881" y="2205"/>
                  </a:lnTo>
                  <a:lnTo>
                    <a:pt x="903" y="2227"/>
                  </a:lnTo>
                  <a:lnTo>
                    <a:pt x="926" y="2249"/>
                  </a:lnTo>
                  <a:lnTo>
                    <a:pt x="943" y="2272"/>
                  </a:lnTo>
                  <a:lnTo>
                    <a:pt x="961" y="2294"/>
                  </a:lnTo>
                  <a:lnTo>
                    <a:pt x="978" y="2316"/>
                  </a:lnTo>
                  <a:lnTo>
                    <a:pt x="996" y="2338"/>
                  </a:lnTo>
                  <a:lnTo>
                    <a:pt x="1018" y="2355"/>
                  </a:lnTo>
                  <a:lnTo>
                    <a:pt x="1045" y="2373"/>
                  </a:lnTo>
                  <a:lnTo>
                    <a:pt x="1075" y="2391"/>
                  </a:lnTo>
                  <a:lnTo>
                    <a:pt x="1115" y="2399"/>
                  </a:lnTo>
                  <a:lnTo>
                    <a:pt x="1164" y="2408"/>
                  </a:lnTo>
                  <a:lnTo>
                    <a:pt x="1221" y="2413"/>
                  </a:lnTo>
                  <a:lnTo>
                    <a:pt x="1278" y="2408"/>
                  </a:lnTo>
                  <a:lnTo>
                    <a:pt x="1337" y="2404"/>
                  </a:lnTo>
                  <a:lnTo>
                    <a:pt x="1394" y="2391"/>
                  </a:lnTo>
                  <a:lnTo>
                    <a:pt x="1447" y="2377"/>
                  </a:lnTo>
                  <a:lnTo>
                    <a:pt x="1500" y="2360"/>
                  </a:lnTo>
                  <a:lnTo>
                    <a:pt x="1553" y="2342"/>
                  </a:lnTo>
                  <a:lnTo>
                    <a:pt x="1601" y="2320"/>
                  </a:lnTo>
                  <a:lnTo>
                    <a:pt x="1654" y="2298"/>
                  </a:lnTo>
                  <a:lnTo>
                    <a:pt x="1703" y="2280"/>
                  </a:lnTo>
                  <a:lnTo>
                    <a:pt x="1751" y="2258"/>
                  </a:lnTo>
                  <a:lnTo>
                    <a:pt x="1795" y="2236"/>
                  </a:lnTo>
                  <a:lnTo>
                    <a:pt x="1844" y="2214"/>
                  </a:lnTo>
                  <a:lnTo>
                    <a:pt x="1892" y="2197"/>
                  </a:lnTo>
                  <a:lnTo>
                    <a:pt x="1941" y="2183"/>
                  </a:lnTo>
                  <a:lnTo>
                    <a:pt x="1989" y="2170"/>
                  </a:lnTo>
                  <a:lnTo>
                    <a:pt x="2038" y="2161"/>
                  </a:lnTo>
                  <a:lnTo>
                    <a:pt x="2082" y="2157"/>
                  </a:lnTo>
                  <a:lnTo>
                    <a:pt x="2122" y="2152"/>
                  </a:lnTo>
                  <a:lnTo>
                    <a:pt x="2152" y="2157"/>
                  </a:lnTo>
                  <a:lnTo>
                    <a:pt x="2179" y="2161"/>
                  </a:lnTo>
                  <a:lnTo>
                    <a:pt x="2205" y="2166"/>
                  </a:lnTo>
                  <a:lnTo>
                    <a:pt x="2223" y="2174"/>
                  </a:lnTo>
                  <a:lnTo>
                    <a:pt x="2236" y="2188"/>
                  </a:lnTo>
                  <a:lnTo>
                    <a:pt x="2249" y="2197"/>
                  </a:lnTo>
                  <a:lnTo>
                    <a:pt x="2254" y="2210"/>
                  </a:lnTo>
                  <a:lnTo>
                    <a:pt x="2258" y="2219"/>
                  </a:lnTo>
                  <a:lnTo>
                    <a:pt x="2263" y="2232"/>
                  </a:lnTo>
                  <a:lnTo>
                    <a:pt x="2267" y="2241"/>
                  </a:lnTo>
                  <a:lnTo>
                    <a:pt x="2267" y="2249"/>
                  </a:lnTo>
                  <a:lnTo>
                    <a:pt x="2263" y="2258"/>
                  </a:lnTo>
                  <a:lnTo>
                    <a:pt x="2263" y="2263"/>
                  </a:lnTo>
                  <a:lnTo>
                    <a:pt x="2267" y="2258"/>
                  </a:lnTo>
                  <a:lnTo>
                    <a:pt x="2276" y="2254"/>
                  </a:lnTo>
                  <a:lnTo>
                    <a:pt x="2294" y="2241"/>
                  </a:lnTo>
                  <a:lnTo>
                    <a:pt x="2316" y="2227"/>
                  </a:lnTo>
                  <a:lnTo>
                    <a:pt x="2342" y="2210"/>
                  </a:lnTo>
                  <a:lnTo>
                    <a:pt x="2369" y="2188"/>
                  </a:lnTo>
                  <a:lnTo>
                    <a:pt x="2399" y="2166"/>
                  </a:lnTo>
                  <a:lnTo>
                    <a:pt x="2430" y="2144"/>
                  </a:lnTo>
                  <a:lnTo>
                    <a:pt x="2461" y="2122"/>
                  </a:lnTo>
                  <a:lnTo>
                    <a:pt x="2492" y="2100"/>
                  </a:lnTo>
                  <a:lnTo>
                    <a:pt x="2518" y="2082"/>
                  </a:lnTo>
                  <a:lnTo>
                    <a:pt x="2545" y="2060"/>
                  </a:lnTo>
                  <a:lnTo>
                    <a:pt x="2567" y="2047"/>
                  </a:lnTo>
                  <a:lnTo>
                    <a:pt x="2585" y="2033"/>
                  </a:lnTo>
                  <a:lnTo>
                    <a:pt x="2593" y="2029"/>
                  </a:lnTo>
                  <a:lnTo>
                    <a:pt x="2598" y="2025"/>
                  </a:lnTo>
                  <a:lnTo>
                    <a:pt x="2585" y="2003"/>
                  </a:lnTo>
                  <a:lnTo>
                    <a:pt x="2549" y="1936"/>
                  </a:lnTo>
                  <a:lnTo>
                    <a:pt x="2496" y="1839"/>
                  </a:lnTo>
                  <a:lnTo>
                    <a:pt x="2426" y="1707"/>
                  </a:lnTo>
                  <a:lnTo>
                    <a:pt x="2346" y="1557"/>
                  </a:lnTo>
                  <a:lnTo>
                    <a:pt x="2249" y="1385"/>
                  </a:lnTo>
                  <a:lnTo>
                    <a:pt x="2152" y="1203"/>
                  </a:lnTo>
                  <a:lnTo>
                    <a:pt x="2051" y="1014"/>
                  </a:lnTo>
                  <a:lnTo>
                    <a:pt x="1950" y="824"/>
                  </a:lnTo>
                  <a:lnTo>
                    <a:pt x="1848" y="643"/>
                  </a:lnTo>
                  <a:lnTo>
                    <a:pt x="1756" y="471"/>
                  </a:lnTo>
                  <a:lnTo>
                    <a:pt x="1672" y="317"/>
                  </a:lnTo>
                  <a:lnTo>
                    <a:pt x="1601" y="189"/>
                  </a:lnTo>
                  <a:lnTo>
                    <a:pt x="1548" y="88"/>
                  </a:lnTo>
                  <a:lnTo>
                    <a:pt x="1513" y="26"/>
                  </a:lnTo>
                  <a:lnTo>
                    <a:pt x="1500" y="0"/>
                  </a:lnTo>
                  <a:lnTo>
                    <a:pt x="148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96000" y="6958080"/>
              <a:ext cx="935280" cy="868680"/>
            </a:xfrm>
            <a:custGeom>
              <a:avLst/>
              <a:gdLst/>
              <a:ahLst/>
              <a:rect l="0" t="0" r="r" b="b"/>
              <a:pathLst>
                <a:path fill="none" w="2598" h="2413">
                  <a:moveTo>
                    <a:pt x="1487" y="0"/>
                  </a:moveTo>
                  <a:lnTo>
                    <a:pt x="1478" y="8"/>
                  </a:lnTo>
                  <a:lnTo>
                    <a:pt x="1456" y="26"/>
                  </a:lnTo>
                  <a:lnTo>
                    <a:pt x="1420" y="57"/>
                  </a:lnTo>
                  <a:lnTo>
                    <a:pt x="1376" y="97"/>
                  </a:lnTo>
                  <a:lnTo>
                    <a:pt x="1323" y="145"/>
                  </a:lnTo>
                  <a:lnTo>
                    <a:pt x="1261" y="194"/>
                  </a:lnTo>
                  <a:lnTo>
                    <a:pt x="1199" y="251"/>
                  </a:lnTo>
                  <a:lnTo>
                    <a:pt x="1133" y="308"/>
                  </a:lnTo>
                  <a:lnTo>
                    <a:pt x="1067" y="366"/>
                  </a:lnTo>
                  <a:lnTo>
                    <a:pt x="1001" y="418"/>
                  </a:lnTo>
                  <a:lnTo>
                    <a:pt x="943" y="471"/>
                  </a:lnTo>
                  <a:lnTo>
                    <a:pt x="890" y="520"/>
                  </a:lnTo>
                  <a:lnTo>
                    <a:pt x="842" y="560"/>
                  </a:lnTo>
                  <a:lnTo>
                    <a:pt x="806" y="586"/>
                  </a:lnTo>
                  <a:lnTo>
                    <a:pt x="784" y="608"/>
                  </a:lnTo>
                  <a:lnTo>
                    <a:pt x="776" y="612"/>
                  </a:lnTo>
                  <a:lnTo>
                    <a:pt x="780" y="612"/>
                  </a:lnTo>
                  <a:lnTo>
                    <a:pt x="784" y="617"/>
                  </a:lnTo>
                  <a:lnTo>
                    <a:pt x="798" y="617"/>
                  </a:lnTo>
                  <a:lnTo>
                    <a:pt x="811" y="621"/>
                  </a:lnTo>
                  <a:lnTo>
                    <a:pt x="824" y="621"/>
                  </a:lnTo>
                  <a:lnTo>
                    <a:pt x="846" y="626"/>
                  </a:lnTo>
                  <a:lnTo>
                    <a:pt x="864" y="630"/>
                  </a:lnTo>
                  <a:lnTo>
                    <a:pt x="886" y="630"/>
                  </a:lnTo>
                  <a:lnTo>
                    <a:pt x="903" y="635"/>
                  </a:lnTo>
                  <a:lnTo>
                    <a:pt x="921" y="639"/>
                  </a:lnTo>
                  <a:lnTo>
                    <a:pt x="943" y="639"/>
                  </a:lnTo>
                  <a:lnTo>
                    <a:pt x="956" y="643"/>
                  </a:lnTo>
                  <a:lnTo>
                    <a:pt x="970" y="643"/>
                  </a:lnTo>
                  <a:lnTo>
                    <a:pt x="983" y="648"/>
                  </a:lnTo>
                  <a:lnTo>
                    <a:pt x="987" y="648"/>
                  </a:lnTo>
                  <a:lnTo>
                    <a:pt x="992" y="648"/>
                  </a:lnTo>
                  <a:lnTo>
                    <a:pt x="978" y="665"/>
                  </a:lnTo>
                  <a:lnTo>
                    <a:pt x="948" y="718"/>
                  </a:lnTo>
                  <a:lnTo>
                    <a:pt x="899" y="798"/>
                  </a:lnTo>
                  <a:lnTo>
                    <a:pt x="837" y="899"/>
                  </a:lnTo>
                  <a:lnTo>
                    <a:pt x="762" y="1018"/>
                  </a:lnTo>
                  <a:lnTo>
                    <a:pt x="679" y="1155"/>
                  </a:lnTo>
                  <a:lnTo>
                    <a:pt x="586" y="1301"/>
                  </a:lnTo>
                  <a:lnTo>
                    <a:pt x="498" y="1451"/>
                  </a:lnTo>
                  <a:lnTo>
                    <a:pt x="405" y="1601"/>
                  </a:lnTo>
                  <a:lnTo>
                    <a:pt x="313" y="1747"/>
                  </a:lnTo>
                  <a:lnTo>
                    <a:pt x="229" y="1879"/>
                  </a:lnTo>
                  <a:lnTo>
                    <a:pt x="154" y="2003"/>
                  </a:lnTo>
                  <a:lnTo>
                    <a:pt x="92" y="2104"/>
                  </a:lnTo>
                  <a:lnTo>
                    <a:pt x="44" y="2183"/>
                  </a:lnTo>
                  <a:lnTo>
                    <a:pt x="13" y="2236"/>
                  </a:lnTo>
                  <a:lnTo>
                    <a:pt x="0" y="2254"/>
                  </a:lnTo>
                  <a:lnTo>
                    <a:pt x="4" y="2249"/>
                  </a:lnTo>
                  <a:lnTo>
                    <a:pt x="22" y="2245"/>
                  </a:lnTo>
                  <a:lnTo>
                    <a:pt x="39" y="2241"/>
                  </a:lnTo>
                  <a:lnTo>
                    <a:pt x="70" y="2232"/>
                  </a:lnTo>
                  <a:lnTo>
                    <a:pt x="105" y="2219"/>
                  </a:lnTo>
                  <a:lnTo>
                    <a:pt x="149" y="2210"/>
                  </a:lnTo>
                  <a:lnTo>
                    <a:pt x="198" y="2197"/>
                  </a:lnTo>
                  <a:lnTo>
                    <a:pt x="246" y="2188"/>
                  </a:lnTo>
                  <a:lnTo>
                    <a:pt x="304" y="2174"/>
                  </a:lnTo>
                  <a:lnTo>
                    <a:pt x="361" y="2166"/>
                  </a:lnTo>
                  <a:lnTo>
                    <a:pt x="423" y="2157"/>
                  </a:lnTo>
                  <a:lnTo>
                    <a:pt x="480" y="2148"/>
                  </a:lnTo>
                  <a:lnTo>
                    <a:pt x="542" y="2144"/>
                  </a:lnTo>
                  <a:lnTo>
                    <a:pt x="604" y="2144"/>
                  </a:lnTo>
                  <a:lnTo>
                    <a:pt x="665" y="2144"/>
                  </a:lnTo>
                  <a:lnTo>
                    <a:pt x="723" y="2148"/>
                  </a:lnTo>
                  <a:lnTo>
                    <a:pt x="776" y="2157"/>
                  </a:lnTo>
                  <a:lnTo>
                    <a:pt x="820" y="2170"/>
                  </a:lnTo>
                  <a:lnTo>
                    <a:pt x="855" y="2188"/>
                  </a:lnTo>
                  <a:lnTo>
                    <a:pt x="881" y="2205"/>
                  </a:lnTo>
                  <a:lnTo>
                    <a:pt x="903" y="2227"/>
                  </a:lnTo>
                  <a:lnTo>
                    <a:pt x="926" y="2249"/>
                  </a:lnTo>
                  <a:lnTo>
                    <a:pt x="943" y="2272"/>
                  </a:lnTo>
                  <a:lnTo>
                    <a:pt x="961" y="2294"/>
                  </a:lnTo>
                  <a:lnTo>
                    <a:pt x="978" y="2316"/>
                  </a:lnTo>
                  <a:lnTo>
                    <a:pt x="996" y="2338"/>
                  </a:lnTo>
                  <a:lnTo>
                    <a:pt x="1018" y="2355"/>
                  </a:lnTo>
                  <a:lnTo>
                    <a:pt x="1045" y="2373"/>
                  </a:lnTo>
                  <a:lnTo>
                    <a:pt x="1075" y="2391"/>
                  </a:lnTo>
                  <a:lnTo>
                    <a:pt x="1115" y="2399"/>
                  </a:lnTo>
                  <a:lnTo>
                    <a:pt x="1164" y="2408"/>
                  </a:lnTo>
                  <a:lnTo>
                    <a:pt x="1221" y="2413"/>
                  </a:lnTo>
                  <a:lnTo>
                    <a:pt x="1278" y="2408"/>
                  </a:lnTo>
                  <a:lnTo>
                    <a:pt x="1337" y="2404"/>
                  </a:lnTo>
                  <a:lnTo>
                    <a:pt x="1394" y="2391"/>
                  </a:lnTo>
                  <a:lnTo>
                    <a:pt x="1447" y="2377"/>
                  </a:lnTo>
                  <a:lnTo>
                    <a:pt x="1500" y="2360"/>
                  </a:lnTo>
                  <a:lnTo>
                    <a:pt x="1553" y="2342"/>
                  </a:lnTo>
                  <a:lnTo>
                    <a:pt x="1601" y="2320"/>
                  </a:lnTo>
                  <a:lnTo>
                    <a:pt x="1654" y="2298"/>
                  </a:lnTo>
                  <a:lnTo>
                    <a:pt x="1703" y="2280"/>
                  </a:lnTo>
                  <a:lnTo>
                    <a:pt x="1751" y="2258"/>
                  </a:lnTo>
                  <a:lnTo>
                    <a:pt x="1795" y="2236"/>
                  </a:lnTo>
                  <a:lnTo>
                    <a:pt x="1844" y="2214"/>
                  </a:lnTo>
                  <a:lnTo>
                    <a:pt x="1892" y="2197"/>
                  </a:lnTo>
                  <a:lnTo>
                    <a:pt x="1941" y="2183"/>
                  </a:lnTo>
                  <a:lnTo>
                    <a:pt x="1989" y="2170"/>
                  </a:lnTo>
                  <a:lnTo>
                    <a:pt x="2038" y="2161"/>
                  </a:lnTo>
                  <a:lnTo>
                    <a:pt x="2082" y="2157"/>
                  </a:lnTo>
                  <a:lnTo>
                    <a:pt x="2122" y="2152"/>
                  </a:lnTo>
                  <a:lnTo>
                    <a:pt x="2152" y="2157"/>
                  </a:lnTo>
                  <a:lnTo>
                    <a:pt x="2179" y="2161"/>
                  </a:lnTo>
                  <a:lnTo>
                    <a:pt x="2205" y="2166"/>
                  </a:lnTo>
                  <a:lnTo>
                    <a:pt x="2223" y="2174"/>
                  </a:lnTo>
                  <a:lnTo>
                    <a:pt x="2236" y="2188"/>
                  </a:lnTo>
                  <a:lnTo>
                    <a:pt x="2249" y="2197"/>
                  </a:lnTo>
                  <a:lnTo>
                    <a:pt x="2254" y="2210"/>
                  </a:lnTo>
                  <a:lnTo>
                    <a:pt x="2258" y="2219"/>
                  </a:lnTo>
                  <a:lnTo>
                    <a:pt x="2263" y="2232"/>
                  </a:lnTo>
                  <a:lnTo>
                    <a:pt x="2267" y="2241"/>
                  </a:lnTo>
                  <a:lnTo>
                    <a:pt x="2267" y="2249"/>
                  </a:lnTo>
                  <a:lnTo>
                    <a:pt x="2263" y="2258"/>
                  </a:lnTo>
                  <a:lnTo>
                    <a:pt x="2263" y="2263"/>
                  </a:lnTo>
                  <a:lnTo>
                    <a:pt x="2267" y="2258"/>
                  </a:lnTo>
                  <a:lnTo>
                    <a:pt x="2276" y="2254"/>
                  </a:lnTo>
                  <a:lnTo>
                    <a:pt x="2294" y="2241"/>
                  </a:lnTo>
                  <a:lnTo>
                    <a:pt x="2316" y="2227"/>
                  </a:lnTo>
                  <a:lnTo>
                    <a:pt x="2342" y="2210"/>
                  </a:lnTo>
                  <a:lnTo>
                    <a:pt x="2369" y="2188"/>
                  </a:lnTo>
                  <a:lnTo>
                    <a:pt x="2399" y="2166"/>
                  </a:lnTo>
                  <a:lnTo>
                    <a:pt x="2430" y="2144"/>
                  </a:lnTo>
                  <a:lnTo>
                    <a:pt x="2461" y="2122"/>
                  </a:lnTo>
                  <a:lnTo>
                    <a:pt x="2492" y="2100"/>
                  </a:lnTo>
                  <a:lnTo>
                    <a:pt x="2518" y="2082"/>
                  </a:lnTo>
                  <a:lnTo>
                    <a:pt x="2545" y="2060"/>
                  </a:lnTo>
                  <a:lnTo>
                    <a:pt x="2567" y="2047"/>
                  </a:lnTo>
                  <a:lnTo>
                    <a:pt x="2585" y="2033"/>
                  </a:lnTo>
                  <a:lnTo>
                    <a:pt x="2593" y="2029"/>
                  </a:lnTo>
                  <a:lnTo>
                    <a:pt x="2598" y="2025"/>
                  </a:lnTo>
                  <a:lnTo>
                    <a:pt x="2585" y="2003"/>
                  </a:lnTo>
                  <a:lnTo>
                    <a:pt x="2549" y="1936"/>
                  </a:lnTo>
                  <a:lnTo>
                    <a:pt x="2496" y="1839"/>
                  </a:lnTo>
                  <a:lnTo>
                    <a:pt x="2426" y="1707"/>
                  </a:lnTo>
                  <a:lnTo>
                    <a:pt x="2346" y="1557"/>
                  </a:lnTo>
                  <a:lnTo>
                    <a:pt x="2249" y="1385"/>
                  </a:lnTo>
                  <a:lnTo>
                    <a:pt x="2152" y="1203"/>
                  </a:lnTo>
                  <a:lnTo>
                    <a:pt x="2051" y="1014"/>
                  </a:lnTo>
                  <a:lnTo>
                    <a:pt x="1950" y="824"/>
                  </a:lnTo>
                  <a:lnTo>
                    <a:pt x="1848" y="643"/>
                  </a:lnTo>
                  <a:lnTo>
                    <a:pt x="1756" y="471"/>
                  </a:lnTo>
                  <a:lnTo>
                    <a:pt x="1672" y="317"/>
                  </a:lnTo>
                  <a:lnTo>
                    <a:pt x="1601" y="189"/>
                  </a:lnTo>
                  <a:lnTo>
                    <a:pt x="1548" y="88"/>
                  </a:lnTo>
                  <a:lnTo>
                    <a:pt x="1513" y="26"/>
                  </a:lnTo>
                  <a:lnTo>
                    <a:pt x="1500" y="0"/>
                  </a:lnTo>
                  <a:lnTo>
                    <a:pt x="1487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35600" y="6680160"/>
              <a:ext cx="675000" cy="402120"/>
            </a:xfrm>
            <a:custGeom>
              <a:avLst/>
              <a:gdLst/>
              <a:ahLst/>
              <a:rect l="0" t="0" r="r" b="b"/>
              <a:pathLst>
                <a:path w="1875" h="1117">
                  <a:moveTo>
                    <a:pt x="13" y="1117"/>
                  </a:moveTo>
                  <a:lnTo>
                    <a:pt x="388" y="888"/>
                  </a:lnTo>
                  <a:lnTo>
                    <a:pt x="507" y="101"/>
                  </a:lnTo>
                  <a:lnTo>
                    <a:pt x="723" y="260"/>
                  </a:lnTo>
                  <a:lnTo>
                    <a:pt x="815" y="0"/>
                  </a:lnTo>
                  <a:lnTo>
                    <a:pt x="1323" y="547"/>
                  </a:lnTo>
                  <a:lnTo>
                    <a:pt x="1875" y="389"/>
                  </a:lnTo>
                  <a:lnTo>
                    <a:pt x="1363" y="706"/>
                  </a:lnTo>
                  <a:lnTo>
                    <a:pt x="1112" y="671"/>
                  </a:lnTo>
                  <a:lnTo>
                    <a:pt x="626" y="879"/>
                  </a:lnTo>
                  <a:lnTo>
                    <a:pt x="533" y="1003"/>
                  </a:lnTo>
                  <a:lnTo>
                    <a:pt x="0" y="1117"/>
                  </a:lnTo>
                  <a:lnTo>
                    <a:pt x="13" y="11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35600" y="6680160"/>
              <a:ext cx="675000" cy="402120"/>
            </a:xfrm>
            <a:custGeom>
              <a:avLst/>
              <a:gdLst/>
              <a:ahLst/>
              <a:rect l="0" t="0" r="r" b="b"/>
              <a:pathLst>
                <a:path fill="none" w="1875" h="1117">
                  <a:moveTo>
                    <a:pt x="13" y="1117"/>
                  </a:moveTo>
                  <a:lnTo>
                    <a:pt x="388" y="888"/>
                  </a:lnTo>
                  <a:lnTo>
                    <a:pt x="507" y="101"/>
                  </a:lnTo>
                  <a:lnTo>
                    <a:pt x="723" y="260"/>
                  </a:lnTo>
                  <a:lnTo>
                    <a:pt x="815" y="0"/>
                  </a:lnTo>
                  <a:lnTo>
                    <a:pt x="1323" y="547"/>
                  </a:lnTo>
                  <a:lnTo>
                    <a:pt x="1875" y="389"/>
                  </a:lnTo>
                  <a:lnTo>
                    <a:pt x="1363" y="706"/>
                  </a:lnTo>
                  <a:lnTo>
                    <a:pt x="1112" y="671"/>
                  </a:lnTo>
                  <a:lnTo>
                    <a:pt x="626" y="879"/>
                  </a:lnTo>
                  <a:lnTo>
                    <a:pt x="533" y="1003"/>
                  </a:lnTo>
                  <a:lnTo>
                    <a:pt x="0" y="1117"/>
                  </a:lnTo>
                  <a:lnTo>
                    <a:pt x="13" y="111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965920" y="7277040"/>
              <a:ext cx="309960" cy="173520"/>
            </a:xfrm>
            <a:custGeom>
              <a:avLst/>
              <a:gdLst/>
              <a:ahLst/>
              <a:rect l="0" t="0" r="r" b="b"/>
              <a:pathLst>
                <a:path w="861" h="482">
                  <a:moveTo>
                    <a:pt x="252" y="221"/>
                  </a:moveTo>
                  <a:lnTo>
                    <a:pt x="39" y="363"/>
                  </a:lnTo>
                  <a:lnTo>
                    <a:pt x="0" y="376"/>
                  </a:lnTo>
                  <a:lnTo>
                    <a:pt x="322" y="0"/>
                  </a:lnTo>
                  <a:lnTo>
                    <a:pt x="786" y="256"/>
                  </a:lnTo>
                  <a:lnTo>
                    <a:pt x="861" y="482"/>
                  </a:lnTo>
                  <a:lnTo>
                    <a:pt x="450" y="225"/>
                  </a:lnTo>
                  <a:lnTo>
                    <a:pt x="375" y="340"/>
                  </a:lnTo>
                  <a:lnTo>
                    <a:pt x="265" y="305"/>
                  </a:lnTo>
                  <a:lnTo>
                    <a:pt x="247" y="221"/>
                  </a:lnTo>
                  <a:lnTo>
                    <a:pt x="252" y="2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65920" y="7277040"/>
              <a:ext cx="309960" cy="173520"/>
            </a:xfrm>
            <a:custGeom>
              <a:avLst/>
              <a:gdLst/>
              <a:ahLst/>
              <a:rect l="0" t="0" r="r" b="b"/>
              <a:pathLst>
                <a:path fill="none" w="861" h="482">
                  <a:moveTo>
                    <a:pt x="252" y="221"/>
                  </a:moveTo>
                  <a:lnTo>
                    <a:pt x="39" y="363"/>
                  </a:lnTo>
                  <a:lnTo>
                    <a:pt x="0" y="376"/>
                  </a:lnTo>
                  <a:lnTo>
                    <a:pt x="322" y="0"/>
                  </a:lnTo>
                  <a:lnTo>
                    <a:pt x="786" y="256"/>
                  </a:lnTo>
                  <a:lnTo>
                    <a:pt x="861" y="482"/>
                  </a:lnTo>
                  <a:lnTo>
                    <a:pt x="450" y="225"/>
                  </a:lnTo>
                  <a:lnTo>
                    <a:pt x="375" y="340"/>
                  </a:lnTo>
                  <a:lnTo>
                    <a:pt x="265" y="305"/>
                  </a:lnTo>
                  <a:lnTo>
                    <a:pt x="247" y="221"/>
                  </a:lnTo>
                  <a:lnTo>
                    <a:pt x="252" y="22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19680" y="7176960"/>
              <a:ext cx="443160" cy="276480"/>
            </a:xfrm>
            <a:custGeom>
              <a:avLst/>
              <a:gdLst/>
              <a:ahLst/>
              <a:rect l="0" t="0" r="r" b="b"/>
              <a:pathLst>
                <a:path w="1231" h="768">
                  <a:moveTo>
                    <a:pt x="0" y="57"/>
                  </a:moveTo>
                  <a:lnTo>
                    <a:pt x="105" y="0"/>
                  </a:lnTo>
                  <a:lnTo>
                    <a:pt x="537" y="631"/>
                  </a:lnTo>
                  <a:lnTo>
                    <a:pt x="1231" y="631"/>
                  </a:lnTo>
                  <a:lnTo>
                    <a:pt x="1231" y="768"/>
                  </a:lnTo>
                  <a:lnTo>
                    <a:pt x="123" y="768"/>
                  </a:lnTo>
                  <a:lnTo>
                    <a:pt x="114" y="631"/>
                  </a:lnTo>
                  <a:lnTo>
                    <a:pt x="392" y="631"/>
                  </a:lnTo>
                  <a:lnTo>
                    <a:pt x="0" y="74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19680" y="7176960"/>
              <a:ext cx="443160" cy="276480"/>
            </a:xfrm>
            <a:custGeom>
              <a:avLst/>
              <a:gdLst/>
              <a:ahLst/>
              <a:rect l="0" t="0" r="r" b="b"/>
              <a:pathLst>
                <a:path fill="none" w="1231" h="768">
                  <a:moveTo>
                    <a:pt x="0" y="57"/>
                  </a:moveTo>
                  <a:lnTo>
                    <a:pt x="105" y="0"/>
                  </a:lnTo>
                  <a:lnTo>
                    <a:pt x="537" y="631"/>
                  </a:lnTo>
                  <a:lnTo>
                    <a:pt x="1231" y="631"/>
                  </a:lnTo>
                  <a:lnTo>
                    <a:pt x="1231" y="768"/>
                  </a:lnTo>
                  <a:lnTo>
                    <a:pt x="123" y="768"/>
                  </a:lnTo>
                  <a:lnTo>
                    <a:pt x="114" y="631"/>
                  </a:lnTo>
                  <a:lnTo>
                    <a:pt x="392" y="631"/>
                  </a:lnTo>
                  <a:lnTo>
                    <a:pt x="0" y="74"/>
                  </a:lnTo>
                  <a:lnTo>
                    <a:pt x="0" y="5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52600" y="603360"/>
            <a:ext cx="58294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SAL CIO-IS Support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42880" y="1638360"/>
            <a:ext cx="5819760" cy="633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96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ly Available DISO Contract Vehic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 Work for Others Program (Subcontract to Martin Marietta Energy systems, Oak Ridge, T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IEO/JITC INTEROP contract (Ft. Huachu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ailed schedules and cost estimates for tasks provided to CIO-IS for approval prior to initiation of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thly status reports describing current status of ongoing efforts and any specific deliverables or milest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hasize specific DISA organizational requirements and long term DISA AIS security go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DISA compliance with National Policy and initiative throug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of the are approaches to information security technology a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of established standards and accepted practi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14520" y="1886040"/>
            <a:ext cx="252360" cy="454320"/>
            <a:chOff x="614520" y="1886040"/>
            <a:chExt cx="252360" cy="454320"/>
          </a:xfrm>
        </p:grpSpPr>
        <p:sp>
          <p:nvSpPr>
            <p:cNvPr id="225" name=""/>
            <p:cNvSpPr/>
            <p:nvPr/>
          </p:nvSpPr>
          <p:spPr>
            <a:xfrm>
              <a:off x="693720" y="2014560"/>
              <a:ext cx="28800" cy="44640"/>
            </a:xfrm>
            <a:custGeom>
              <a:avLst/>
              <a:gdLst/>
              <a:ahLst/>
              <a:rect l="0" t="0" r="r" b="b"/>
              <a:pathLst>
                <a:path w="80" h="124">
                  <a:moveTo>
                    <a:pt x="0" y="56"/>
                  </a:moveTo>
                  <a:lnTo>
                    <a:pt x="13" y="61"/>
                  </a:lnTo>
                  <a:lnTo>
                    <a:pt x="19" y="79"/>
                  </a:lnTo>
                  <a:lnTo>
                    <a:pt x="16" y="124"/>
                  </a:lnTo>
                  <a:lnTo>
                    <a:pt x="26" y="88"/>
                  </a:lnTo>
                  <a:lnTo>
                    <a:pt x="36" y="48"/>
                  </a:lnTo>
                  <a:lnTo>
                    <a:pt x="60" y="48"/>
                  </a:lnTo>
                  <a:lnTo>
                    <a:pt x="80" y="0"/>
                  </a:lnTo>
                  <a:lnTo>
                    <a:pt x="51" y="0"/>
                  </a:lnTo>
                  <a:lnTo>
                    <a:pt x="0" y="53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93720" y="2014560"/>
              <a:ext cx="28800" cy="44640"/>
            </a:xfrm>
            <a:custGeom>
              <a:avLst/>
              <a:gdLst/>
              <a:ahLst/>
              <a:rect l="0" t="0" r="r" b="b"/>
              <a:pathLst>
                <a:path fill="none" w="80" h="124">
                  <a:moveTo>
                    <a:pt x="0" y="56"/>
                  </a:moveTo>
                  <a:lnTo>
                    <a:pt x="13" y="61"/>
                  </a:lnTo>
                  <a:lnTo>
                    <a:pt x="19" y="79"/>
                  </a:lnTo>
                  <a:lnTo>
                    <a:pt x="16" y="124"/>
                  </a:lnTo>
                  <a:lnTo>
                    <a:pt x="26" y="88"/>
                  </a:lnTo>
                  <a:lnTo>
                    <a:pt x="36" y="48"/>
                  </a:lnTo>
                  <a:lnTo>
                    <a:pt x="60" y="48"/>
                  </a:lnTo>
                  <a:lnTo>
                    <a:pt x="80" y="0"/>
                  </a:lnTo>
                  <a:lnTo>
                    <a:pt x="51" y="0"/>
                  </a:lnTo>
                  <a:lnTo>
                    <a:pt x="0" y="53"/>
                  </a:lnTo>
                  <a:lnTo>
                    <a:pt x="0" y="5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3240" y="1995480"/>
              <a:ext cx="233640" cy="344880"/>
            </a:xfrm>
            <a:custGeom>
              <a:avLst/>
              <a:gdLst/>
              <a:ahLst/>
              <a:rect l="0" t="0" r="r" b="b"/>
              <a:pathLst>
                <a:path w="649" h="958">
                  <a:moveTo>
                    <a:pt x="371" y="0"/>
                  </a:moveTo>
                  <a:lnTo>
                    <a:pt x="369" y="3"/>
                  </a:lnTo>
                  <a:lnTo>
                    <a:pt x="364" y="10"/>
                  </a:lnTo>
                  <a:lnTo>
                    <a:pt x="355" y="22"/>
                  </a:lnTo>
                  <a:lnTo>
                    <a:pt x="344" y="38"/>
                  </a:lnTo>
                  <a:lnTo>
                    <a:pt x="331" y="57"/>
                  </a:lnTo>
                  <a:lnTo>
                    <a:pt x="314" y="76"/>
                  </a:lnTo>
                  <a:lnTo>
                    <a:pt x="299" y="99"/>
                  </a:lnTo>
                  <a:lnTo>
                    <a:pt x="282" y="122"/>
                  </a:lnTo>
                  <a:lnTo>
                    <a:pt x="266" y="145"/>
                  </a:lnTo>
                  <a:lnTo>
                    <a:pt x="249" y="166"/>
                  </a:lnTo>
                  <a:lnTo>
                    <a:pt x="235" y="187"/>
                  </a:lnTo>
                  <a:lnTo>
                    <a:pt x="222" y="206"/>
                  </a:lnTo>
                  <a:lnTo>
                    <a:pt x="210" y="222"/>
                  </a:lnTo>
                  <a:lnTo>
                    <a:pt x="201" y="232"/>
                  </a:lnTo>
                  <a:lnTo>
                    <a:pt x="195" y="242"/>
                  </a:lnTo>
                  <a:lnTo>
                    <a:pt x="193" y="244"/>
                  </a:lnTo>
                  <a:lnTo>
                    <a:pt x="194" y="244"/>
                  </a:lnTo>
                  <a:lnTo>
                    <a:pt x="195" y="245"/>
                  </a:lnTo>
                  <a:lnTo>
                    <a:pt x="199" y="245"/>
                  </a:lnTo>
                  <a:lnTo>
                    <a:pt x="202" y="247"/>
                  </a:lnTo>
                  <a:lnTo>
                    <a:pt x="205" y="247"/>
                  </a:lnTo>
                  <a:lnTo>
                    <a:pt x="211" y="249"/>
                  </a:lnTo>
                  <a:lnTo>
                    <a:pt x="215" y="251"/>
                  </a:lnTo>
                  <a:lnTo>
                    <a:pt x="221" y="251"/>
                  </a:lnTo>
                  <a:lnTo>
                    <a:pt x="225" y="252"/>
                  </a:lnTo>
                  <a:lnTo>
                    <a:pt x="230" y="254"/>
                  </a:lnTo>
                  <a:lnTo>
                    <a:pt x="235" y="254"/>
                  </a:lnTo>
                  <a:lnTo>
                    <a:pt x="238" y="256"/>
                  </a:lnTo>
                  <a:lnTo>
                    <a:pt x="242" y="256"/>
                  </a:lnTo>
                  <a:lnTo>
                    <a:pt x="245" y="258"/>
                  </a:lnTo>
                  <a:lnTo>
                    <a:pt x="246" y="258"/>
                  </a:lnTo>
                  <a:lnTo>
                    <a:pt x="247" y="258"/>
                  </a:lnTo>
                  <a:lnTo>
                    <a:pt x="244" y="265"/>
                  </a:lnTo>
                  <a:lnTo>
                    <a:pt x="236" y="286"/>
                  </a:lnTo>
                  <a:lnTo>
                    <a:pt x="224" y="317"/>
                  </a:lnTo>
                  <a:lnTo>
                    <a:pt x="209" y="357"/>
                  </a:lnTo>
                  <a:lnTo>
                    <a:pt x="190" y="405"/>
                  </a:lnTo>
                  <a:lnTo>
                    <a:pt x="169" y="459"/>
                  </a:lnTo>
                  <a:lnTo>
                    <a:pt x="146" y="517"/>
                  </a:lnTo>
                  <a:lnTo>
                    <a:pt x="124" y="576"/>
                  </a:lnTo>
                  <a:lnTo>
                    <a:pt x="101" y="636"/>
                  </a:lnTo>
                  <a:lnTo>
                    <a:pt x="78" y="693"/>
                  </a:lnTo>
                  <a:lnTo>
                    <a:pt x="57" y="747"/>
                  </a:lnTo>
                  <a:lnTo>
                    <a:pt x="38" y="796"/>
                  </a:lnTo>
                  <a:lnTo>
                    <a:pt x="23" y="836"/>
                  </a:lnTo>
                  <a:lnTo>
                    <a:pt x="11" y="867"/>
                  </a:lnTo>
                  <a:lnTo>
                    <a:pt x="3" y="888"/>
                  </a:lnTo>
                  <a:lnTo>
                    <a:pt x="0" y="895"/>
                  </a:lnTo>
                  <a:lnTo>
                    <a:pt x="1" y="894"/>
                  </a:lnTo>
                  <a:lnTo>
                    <a:pt x="5" y="892"/>
                  </a:lnTo>
                  <a:lnTo>
                    <a:pt x="9" y="890"/>
                  </a:lnTo>
                  <a:lnTo>
                    <a:pt x="17" y="887"/>
                  </a:lnTo>
                  <a:lnTo>
                    <a:pt x="26" y="881"/>
                  </a:lnTo>
                  <a:lnTo>
                    <a:pt x="37" y="878"/>
                  </a:lnTo>
                  <a:lnTo>
                    <a:pt x="49" y="873"/>
                  </a:lnTo>
                  <a:lnTo>
                    <a:pt x="61" y="869"/>
                  </a:lnTo>
                  <a:lnTo>
                    <a:pt x="75" y="864"/>
                  </a:lnTo>
                  <a:lnTo>
                    <a:pt x="90" y="860"/>
                  </a:lnTo>
                  <a:lnTo>
                    <a:pt x="105" y="857"/>
                  </a:lnTo>
                  <a:lnTo>
                    <a:pt x="119" y="853"/>
                  </a:lnTo>
                  <a:lnTo>
                    <a:pt x="135" y="852"/>
                  </a:lnTo>
                  <a:lnTo>
                    <a:pt x="150" y="852"/>
                  </a:lnTo>
                  <a:lnTo>
                    <a:pt x="166" y="852"/>
                  </a:lnTo>
                  <a:lnTo>
                    <a:pt x="180" y="853"/>
                  </a:lnTo>
                  <a:lnTo>
                    <a:pt x="193" y="857"/>
                  </a:lnTo>
                  <a:lnTo>
                    <a:pt x="204" y="862"/>
                  </a:lnTo>
                  <a:lnTo>
                    <a:pt x="213" y="869"/>
                  </a:lnTo>
                  <a:lnTo>
                    <a:pt x="220" y="876"/>
                  </a:lnTo>
                  <a:lnTo>
                    <a:pt x="225" y="885"/>
                  </a:lnTo>
                  <a:lnTo>
                    <a:pt x="231" y="894"/>
                  </a:lnTo>
                  <a:lnTo>
                    <a:pt x="235" y="902"/>
                  </a:lnTo>
                  <a:lnTo>
                    <a:pt x="239" y="911"/>
                  </a:lnTo>
                  <a:lnTo>
                    <a:pt x="244" y="920"/>
                  </a:lnTo>
                  <a:lnTo>
                    <a:pt x="248" y="929"/>
                  </a:lnTo>
                  <a:lnTo>
                    <a:pt x="254" y="936"/>
                  </a:lnTo>
                  <a:lnTo>
                    <a:pt x="260" y="943"/>
                  </a:lnTo>
                  <a:lnTo>
                    <a:pt x="268" y="950"/>
                  </a:lnTo>
                  <a:lnTo>
                    <a:pt x="278" y="953"/>
                  </a:lnTo>
                  <a:lnTo>
                    <a:pt x="290" y="957"/>
                  </a:lnTo>
                  <a:lnTo>
                    <a:pt x="304" y="958"/>
                  </a:lnTo>
                  <a:lnTo>
                    <a:pt x="319" y="957"/>
                  </a:lnTo>
                  <a:lnTo>
                    <a:pt x="334" y="955"/>
                  </a:lnTo>
                  <a:lnTo>
                    <a:pt x="348" y="950"/>
                  </a:lnTo>
                  <a:lnTo>
                    <a:pt x="361" y="944"/>
                  </a:lnTo>
                  <a:lnTo>
                    <a:pt x="375" y="937"/>
                  </a:lnTo>
                  <a:lnTo>
                    <a:pt x="388" y="930"/>
                  </a:lnTo>
                  <a:lnTo>
                    <a:pt x="400" y="922"/>
                  </a:lnTo>
                  <a:lnTo>
                    <a:pt x="413" y="913"/>
                  </a:lnTo>
                  <a:lnTo>
                    <a:pt x="425" y="906"/>
                  </a:lnTo>
                  <a:lnTo>
                    <a:pt x="437" y="897"/>
                  </a:lnTo>
                  <a:lnTo>
                    <a:pt x="448" y="888"/>
                  </a:lnTo>
                  <a:lnTo>
                    <a:pt x="461" y="880"/>
                  </a:lnTo>
                  <a:lnTo>
                    <a:pt x="473" y="873"/>
                  </a:lnTo>
                  <a:lnTo>
                    <a:pt x="485" y="867"/>
                  </a:lnTo>
                  <a:lnTo>
                    <a:pt x="497" y="862"/>
                  </a:lnTo>
                  <a:lnTo>
                    <a:pt x="509" y="859"/>
                  </a:lnTo>
                  <a:lnTo>
                    <a:pt x="520" y="857"/>
                  </a:lnTo>
                  <a:lnTo>
                    <a:pt x="530" y="855"/>
                  </a:lnTo>
                  <a:lnTo>
                    <a:pt x="538" y="857"/>
                  </a:lnTo>
                  <a:lnTo>
                    <a:pt x="544" y="859"/>
                  </a:lnTo>
                  <a:lnTo>
                    <a:pt x="551" y="860"/>
                  </a:lnTo>
                  <a:lnTo>
                    <a:pt x="555" y="864"/>
                  </a:lnTo>
                  <a:lnTo>
                    <a:pt x="558" y="869"/>
                  </a:lnTo>
                  <a:lnTo>
                    <a:pt x="562" y="873"/>
                  </a:lnTo>
                  <a:lnTo>
                    <a:pt x="563" y="878"/>
                  </a:lnTo>
                  <a:lnTo>
                    <a:pt x="564" y="881"/>
                  </a:lnTo>
                  <a:lnTo>
                    <a:pt x="565" y="887"/>
                  </a:lnTo>
                  <a:lnTo>
                    <a:pt x="566" y="890"/>
                  </a:lnTo>
                  <a:lnTo>
                    <a:pt x="566" y="894"/>
                  </a:lnTo>
                  <a:lnTo>
                    <a:pt x="565" y="897"/>
                  </a:lnTo>
                  <a:lnTo>
                    <a:pt x="565" y="899"/>
                  </a:lnTo>
                  <a:lnTo>
                    <a:pt x="566" y="897"/>
                  </a:lnTo>
                  <a:lnTo>
                    <a:pt x="568" y="895"/>
                  </a:lnTo>
                  <a:lnTo>
                    <a:pt x="573" y="890"/>
                  </a:lnTo>
                  <a:lnTo>
                    <a:pt x="578" y="885"/>
                  </a:lnTo>
                  <a:lnTo>
                    <a:pt x="585" y="878"/>
                  </a:lnTo>
                  <a:lnTo>
                    <a:pt x="592" y="869"/>
                  </a:lnTo>
                  <a:lnTo>
                    <a:pt x="599" y="860"/>
                  </a:lnTo>
                  <a:lnTo>
                    <a:pt x="607" y="852"/>
                  </a:lnTo>
                  <a:lnTo>
                    <a:pt x="615" y="843"/>
                  </a:lnTo>
                  <a:lnTo>
                    <a:pt x="622" y="834"/>
                  </a:lnTo>
                  <a:lnTo>
                    <a:pt x="629" y="827"/>
                  </a:lnTo>
                  <a:lnTo>
                    <a:pt x="636" y="818"/>
                  </a:lnTo>
                  <a:lnTo>
                    <a:pt x="641" y="813"/>
                  </a:lnTo>
                  <a:lnTo>
                    <a:pt x="645" y="808"/>
                  </a:lnTo>
                  <a:lnTo>
                    <a:pt x="648" y="806"/>
                  </a:lnTo>
                  <a:lnTo>
                    <a:pt x="649" y="804"/>
                  </a:lnTo>
                  <a:lnTo>
                    <a:pt x="645" y="796"/>
                  </a:lnTo>
                  <a:lnTo>
                    <a:pt x="637" y="769"/>
                  </a:lnTo>
                  <a:lnTo>
                    <a:pt x="623" y="731"/>
                  </a:lnTo>
                  <a:lnTo>
                    <a:pt x="606" y="678"/>
                  </a:lnTo>
                  <a:lnTo>
                    <a:pt x="586" y="618"/>
                  </a:lnTo>
                  <a:lnTo>
                    <a:pt x="562" y="550"/>
                  </a:lnTo>
                  <a:lnTo>
                    <a:pt x="538" y="478"/>
                  </a:lnTo>
                  <a:lnTo>
                    <a:pt x="512" y="403"/>
                  </a:lnTo>
                  <a:lnTo>
                    <a:pt x="487" y="328"/>
                  </a:lnTo>
                  <a:lnTo>
                    <a:pt x="462" y="256"/>
                  </a:lnTo>
                  <a:lnTo>
                    <a:pt x="439" y="187"/>
                  </a:lnTo>
                  <a:lnTo>
                    <a:pt x="418" y="125"/>
                  </a:lnTo>
                  <a:lnTo>
                    <a:pt x="400" y="75"/>
                  </a:lnTo>
                  <a:lnTo>
                    <a:pt x="387" y="34"/>
                  </a:lnTo>
                  <a:lnTo>
                    <a:pt x="378" y="10"/>
                  </a:lnTo>
                  <a:lnTo>
                    <a:pt x="375" y="0"/>
                  </a:lnTo>
                  <a:lnTo>
                    <a:pt x="37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3240" y="1995480"/>
              <a:ext cx="233640" cy="344880"/>
            </a:xfrm>
            <a:custGeom>
              <a:avLst/>
              <a:gdLst/>
              <a:ahLst/>
              <a:rect l="0" t="0" r="r" b="b"/>
              <a:pathLst>
                <a:path fill="none" w="649" h="958">
                  <a:moveTo>
                    <a:pt x="371" y="0"/>
                  </a:moveTo>
                  <a:lnTo>
                    <a:pt x="369" y="3"/>
                  </a:lnTo>
                  <a:lnTo>
                    <a:pt x="364" y="10"/>
                  </a:lnTo>
                  <a:lnTo>
                    <a:pt x="355" y="22"/>
                  </a:lnTo>
                  <a:lnTo>
                    <a:pt x="344" y="38"/>
                  </a:lnTo>
                  <a:lnTo>
                    <a:pt x="331" y="57"/>
                  </a:lnTo>
                  <a:lnTo>
                    <a:pt x="314" y="76"/>
                  </a:lnTo>
                  <a:lnTo>
                    <a:pt x="299" y="99"/>
                  </a:lnTo>
                  <a:lnTo>
                    <a:pt x="282" y="122"/>
                  </a:lnTo>
                  <a:lnTo>
                    <a:pt x="266" y="145"/>
                  </a:lnTo>
                  <a:lnTo>
                    <a:pt x="249" y="166"/>
                  </a:lnTo>
                  <a:lnTo>
                    <a:pt x="235" y="187"/>
                  </a:lnTo>
                  <a:lnTo>
                    <a:pt x="222" y="206"/>
                  </a:lnTo>
                  <a:lnTo>
                    <a:pt x="210" y="222"/>
                  </a:lnTo>
                  <a:lnTo>
                    <a:pt x="201" y="232"/>
                  </a:lnTo>
                  <a:lnTo>
                    <a:pt x="195" y="242"/>
                  </a:lnTo>
                  <a:lnTo>
                    <a:pt x="193" y="244"/>
                  </a:lnTo>
                  <a:lnTo>
                    <a:pt x="194" y="244"/>
                  </a:lnTo>
                  <a:lnTo>
                    <a:pt x="195" y="245"/>
                  </a:lnTo>
                  <a:lnTo>
                    <a:pt x="199" y="245"/>
                  </a:lnTo>
                  <a:lnTo>
                    <a:pt x="202" y="247"/>
                  </a:lnTo>
                  <a:lnTo>
                    <a:pt x="205" y="247"/>
                  </a:lnTo>
                  <a:lnTo>
                    <a:pt x="211" y="249"/>
                  </a:lnTo>
                  <a:lnTo>
                    <a:pt x="215" y="251"/>
                  </a:lnTo>
                  <a:lnTo>
                    <a:pt x="221" y="251"/>
                  </a:lnTo>
                  <a:lnTo>
                    <a:pt x="225" y="252"/>
                  </a:lnTo>
                  <a:lnTo>
                    <a:pt x="230" y="254"/>
                  </a:lnTo>
                  <a:lnTo>
                    <a:pt x="235" y="254"/>
                  </a:lnTo>
                  <a:lnTo>
                    <a:pt x="238" y="256"/>
                  </a:lnTo>
                  <a:lnTo>
                    <a:pt x="242" y="256"/>
                  </a:lnTo>
                  <a:lnTo>
                    <a:pt x="245" y="258"/>
                  </a:lnTo>
                  <a:lnTo>
                    <a:pt x="246" y="258"/>
                  </a:lnTo>
                  <a:lnTo>
                    <a:pt x="247" y="258"/>
                  </a:lnTo>
                  <a:lnTo>
                    <a:pt x="244" y="265"/>
                  </a:lnTo>
                  <a:lnTo>
                    <a:pt x="236" y="286"/>
                  </a:lnTo>
                  <a:lnTo>
                    <a:pt x="224" y="317"/>
                  </a:lnTo>
                  <a:lnTo>
                    <a:pt x="209" y="357"/>
                  </a:lnTo>
                  <a:lnTo>
                    <a:pt x="190" y="405"/>
                  </a:lnTo>
                  <a:lnTo>
                    <a:pt x="169" y="459"/>
                  </a:lnTo>
                  <a:lnTo>
                    <a:pt x="146" y="517"/>
                  </a:lnTo>
                  <a:lnTo>
                    <a:pt x="124" y="576"/>
                  </a:lnTo>
                  <a:lnTo>
                    <a:pt x="101" y="636"/>
                  </a:lnTo>
                  <a:lnTo>
                    <a:pt x="78" y="693"/>
                  </a:lnTo>
                  <a:lnTo>
                    <a:pt x="57" y="747"/>
                  </a:lnTo>
                  <a:lnTo>
                    <a:pt x="38" y="796"/>
                  </a:lnTo>
                  <a:lnTo>
                    <a:pt x="23" y="836"/>
                  </a:lnTo>
                  <a:lnTo>
                    <a:pt x="11" y="867"/>
                  </a:lnTo>
                  <a:lnTo>
                    <a:pt x="3" y="888"/>
                  </a:lnTo>
                  <a:lnTo>
                    <a:pt x="0" y="895"/>
                  </a:lnTo>
                  <a:lnTo>
                    <a:pt x="1" y="894"/>
                  </a:lnTo>
                  <a:lnTo>
                    <a:pt x="5" y="892"/>
                  </a:lnTo>
                  <a:lnTo>
                    <a:pt x="9" y="890"/>
                  </a:lnTo>
                  <a:lnTo>
                    <a:pt x="17" y="887"/>
                  </a:lnTo>
                  <a:lnTo>
                    <a:pt x="26" y="881"/>
                  </a:lnTo>
                  <a:lnTo>
                    <a:pt x="37" y="878"/>
                  </a:lnTo>
                  <a:lnTo>
                    <a:pt x="49" y="873"/>
                  </a:lnTo>
                  <a:lnTo>
                    <a:pt x="61" y="869"/>
                  </a:lnTo>
                  <a:lnTo>
                    <a:pt x="75" y="864"/>
                  </a:lnTo>
                  <a:lnTo>
                    <a:pt x="90" y="860"/>
                  </a:lnTo>
                  <a:lnTo>
                    <a:pt x="105" y="857"/>
                  </a:lnTo>
                  <a:lnTo>
                    <a:pt x="119" y="853"/>
                  </a:lnTo>
                  <a:lnTo>
                    <a:pt x="135" y="852"/>
                  </a:lnTo>
                  <a:lnTo>
                    <a:pt x="150" y="852"/>
                  </a:lnTo>
                  <a:lnTo>
                    <a:pt x="166" y="852"/>
                  </a:lnTo>
                  <a:lnTo>
                    <a:pt x="180" y="853"/>
                  </a:lnTo>
                  <a:lnTo>
                    <a:pt x="193" y="857"/>
                  </a:lnTo>
                  <a:lnTo>
                    <a:pt x="204" y="862"/>
                  </a:lnTo>
                  <a:lnTo>
                    <a:pt x="213" y="869"/>
                  </a:lnTo>
                  <a:lnTo>
                    <a:pt x="220" y="876"/>
                  </a:lnTo>
                  <a:lnTo>
                    <a:pt x="225" y="885"/>
                  </a:lnTo>
                  <a:lnTo>
                    <a:pt x="231" y="894"/>
                  </a:lnTo>
                  <a:lnTo>
                    <a:pt x="235" y="902"/>
                  </a:lnTo>
                  <a:lnTo>
                    <a:pt x="239" y="911"/>
                  </a:lnTo>
                  <a:lnTo>
                    <a:pt x="244" y="920"/>
                  </a:lnTo>
                  <a:lnTo>
                    <a:pt x="248" y="929"/>
                  </a:lnTo>
                  <a:lnTo>
                    <a:pt x="254" y="936"/>
                  </a:lnTo>
                  <a:lnTo>
                    <a:pt x="260" y="943"/>
                  </a:lnTo>
                  <a:lnTo>
                    <a:pt x="268" y="950"/>
                  </a:lnTo>
                  <a:lnTo>
                    <a:pt x="278" y="953"/>
                  </a:lnTo>
                  <a:lnTo>
                    <a:pt x="290" y="957"/>
                  </a:lnTo>
                  <a:lnTo>
                    <a:pt x="304" y="958"/>
                  </a:lnTo>
                  <a:lnTo>
                    <a:pt x="319" y="957"/>
                  </a:lnTo>
                  <a:lnTo>
                    <a:pt x="334" y="955"/>
                  </a:lnTo>
                  <a:lnTo>
                    <a:pt x="348" y="950"/>
                  </a:lnTo>
                  <a:lnTo>
                    <a:pt x="361" y="944"/>
                  </a:lnTo>
                  <a:lnTo>
                    <a:pt x="375" y="937"/>
                  </a:lnTo>
                  <a:lnTo>
                    <a:pt x="388" y="930"/>
                  </a:lnTo>
                  <a:lnTo>
                    <a:pt x="400" y="922"/>
                  </a:lnTo>
                  <a:lnTo>
                    <a:pt x="413" y="913"/>
                  </a:lnTo>
                  <a:lnTo>
                    <a:pt x="425" y="906"/>
                  </a:lnTo>
                  <a:lnTo>
                    <a:pt x="437" y="897"/>
                  </a:lnTo>
                  <a:lnTo>
                    <a:pt x="448" y="888"/>
                  </a:lnTo>
                  <a:lnTo>
                    <a:pt x="461" y="880"/>
                  </a:lnTo>
                  <a:lnTo>
                    <a:pt x="473" y="873"/>
                  </a:lnTo>
                  <a:lnTo>
                    <a:pt x="485" y="867"/>
                  </a:lnTo>
                  <a:lnTo>
                    <a:pt x="497" y="862"/>
                  </a:lnTo>
                  <a:lnTo>
                    <a:pt x="509" y="859"/>
                  </a:lnTo>
                  <a:lnTo>
                    <a:pt x="520" y="857"/>
                  </a:lnTo>
                  <a:lnTo>
                    <a:pt x="530" y="855"/>
                  </a:lnTo>
                  <a:lnTo>
                    <a:pt x="538" y="857"/>
                  </a:lnTo>
                  <a:lnTo>
                    <a:pt x="544" y="859"/>
                  </a:lnTo>
                  <a:lnTo>
                    <a:pt x="551" y="860"/>
                  </a:lnTo>
                  <a:lnTo>
                    <a:pt x="555" y="864"/>
                  </a:lnTo>
                  <a:lnTo>
                    <a:pt x="558" y="869"/>
                  </a:lnTo>
                  <a:lnTo>
                    <a:pt x="562" y="873"/>
                  </a:lnTo>
                  <a:lnTo>
                    <a:pt x="563" y="878"/>
                  </a:lnTo>
                  <a:lnTo>
                    <a:pt x="564" y="881"/>
                  </a:lnTo>
                  <a:lnTo>
                    <a:pt x="565" y="887"/>
                  </a:lnTo>
                  <a:lnTo>
                    <a:pt x="566" y="890"/>
                  </a:lnTo>
                  <a:lnTo>
                    <a:pt x="566" y="894"/>
                  </a:lnTo>
                  <a:lnTo>
                    <a:pt x="565" y="897"/>
                  </a:lnTo>
                  <a:lnTo>
                    <a:pt x="565" y="899"/>
                  </a:lnTo>
                  <a:lnTo>
                    <a:pt x="566" y="897"/>
                  </a:lnTo>
                  <a:lnTo>
                    <a:pt x="568" y="895"/>
                  </a:lnTo>
                  <a:lnTo>
                    <a:pt x="573" y="890"/>
                  </a:lnTo>
                  <a:lnTo>
                    <a:pt x="578" y="885"/>
                  </a:lnTo>
                  <a:lnTo>
                    <a:pt x="585" y="878"/>
                  </a:lnTo>
                  <a:lnTo>
                    <a:pt x="592" y="869"/>
                  </a:lnTo>
                  <a:lnTo>
                    <a:pt x="599" y="860"/>
                  </a:lnTo>
                  <a:lnTo>
                    <a:pt x="607" y="852"/>
                  </a:lnTo>
                  <a:lnTo>
                    <a:pt x="615" y="843"/>
                  </a:lnTo>
                  <a:lnTo>
                    <a:pt x="622" y="834"/>
                  </a:lnTo>
                  <a:lnTo>
                    <a:pt x="629" y="827"/>
                  </a:lnTo>
                  <a:lnTo>
                    <a:pt x="636" y="818"/>
                  </a:lnTo>
                  <a:lnTo>
                    <a:pt x="641" y="813"/>
                  </a:lnTo>
                  <a:lnTo>
                    <a:pt x="645" y="808"/>
                  </a:lnTo>
                  <a:lnTo>
                    <a:pt x="648" y="806"/>
                  </a:lnTo>
                  <a:lnTo>
                    <a:pt x="649" y="804"/>
                  </a:lnTo>
                  <a:lnTo>
                    <a:pt x="645" y="796"/>
                  </a:lnTo>
                  <a:lnTo>
                    <a:pt x="637" y="769"/>
                  </a:lnTo>
                  <a:lnTo>
                    <a:pt x="623" y="731"/>
                  </a:lnTo>
                  <a:lnTo>
                    <a:pt x="606" y="678"/>
                  </a:lnTo>
                  <a:lnTo>
                    <a:pt x="586" y="618"/>
                  </a:lnTo>
                  <a:lnTo>
                    <a:pt x="562" y="550"/>
                  </a:lnTo>
                  <a:lnTo>
                    <a:pt x="538" y="478"/>
                  </a:lnTo>
                  <a:lnTo>
                    <a:pt x="512" y="403"/>
                  </a:lnTo>
                  <a:lnTo>
                    <a:pt x="487" y="328"/>
                  </a:lnTo>
                  <a:lnTo>
                    <a:pt x="462" y="256"/>
                  </a:lnTo>
                  <a:lnTo>
                    <a:pt x="439" y="187"/>
                  </a:lnTo>
                  <a:lnTo>
                    <a:pt x="418" y="125"/>
                  </a:lnTo>
                  <a:lnTo>
                    <a:pt x="400" y="75"/>
                  </a:lnTo>
                  <a:lnTo>
                    <a:pt x="387" y="34"/>
                  </a:lnTo>
                  <a:lnTo>
                    <a:pt x="378" y="10"/>
                  </a:lnTo>
                  <a:lnTo>
                    <a:pt x="375" y="0"/>
                  </a:lnTo>
                  <a:lnTo>
                    <a:pt x="371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4400" y="1886040"/>
              <a:ext cx="168480" cy="159120"/>
            </a:xfrm>
            <a:custGeom>
              <a:avLst/>
              <a:gdLst/>
              <a:ahLst/>
              <a:rect l="0" t="0" r="r" b="b"/>
              <a:pathLst>
                <a:path w="468" h="442">
                  <a:moveTo>
                    <a:pt x="3" y="442"/>
                  </a:moveTo>
                  <a:lnTo>
                    <a:pt x="96" y="352"/>
                  </a:lnTo>
                  <a:lnTo>
                    <a:pt x="126" y="40"/>
                  </a:lnTo>
                  <a:lnTo>
                    <a:pt x="180" y="102"/>
                  </a:lnTo>
                  <a:lnTo>
                    <a:pt x="203" y="0"/>
                  </a:lnTo>
                  <a:lnTo>
                    <a:pt x="330" y="217"/>
                  </a:lnTo>
                  <a:lnTo>
                    <a:pt x="468" y="154"/>
                  </a:lnTo>
                  <a:lnTo>
                    <a:pt x="340" y="279"/>
                  </a:lnTo>
                  <a:lnTo>
                    <a:pt x="278" y="265"/>
                  </a:lnTo>
                  <a:lnTo>
                    <a:pt x="156" y="348"/>
                  </a:lnTo>
                  <a:lnTo>
                    <a:pt x="133" y="397"/>
                  </a:lnTo>
                  <a:lnTo>
                    <a:pt x="0" y="442"/>
                  </a:lnTo>
                  <a:lnTo>
                    <a:pt x="3" y="44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4400" y="1886040"/>
              <a:ext cx="168480" cy="159120"/>
            </a:xfrm>
            <a:custGeom>
              <a:avLst/>
              <a:gdLst/>
              <a:ahLst/>
              <a:rect l="0" t="0" r="r" b="b"/>
              <a:pathLst>
                <a:path fill="none" w="468" h="442">
                  <a:moveTo>
                    <a:pt x="3" y="442"/>
                  </a:moveTo>
                  <a:lnTo>
                    <a:pt x="96" y="352"/>
                  </a:lnTo>
                  <a:lnTo>
                    <a:pt x="126" y="40"/>
                  </a:lnTo>
                  <a:lnTo>
                    <a:pt x="180" y="102"/>
                  </a:lnTo>
                  <a:lnTo>
                    <a:pt x="203" y="0"/>
                  </a:lnTo>
                  <a:lnTo>
                    <a:pt x="330" y="217"/>
                  </a:lnTo>
                  <a:lnTo>
                    <a:pt x="468" y="154"/>
                  </a:lnTo>
                  <a:lnTo>
                    <a:pt x="340" y="279"/>
                  </a:lnTo>
                  <a:lnTo>
                    <a:pt x="278" y="265"/>
                  </a:lnTo>
                  <a:lnTo>
                    <a:pt x="156" y="348"/>
                  </a:lnTo>
                  <a:lnTo>
                    <a:pt x="133" y="397"/>
                  </a:lnTo>
                  <a:lnTo>
                    <a:pt x="0" y="442"/>
                  </a:lnTo>
                  <a:lnTo>
                    <a:pt x="3" y="44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6440" y="2122560"/>
              <a:ext cx="76680" cy="70200"/>
            </a:xfrm>
            <a:custGeom>
              <a:avLst/>
              <a:gdLst/>
              <a:ahLst/>
              <a:rect l="0" t="0" r="r" b="b"/>
              <a:pathLst>
                <a:path w="213" h="195">
                  <a:moveTo>
                    <a:pt x="62" y="89"/>
                  </a:moveTo>
                  <a:lnTo>
                    <a:pt x="9" y="146"/>
                  </a:lnTo>
                  <a:lnTo>
                    <a:pt x="0" y="152"/>
                  </a:lnTo>
                  <a:lnTo>
                    <a:pt x="80" y="0"/>
                  </a:lnTo>
                  <a:lnTo>
                    <a:pt x="195" y="104"/>
                  </a:lnTo>
                  <a:lnTo>
                    <a:pt x="213" y="195"/>
                  </a:lnTo>
                  <a:lnTo>
                    <a:pt x="111" y="90"/>
                  </a:lnTo>
                  <a:lnTo>
                    <a:pt x="93" y="138"/>
                  </a:lnTo>
                  <a:lnTo>
                    <a:pt x="66" y="123"/>
                  </a:lnTo>
                  <a:lnTo>
                    <a:pt x="61" y="89"/>
                  </a:lnTo>
                  <a:lnTo>
                    <a:pt x="62" y="8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6440" y="2122560"/>
              <a:ext cx="76680" cy="70200"/>
            </a:xfrm>
            <a:custGeom>
              <a:avLst/>
              <a:gdLst/>
              <a:ahLst/>
              <a:rect l="0" t="0" r="r" b="b"/>
              <a:pathLst>
                <a:path fill="none" w="213" h="195">
                  <a:moveTo>
                    <a:pt x="62" y="89"/>
                  </a:moveTo>
                  <a:lnTo>
                    <a:pt x="9" y="146"/>
                  </a:lnTo>
                  <a:lnTo>
                    <a:pt x="0" y="152"/>
                  </a:lnTo>
                  <a:lnTo>
                    <a:pt x="80" y="0"/>
                  </a:lnTo>
                  <a:lnTo>
                    <a:pt x="195" y="104"/>
                  </a:lnTo>
                  <a:lnTo>
                    <a:pt x="213" y="195"/>
                  </a:lnTo>
                  <a:lnTo>
                    <a:pt x="111" y="90"/>
                  </a:lnTo>
                  <a:lnTo>
                    <a:pt x="93" y="138"/>
                  </a:lnTo>
                  <a:lnTo>
                    <a:pt x="66" y="123"/>
                  </a:lnTo>
                  <a:lnTo>
                    <a:pt x="61" y="89"/>
                  </a:lnTo>
                  <a:lnTo>
                    <a:pt x="62" y="8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4520" y="2081160"/>
              <a:ext cx="109800" cy="111600"/>
            </a:xfrm>
            <a:custGeom>
              <a:avLst/>
              <a:gdLst/>
              <a:ahLst/>
              <a:rect l="0" t="0" r="r" b="b"/>
              <a:pathLst>
                <a:path w="305" h="310">
                  <a:moveTo>
                    <a:pt x="0" y="23"/>
                  </a:moveTo>
                  <a:lnTo>
                    <a:pt x="26" y="0"/>
                  </a:lnTo>
                  <a:lnTo>
                    <a:pt x="133" y="255"/>
                  </a:lnTo>
                  <a:lnTo>
                    <a:pt x="305" y="255"/>
                  </a:lnTo>
                  <a:lnTo>
                    <a:pt x="305" y="310"/>
                  </a:lnTo>
                  <a:lnTo>
                    <a:pt x="30" y="310"/>
                  </a:lnTo>
                  <a:lnTo>
                    <a:pt x="28" y="255"/>
                  </a:lnTo>
                  <a:lnTo>
                    <a:pt x="97" y="255"/>
                  </a:lnTo>
                  <a:lnTo>
                    <a:pt x="0" y="3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14520" y="2081160"/>
              <a:ext cx="109800" cy="111600"/>
            </a:xfrm>
            <a:custGeom>
              <a:avLst/>
              <a:gdLst/>
              <a:ahLst/>
              <a:rect l="0" t="0" r="r" b="b"/>
              <a:pathLst>
                <a:path fill="none" w="305" h="310">
                  <a:moveTo>
                    <a:pt x="0" y="23"/>
                  </a:moveTo>
                  <a:lnTo>
                    <a:pt x="26" y="0"/>
                  </a:lnTo>
                  <a:lnTo>
                    <a:pt x="133" y="255"/>
                  </a:lnTo>
                  <a:lnTo>
                    <a:pt x="305" y="255"/>
                  </a:lnTo>
                  <a:lnTo>
                    <a:pt x="305" y="310"/>
                  </a:lnTo>
                  <a:lnTo>
                    <a:pt x="30" y="310"/>
                  </a:lnTo>
                  <a:lnTo>
                    <a:pt x="28" y="255"/>
                  </a:lnTo>
                  <a:lnTo>
                    <a:pt x="97" y="255"/>
                  </a:lnTo>
                  <a:lnTo>
                    <a:pt x="0" y="30"/>
                  </a:lnTo>
                  <a:lnTo>
                    <a:pt x="0" y="2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505240" y="6791400"/>
            <a:ext cx="184788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552600" y="603360"/>
            <a:ext cx="58294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ISK ASSESSMENT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42880" y="1638360"/>
            <a:ext cx="5819760" cy="633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documentation, interview management, staff, and AIS users, and conduct physical inspections of AIS facil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baseline assessment of the operational risks which includes identifying specific vulnerabilities and describing potential countermeasures for each vulner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rporate risk management plans that provide detailed recommendations, alternatives, and protection strateg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ations are directly correlated with identified vulnerabilities and based on operational requirements, DoD policy, DISA policy (specifically DISAI 630-230-19), and sound information system security management pract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57280" y="1886040"/>
            <a:ext cx="252720" cy="454320"/>
            <a:chOff x="557280" y="1886040"/>
            <a:chExt cx="252720" cy="454320"/>
          </a:xfrm>
        </p:grpSpPr>
        <p:sp>
          <p:nvSpPr>
            <p:cNvPr id="239" name=""/>
            <p:cNvSpPr/>
            <p:nvPr/>
          </p:nvSpPr>
          <p:spPr>
            <a:xfrm>
              <a:off x="636480" y="2014560"/>
              <a:ext cx="28800" cy="44640"/>
            </a:xfrm>
            <a:custGeom>
              <a:avLst/>
              <a:gdLst/>
              <a:ahLst/>
              <a:rect l="0" t="0" r="r" b="b"/>
              <a:pathLst>
                <a:path w="80" h="124">
                  <a:moveTo>
                    <a:pt x="0" y="56"/>
                  </a:moveTo>
                  <a:lnTo>
                    <a:pt x="13" y="61"/>
                  </a:lnTo>
                  <a:lnTo>
                    <a:pt x="19" y="79"/>
                  </a:lnTo>
                  <a:lnTo>
                    <a:pt x="16" y="124"/>
                  </a:lnTo>
                  <a:lnTo>
                    <a:pt x="26" y="88"/>
                  </a:lnTo>
                  <a:lnTo>
                    <a:pt x="36" y="48"/>
                  </a:lnTo>
                  <a:lnTo>
                    <a:pt x="60" y="48"/>
                  </a:lnTo>
                  <a:lnTo>
                    <a:pt x="80" y="0"/>
                  </a:lnTo>
                  <a:lnTo>
                    <a:pt x="51" y="0"/>
                  </a:lnTo>
                  <a:lnTo>
                    <a:pt x="0" y="53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36480" y="2014560"/>
              <a:ext cx="28800" cy="44640"/>
            </a:xfrm>
            <a:custGeom>
              <a:avLst/>
              <a:gdLst/>
              <a:ahLst/>
              <a:rect l="0" t="0" r="r" b="b"/>
              <a:pathLst>
                <a:path fill="none" w="80" h="124">
                  <a:moveTo>
                    <a:pt x="0" y="56"/>
                  </a:moveTo>
                  <a:lnTo>
                    <a:pt x="13" y="61"/>
                  </a:lnTo>
                  <a:lnTo>
                    <a:pt x="19" y="79"/>
                  </a:lnTo>
                  <a:lnTo>
                    <a:pt x="16" y="124"/>
                  </a:lnTo>
                  <a:lnTo>
                    <a:pt x="26" y="88"/>
                  </a:lnTo>
                  <a:lnTo>
                    <a:pt x="36" y="48"/>
                  </a:lnTo>
                  <a:lnTo>
                    <a:pt x="60" y="48"/>
                  </a:lnTo>
                  <a:lnTo>
                    <a:pt x="80" y="0"/>
                  </a:lnTo>
                  <a:lnTo>
                    <a:pt x="51" y="0"/>
                  </a:lnTo>
                  <a:lnTo>
                    <a:pt x="0" y="53"/>
                  </a:lnTo>
                  <a:lnTo>
                    <a:pt x="0" y="5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76360" y="1995480"/>
              <a:ext cx="233640" cy="344880"/>
            </a:xfrm>
            <a:custGeom>
              <a:avLst/>
              <a:gdLst/>
              <a:ahLst/>
              <a:rect l="0" t="0" r="r" b="b"/>
              <a:pathLst>
                <a:path w="649" h="958">
                  <a:moveTo>
                    <a:pt x="371" y="0"/>
                  </a:moveTo>
                  <a:lnTo>
                    <a:pt x="369" y="3"/>
                  </a:lnTo>
                  <a:lnTo>
                    <a:pt x="364" y="10"/>
                  </a:lnTo>
                  <a:lnTo>
                    <a:pt x="355" y="22"/>
                  </a:lnTo>
                  <a:lnTo>
                    <a:pt x="344" y="38"/>
                  </a:lnTo>
                  <a:lnTo>
                    <a:pt x="331" y="57"/>
                  </a:lnTo>
                  <a:lnTo>
                    <a:pt x="314" y="76"/>
                  </a:lnTo>
                  <a:lnTo>
                    <a:pt x="299" y="99"/>
                  </a:lnTo>
                  <a:lnTo>
                    <a:pt x="282" y="122"/>
                  </a:lnTo>
                  <a:lnTo>
                    <a:pt x="266" y="145"/>
                  </a:lnTo>
                  <a:lnTo>
                    <a:pt x="249" y="166"/>
                  </a:lnTo>
                  <a:lnTo>
                    <a:pt x="235" y="187"/>
                  </a:lnTo>
                  <a:lnTo>
                    <a:pt x="222" y="206"/>
                  </a:lnTo>
                  <a:lnTo>
                    <a:pt x="210" y="222"/>
                  </a:lnTo>
                  <a:lnTo>
                    <a:pt x="201" y="232"/>
                  </a:lnTo>
                  <a:lnTo>
                    <a:pt x="195" y="242"/>
                  </a:lnTo>
                  <a:lnTo>
                    <a:pt x="193" y="244"/>
                  </a:lnTo>
                  <a:lnTo>
                    <a:pt x="194" y="244"/>
                  </a:lnTo>
                  <a:lnTo>
                    <a:pt x="195" y="245"/>
                  </a:lnTo>
                  <a:lnTo>
                    <a:pt x="199" y="245"/>
                  </a:lnTo>
                  <a:lnTo>
                    <a:pt x="202" y="247"/>
                  </a:lnTo>
                  <a:lnTo>
                    <a:pt x="205" y="247"/>
                  </a:lnTo>
                  <a:lnTo>
                    <a:pt x="211" y="249"/>
                  </a:lnTo>
                  <a:lnTo>
                    <a:pt x="215" y="251"/>
                  </a:lnTo>
                  <a:lnTo>
                    <a:pt x="221" y="251"/>
                  </a:lnTo>
                  <a:lnTo>
                    <a:pt x="225" y="252"/>
                  </a:lnTo>
                  <a:lnTo>
                    <a:pt x="230" y="254"/>
                  </a:lnTo>
                  <a:lnTo>
                    <a:pt x="235" y="254"/>
                  </a:lnTo>
                  <a:lnTo>
                    <a:pt x="238" y="256"/>
                  </a:lnTo>
                  <a:lnTo>
                    <a:pt x="242" y="256"/>
                  </a:lnTo>
                  <a:lnTo>
                    <a:pt x="245" y="258"/>
                  </a:lnTo>
                  <a:lnTo>
                    <a:pt x="246" y="258"/>
                  </a:lnTo>
                  <a:lnTo>
                    <a:pt x="247" y="258"/>
                  </a:lnTo>
                  <a:lnTo>
                    <a:pt x="244" y="265"/>
                  </a:lnTo>
                  <a:lnTo>
                    <a:pt x="236" y="286"/>
                  </a:lnTo>
                  <a:lnTo>
                    <a:pt x="224" y="317"/>
                  </a:lnTo>
                  <a:lnTo>
                    <a:pt x="209" y="357"/>
                  </a:lnTo>
                  <a:lnTo>
                    <a:pt x="190" y="405"/>
                  </a:lnTo>
                  <a:lnTo>
                    <a:pt x="169" y="459"/>
                  </a:lnTo>
                  <a:lnTo>
                    <a:pt x="146" y="517"/>
                  </a:lnTo>
                  <a:lnTo>
                    <a:pt x="124" y="576"/>
                  </a:lnTo>
                  <a:lnTo>
                    <a:pt x="101" y="636"/>
                  </a:lnTo>
                  <a:lnTo>
                    <a:pt x="78" y="693"/>
                  </a:lnTo>
                  <a:lnTo>
                    <a:pt x="57" y="747"/>
                  </a:lnTo>
                  <a:lnTo>
                    <a:pt x="38" y="796"/>
                  </a:lnTo>
                  <a:lnTo>
                    <a:pt x="23" y="836"/>
                  </a:lnTo>
                  <a:lnTo>
                    <a:pt x="11" y="867"/>
                  </a:lnTo>
                  <a:lnTo>
                    <a:pt x="3" y="888"/>
                  </a:lnTo>
                  <a:lnTo>
                    <a:pt x="0" y="895"/>
                  </a:lnTo>
                  <a:lnTo>
                    <a:pt x="1" y="894"/>
                  </a:lnTo>
                  <a:lnTo>
                    <a:pt x="5" y="892"/>
                  </a:lnTo>
                  <a:lnTo>
                    <a:pt x="9" y="890"/>
                  </a:lnTo>
                  <a:lnTo>
                    <a:pt x="17" y="887"/>
                  </a:lnTo>
                  <a:lnTo>
                    <a:pt x="26" y="881"/>
                  </a:lnTo>
                  <a:lnTo>
                    <a:pt x="37" y="878"/>
                  </a:lnTo>
                  <a:lnTo>
                    <a:pt x="49" y="873"/>
                  </a:lnTo>
                  <a:lnTo>
                    <a:pt x="61" y="869"/>
                  </a:lnTo>
                  <a:lnTo>
                    <a:pt x="75" y="864"/>
                  </a:lnTo>
                  <a:lnTo>
                    <a:pt x="90" y="860"/>
                  </a:lnTo>
                  <a:lnTo>
                    <a:pt x="105" y="857"/>
                  </a:lnTo>
                  <a:lnTo>
                    <a:pt x="119" y="853"/>
                  </a:lnTo>
                  <a:lnTo>
                    <a:pt x="135" y="852"/>
                  </a:lnTo>
                  <a:lnTo>
                    <a:pt x="150" y="852"/>
                  </a:lnTo>
                  <a:lnTo>
                    <a:pt x="166" y="852"/>
                  </a:lnTo>
                  <a:lnTo>
                    <a:pt x="180" y="853"/>
                  </a:lnTo>
                  <a:lnTo>
                    <a:pt x="193" y="857"/>
                  </a:lnTo>
                  <a:lnTo>
                    <a:pt x="204" y="862"/>
                  </a:lnTo>
                  <a:lnTo>
                    <a:pt x="213" y="869"/>
                  </a:lnTo>
                  <a:lnTo>
                    <a:pt x="220" y="876"/>
                  </a:lnTo>
                  <a:lnTo>
                    <a:pt x="225" y="885"/>
                  </a:lnTo>
                  <a:lnTo>
                    <a:pt x="231" y="894"/>
                  </a:lnTo>
                  <a:lnTo>
                    <a:pt x="235" y="902"/>
                  </a:lnTo>
                  <a:lnTo>
                    <a:pt x="239" y="911"/>
                  </a:lnTo>
                  <a:lnTo>
                    <a:pt x="244" y="920"/>
                  </a:lnTo>
                  <a:lnTo>
                    <a:pt x="248" y="929"/>
                  </a:lnTo>
                  <a:lnTo>
                    <a:pt x="254" y="936"/>
                  </a:lnTo>
                  <a:lnTo>
                    <a:pt x="260" y="943"/>
                  </a:lnTo>
                  <a:lnTo>
                    <a:pt x="268" y="950"/>
                  </a:lnTo>
                  <a:lnTo>
                    <a:pt x="278" y="953"/>
                  </a:lnTo>
                  <a:lnTo>
                    <a:pt x="290" y="957"/>
                  </a:lnTo>
                  <a:lnTo>
                    <a:pt x="304" y="958"/>
                  </a:lnTo>
                  <a:lnTo>
                    <a:pt x="319" y="957"/>
                  </a:lnTo>
                  <a:lnTo>
                    <a:pt x="334" y="955"/>
                  </a:lnTo>
                  <a:lnTo>
                    <a:pt x="348" y="950"/>
                  </a:lnTo>
                  <a:lnTo>
                    <a:pt x="361" y="944"/>
                  </a:lnTo>
                  <a:lnTo>
                    <a:pt x="375" y="937"/>
                  </a:lnTo>
                  <a:lnTo>
                    <a:pt x="388" y="930"/>
                  </a:lnTo>
                  <a:lnTo>
                    <a:pt x="400" y="922"/>
                  </a:lnTo>
                  <a:lnTo>
                    <a:pt x="413" y="913"/>
                  </a:lnTo>
                  <a:lnTo>
                    <a:pt x="425" y="906"/>
                  </a:lnTo>
                  <a:lnTo>
                    <a:pt x="437" y="897"/>
                  </a:lnTo>
                  <a:lnTo>
                    <a:pt x="448" y="888"/>
                  </a:lnTo>
                  <a:lnTo>
                    <a:pt x="461" y="880"/>
                  </a:lnTo>
                  <a:lnTo>
                    <a:pt x="473" y="873"/>
                  </a:lnTo>
                  <a:lnTo>
                    <a:pt x="485" y="867"/>
                  </a:lnTo>
                  <a:lnTo>
                    <a:pt x="497" y="862"/>
                  </a:lnTo>
                  <a:lnTo>
                    <a:pt x="509" y="859"/>
                  </a:lnTo>
                  <a:lnTo>
                    <a:pt x="520" y="857"/>
                  </a:lnTo>
                  <a:lnTo>
                    <a:pt x="530" y="855"/>
                  </a:lnTo>
                  <a:lnTo>
                    <a:pt x="538" y="857"/>
                  </a:lnTo>
                  <a:lnTo>
                    <a:pt x="544" y="859"/>
                  </a:lnTo>
                  <a:lnTo>
                    <a:pt x="551" y="860"/>
                  </a:lnTo>
                  <a:lnTo>
                    <a:pt x="555" y="864"/>
                  </a:lnTo>
                  <a:lnTo>
                    <a:pt x="558" y="869"/>
                  </a:lnTo>
                  <a:lnTo>
                    <a:pt x="562" y="873"/>
                  </a:lnTo>
                  <a:lnTo>
                    <a:pt x="563" y="878"/>
                  </a:lnTo>
                  <a:lnTo>
                    <a:pt x="564" y="881"/>
                  </a:lnTo>
                  <a:lnTo>
                    <a:pt x="565" y="887"/>
                  </a:lnTo>
                  <a:lnTo>
                    <a:pt x="566" y="890"/>
                  </a:lnTo>
                  <a:lnTo>
                    <a:pt x="566" y="894"/>
                  </a:lnTo>
                  <a:lnTo>
                    <a:pt x="565" y="897"/>
                  </a:lnTo>
                  <a:lnTo>
                    <a:pt x="565" y="899"/>
                  </a:lnTo>
                  <a:lnTo>
                    <a:pt x="566" y="897"/>
                  </a:lnTo>
                  <a:lnTo>
                    <a:pt x="568" y="895"/>
                  </a:lnTo>
                  <a:lnTo>
                    <a:pt x="573" y="890"/>
                  </a:lnTo>
                  <a:lnTo>
                    <a:pt x="578" y="885"/>
                  </a:lnTo>
                  <a:lnTo>
                    <a:pt x="585" y="878"/>
                  </a:lnTo>
                  <a:lnTo>
                    <a:pt x="592" y="869"/>
                  </a:lnTo>
                  <a:lnTo>
                    <a:pt x="599" y="860"/>
                  </a:lnTo>
                  <a:lnTo>
                    <a:pt x="607" y="852"/>
                  </a:lnTo>
                  <a:lnTo>
                    <a:pt x="615" y="843"/>
                  </a:lnTo>
                  <a:lnTo>
                    <a:pt x="622" y="834"/>
                  </a:lnTo>
                  <a:lnTo>
                    <a:pt x="629" y="827"/>
                  </a:lnTo>
                  <a:lnTo>
                    <a:pt x="636" y="818"/>
                  </a:lnTo>
                  <a:lnTo>
                    <a:pt x="641" y="813"/>
                  </a:lnTo>
                  <a:lnTo>
                    <a:pt x="645" y="808"/>
                  </a:lnTo>
                  <a:lnTo>
                    <a:pt x="648" y="806"/>
                  </a:lnTo>
                  <a:lnTo>
                    <a:pt x="649" y="804"/>
                  </a:lnTo>
                  <a:lnTo>
                    <a:pt x="645" y="796"/>
                  </a:lnTo>
                  <a:lnTo>
                    <a:pt x="637" y="769"/>
                  </a:lnTo>
                  <a:lnTo>
                    <a:pt x="623" y="731"/>
                  </a:lnTo>
                  <a:lnTo>
                    <a:pt x="606" y="678"/>
                  </a:lnTo>
                  <a:lnTo>
                    <a:pt x="586" y="618"/>
                  </a:lnTo>
                  <a:lnTo>
                    <a:pt x="562" y="550"/>
                  </a:lnTo>
                  <a:lnTo>
                    <a:pt x="538" y="478"/>
                  </a:lnTo>
                  <a:lnTo>
                    <a:pt x="512" y="403"/>
                  </a:lnTo>
                  <a:lnTo>
                    <a:pt x="487" y="328"/>
                  </a:lnTo>
                  <a:lnTo>
                    <a:pt x="462" y="256"/>
                  </a:lnTo>
                  <a:lnTo>
                    <a:pt x="439" y="187"/>
                  </a:lnTo>
                  <a:lnTo>
                    <a:pt x="418" y="125"/>
                  </a:lnTo>
                  <a:lnTo>
                    <a:pt x="400" y="75"/>
                  </a:lnTo>
                  <a:lnTo>
                    <a:pt x="387" y="34"/>
                  </a:lnTo>
                  <a:lnTo>
                    <a:pt x="378" y="10"/>
                  </a:lnTo>
                  <a:lnTo>
                    <a:pt x="375" y="0"/>
                  </a:lnTo>
                  <a:lnTo>
                    <a:pt x="37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76360" y="1995480"/>
              <a:ext cx="233640" cy="344880"/>
            </a:xfrm>
            <a:custGeom>
              <a:avLst/>
              <a:gdLst/>
              <a:ahLst/>
              <a:rect l="0" t="0" r="r" b="b"/>
              <a:pathLst>
                <a:path fill="none" w="649" h="958">
                  <a:moveTo>
                    <a:pt x="371" y="0"/>
                  </a:moveTo>
                  <a:lnTo>
                    <a:pt x="369" y="3"/>
                  </a:lnTo>
                  <a:lnTo>
                    <a:pt x="364" y="10"/>
                  </a:lnTo>
                  <a:lnTo>
                    <a:pt x="355" y="22"/>
                  </a:lnTo>
                  <a:lnTo>
                    <a:pt x="344" y="38"/>
                  </a:lnTo>
                  <a:lnTo>
                    <a:pt x="331" y="57"/>
                  </a:lnTo>
                  <a:lnTo>
                    <a:pt x="314" y="76"/>
                  </a:lnTo>
                  <a:lnTo>
                    <a:pt x="299" y="99"/>
                  </a:lnTo>
                  <a:lnTo>
                    <a:pt x="282" y="122"/>
                  </a:lnTo>
                  <a:lnTo>
                    <a:pt x="266" y="145"/>
                  </a:lnTo>
                  <a:lnTo>
                    <a:pt x="249" y="166"/>
                  </a:lnTo>
                  <a:lnTo>
                    <a:pt x="235" y="187"/>
                  </a:lnTo>
                  <a:lnTo>
                    <a:pt x="222" y="206"/>
                  </a:lnTo>
                  <a:lnTo>
                    <a:pt x="210" y="222"/>
                  </a:lnTo>
                  <a:lnTo>
                    <a:pt x="201" y="232"/>
                  </a:lnTo>
                  <a:lnTo>
                    <a:pt x="195" y="242"/>
                  </a:lnTo>
                  <a:lnTo>
                    <a:pt x="193" y="244"/>
                  </a:lnTo>
                  <a:lnTo>
                    <a:pt x="194" y="244"/>
                  </a:lnTo>
                  <a:lnTo>
                    <a:pt x="195" y="245"/>
                  </a:lnTo>
                  <a:lnTo>
                    <a:pt x="199" y="245"/>
                  </a:lnTo>
                  <a:lnTo>
                    <a:pt x="202" y="247"/>
                  </a:lnTo>
                  <a:lnTo>
                    <a:pt x="205" y="247"/>
                  </a:lnTo>
                  <a:lnTo>
                    <a:pt x="211" y="249"/>
                  </a:lnTo>
                  <a:lnTo>
                    <a:pt x="215" y="251"/>
                  </a:lnTo>
                  <a:lnTo>
                    <a:pt x="221" y="251"/>
                  </a:lnTo>
                  <a:lnTo>
                    <a:pt x="225" y="252"/>
                  </a:lnTo>
                  <a:lnTo>
                    <a:pt x="230" y="254"/>
                  </a:lnTo>
                  <a:lnTo>
                    <a:pt x="235" y="254"/>
                  </a:lnTo>
                  <a:lnTo>
                    <a:pt x="238" y="256"/>
                  </a:lnTo>
                  <a:lnTo>
                    <a:pt x="242" y="256"/>
                  </a:lnTo>
                  <a:lnTo>
                    <a:pt x="245" y="258"/>
                  </a:lnTo>
                  <a:lnTo>
                    <a:pt x="246" y="258"/>
                  </a:lnTo>
                  <a:lnTo>
                    <a:pt x="247" y="258"/>
                  </a:lnTo>
                  <a:lnTo>
                    <a:pt x="244" y="265"/>
                  </a:lnTo>
                  <a:lnTo>
                    <a:pt x="236" y="286"/>
                  </a:lnTo>
                  <a:lnTo>
                    <a:pt x="224" y="317"/>
                  </a:lnTo>
                  <a:lnTo>
                    <a:pt x="209" y="357"/>
                  </a:lnTo>
                  <a:lnTo>
                    <a:pt x="190" y="405"/>
                  </a:lnTo>
                  <a:lnTo>
                    <a:pt x="169" y="459"/>
                  </a:lnTo>
                  <a:lnTo>
                    <a:pt x="146" y="517"/>
                  </a:lnTo>
                  <a:lnTo>
                    <a:pt x="124" y="576"/>
                  </a:lnTo>
                  <a:lnTo>
                    <a:pt x="101" y="636"/>
                  </a:lnTo>
                  <a:lnTo>
                    <a:pt x="78" y="693"/>
                  </a:lnTo>
                  <a:lnTo>
                    <a:pt x="57" y="747"/>
                  </a:lnTo>
                  <a:lnTo>
                    <a:pt x="38" y="796"/>
                  </a:lnTo>
                  <a:lnTo>
                    <a:pt x="23" y="836"/>
                  </a:lnTo>
                  <a:lnTo>
                    <a:pt x="11" y="867"/>
                  </a:lnTo>
                  <a:lnTo>
                    <a:pt x="3" y="888"/>
                  </a:lnTo>
                  <a:lnTo>
                    <a:pt x="0" y="895"/>
                  </a:lnTo>
                  <a:lnTo>
                    <a:pt x="1" y="894"/>
                  </a:lnTo>
                  <a:lnTo>
                    <a:pt x="5" y="892"/>
                  </a:lnTo>
                  <a:lnTo>
                    <a:pt x="9" y="890"/>
                  </a:lnTo>
                  <a:lnTo>
                    <a:pt x="17" y="887"/>
                  </a:lnTo>
                  <a:lnTo>
                    <a:pt x="26" y="881"/>
                  </a:lnTo>
                  <a:lnTo>
                    <a:pt x="37" y="878"/>
                  </a:lnTo>
                  <a:lnTo>
                    <a:pt x="49" y="873"/>
                  </a:lnTo>
                  <a:lnTo>
                    <a:pt x="61" y="869"/>
                  </a:lnTo>
                  <a:lnTo>
                    <a:pt x="75" y="864"/>
                  </a:lnTo>
                  <a:lnTo>
                    <a:pt x="90" y="860"/>
                  </a:lnTo>
                  <a:lnTo>
                    <a:pt x="105" y="857"/>
                  </a:lnTo>
                  <a:lnTo>
                    <a:pt x="119" y="853"/>
                  </a:lnTo>
                  <a:lnTo>
                    <a:pt x="135" y="852"/>
                  </a:lnTo>
                  <a:lnTo>
                    <a:pt x="150" y="852"/>
                  </a:lnTo>
                  <a:lnTo>
                    <a:pt x="166" y="852"/>
                  </a:lnTo>
                  <a:lnTo>
                    <a:pt x="180" y="853"/>
                  </a:lnTo>
                  <a:lnTo>
                    <a:pt x="193" y="857"/>
                  </a:lnTo>
                  <a:lnTo>
                    <a:pt x="204" y="862"/>
                  </a:lnTo>
                  <a:lnTo>
                    <a:pt x="213" y="869"/>
                  </a:lnTo>
                  <a:lnTo>
                    <a:pt x="220" y="876"/>
                  </a:lnTo>
                  <a:lnTo>
                    <a:pt x="225" y="885"/>
                  </a:lnTo>
                  <a:lnTo>
                    <a:pt x="231" y="894"/>
                  </a:lnTo>
                  <a:lnTo>
                    <a:pt x="235" y="902"/>
                  </a:lnTo>
                  <a:lnTo>
                    <a:pt x="239" y="911"/>
                  </a:lnTo>
                  <a:lnTo>
                    <a:pt x="244" y="920"/>
                  </a:lnTo>
                  <a:lnTo>
                    <a:pt x="248" y="929"/>
                  </a:lnTo>
                  <a:lnTo>
                    <a:pt x="254" y="936"/>
                  </a:lnTo>
                  <a:lnTo>
                    <a:pt x="260" y="943"/>
                  </a:lnTo>
                  <a:lnTo>
                    <a:pt x="268" y="950"/>
                  </a:lnTo>
                  <a:lnTo>
                    <a:pt x="278" y="953"/>
                  </a:lnTo>
                  <a:lnTo>
                    <a:pt x="290" y="957"/>
                  </a:lnTo>
                  <a:lnTo>
                    <a:pt x="304" y="958"/>
                  </a:lnTo>
                  <a:lnTo>
                    <a:pt x="319" y="957"/>
                  </a:lnTo>
                  <a:lnTo>
                    <a:pt x="334" y="955"/>
                  </a:lnTo>
                  <a:lnTo>
                    <a:pt x="348" y="950"/>
                  </a:lnTo>
                  <a:lnTo>
                    <a:pt x="361" y="944"/>
                  </a:lnTo>
                  <a:lnTo>
                    <a:pt x="375" y="937"/>
                  </a:lnTo>
                  <a:lnTo>
                    <a:pt x="388" y="930"/>
                  </a:lnTo>
                  <a:lnTo>
                    <a:pt x="400" y="922"/>
                  </a:lnTo>
                  <a:lnTo>
                    <a:pt x="413" y="913"/>
                  </a:lnTo>
                  <a:lnTo>
                    <a:pt x="425" y="906"/>
                  </a:lnTo>
                  <a:lnTo>
                    <a:pt x="437" y="897"/>
                  </a:lnTo>
                  <a:lnTo>
                    <a:pt x="448" y="888"/>
                  </a:lnTo>
                  <a:lnTo>
                    <a:pt x="461" y="880"/>
                  </a:lnTo>
                  <a:lnTo>
                    <a:pt x="473" y="873"/>
                  </a:lnTo>
                  <a:lnTo>
                    <a:pt x="485" y="867"/>
                  </a:lnTo>
                  <a:lnTo>
                    <a:pt x="497" y="862"/>
                  </a:lnTo>
                  <a:lnTo>
                    <a:pt x="509" y="859"/>
                  </a:lnTo>
                  <a:lnTo>
                    <a:pt x="520" y="857"/>
                  </a:lnTo>
                  <a:lnTo>
                    <a:pt x="530" y="855"/>
                  </a:lnTo>
                  <a:lnTo>
                    <a:pt x="538" y="857"/>
                  </a:lnTo>
                  <a:lnTo>
                    <a:pt x="544" y="859"/>
                  </a:lnTo>
                  <a:lnTo>
                    <a:pt x="551" y="860"/>
                  </a:lnTo>
                  <a:lnTo>
                    <a:pt x="555" y="864"/>
                  </a:lnTo>
                  <a:lnTo>
                    <a:pt x="558" y="869"/>
                  </a:lnTo>
                  <a:lnTo>
                    <a:pt x="562" y="873"/>
                  </a:lnTo>
                  <a:lnTo>
                    <a:pt x="563" y="878"/>
                  </a:lnTo>
                  <a:lnTo>
                    <a:pt x="564" y="881"/>
                  </a:lnTo>
                  <a:lnTo>
                    <a:pt x="565" y="887"/>
                  </a:lnTo>
                  <a:lnTo>
                    <a:pt x="566" y="890"/>
                  </a:lnTo>
                  <a:lnTo>
                    <a:pt x="566" y="894"/>
                  </a:lnTo>
                  <a:lnTo>
                    <a:pt x="565" y="897"/>
                  </a:lnTo>
                  <a:lnTo>
                    <a:pt x="565" y="899"/>
                  </a:lnTo>
                  <a:lnTo>
                    <a:pt x="566" y="897"/>
                  </a:lnTo>
                  <a:lnTo>
                    <a:pt x="568" y="895"/>
                  </a:lnTo>
                  <a:lnTo>
                    <a:pt x="573" y="890"/>
                  </a:lnTo>
                  <a:lnTo>
                    <a:pt x="578" y="885"/>
                  </a:lnTo>
                  <a:lnTo>
                    <a:pt x="585" y="878"/>
                  </a:lnTo>
                  <a:lnTo>
                    <a:pt x="592" y="869"/>
                  </a:lnTo>
                  <a:lnTo>
                    <a:pt x="599" y="860"/>
                  </a:lnTo>
                  <a:lnTo>
                    <a:pt x="607" y="852"/>
                  </a:lnTo>
                  <a:lnTo>
                    <a:pt x="615" y="843"/>
                  </a:lnTo>
                  <a:lnTo>
                    <a:pt x="622" y="834"/>
                  </a:lnTo>
                  <a:lnTo>
                    <a:pt x="629" y="827"/>
                  </a:lnTo>
                  <a:lnTo>
                    <a:pt x="636" y="818"/>
                  </a:lnTo>
                  <a:lnTo>
                    <a:pt x="641" y="813"/>
                  </a:lnTo>
                  <a:lnTo>
                    <a:pt x="645" y="808"/>
                  </a:lnTo>
                  <a:lnTo>
                    <a:pt x="648" y="806"/>
                  </a:lnTo>
                  <a:lnTo>
                    <a:pt x="649" y="804"/>
                  </a:lnTo>
                  <a:lnTo>
                    <a:pt x="645" y="796"/>
                  </a:lnTo>
                  <a:lnTo>
                    <a:pt x="637" y="769"/>
                  </a:lnTo>
                  <a:lnTo>
                    <a:pt x="623" y="731"/>
                  </a:lnTo>
                  <a:lnTo>
                    <a:pt x="606" y="678"/>
                  </a:lnTo>
                  <a:lnTo>
                    <a:pt x="586" y="618"/>
                  </a:lnTo>
                  <a:lnTo>
                    <a:pt x="562" y="550"/>
                  </a:lnTo>
                  <a:lnTo>
                    <a:pt x="538" y="478"/>
                  </a:lnTo>
                  <a:lnTo>
                    <a:pt x="512" y="403"/>
                  </a:lnTo>
                  <a:lnTo>
                    <a:pt x="487" y="328"/>
                  </a:lnTo>
                  <a:lnTo>
                    <a:pt x="462" y="256"/>
                  </a:lnTo>
                  <a:lnTo>
                    <a:pt x="439" y="187"/>
                  </a:lnTo>
                  <a:lnTo>
                    <a:pt x="418" y="125"/>
                  </a:lnTo>
                  <a:lnTo>
                    <a:pt x="400" y="75"/>
                  </a:lnTo>
                  <a:lnTo>
                    <a:pt x="387" y="34"/>
                  </a:lnTo>
                  <a:lnTo>
                    <a:pt x="378" y="10"/>
                  </a:lnTo>
                  <a:lnTo>
                    <a:pt x="375" y="0"/>
                  </a:lnTo>
                  <a:lnTo>
                    <a:pt x="371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87520" y="1886040"/>
              <a:ext cx="168480" cy="159120"/>
            </a:xfrm>
            <a:custGeom>
              <a:avLst/>
              <a:gdLst/>
              <a:ahLst/>
              <a:rect l="0" t="0" r="r" b="b"/>
              <a:pathLst>
                <a:path w="468" h="442">
                  <a:moveTo>
                    <a:pt x="3" y="442"/>
                  </a:moveTo>
                  <a:lnTo>
                    <a:pt x="96" y="352"/>
                  </a:lnTo>
                  <a:lnTo>
                    <a:pt x="126" y="40"/>
                  </a:lnTo>
                  <a:lnTo>
                    <a:pt x="180" y="102"/>
                  </a:lnTo>
                  <a:lnTo>
                    <a:pt x="203" y="0"/>
                  </a:lnTo>
                  <a:lnTo>
                    <a:pt x="330" y="217"/>
                  </a:lnTo>
                  <a:lnTo>
                    <a:pt x="468" y="154"/>
                  </a:lnTo>
                  <a:lnTo>
                    <a:pt x="340" y="279"/>
                  </a:lnTo>
                  <a:lnTo>
                    <a:pt x="278" y="265"/>
                  </a:lnTo>
                  <a:lnTo>
                    <a:pt x="156" y="348"/>
                  </a:lnTo>
                  <a:lnTo>
                    <a:pt x="133" y="397"/>
                  </a:lnTo>
                  <a:lnTo>
                    <a:pt x="0" y="442"/>
                  </a:lnTo>
                  <a:lnTo>
                    <a:pt x="3" y="44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87520" y="1886040"/>
              <a:ext cx="168480" cy="159120"/>
            </a:xfrm>
            <a:custGeom>
              <a:avLst/>
              <a:gdLst/>
              <a:ahLst/>
              <a:rect l="0" t="0" r="r" b="b"/>
              <a:pathLst>
                <a:path fill="none" w="468" h="442">
                  <a:moveTo>
                    <a:pt x="3" y="442"/>
                  </a:moveTo>
                  <a:lnTo>
                    <a:pt x="96" y="352"/>
                  </a:lnTo>
                  <a:lnTo>
                    <a:pt x="126" y="40"/>
                  </a:lnTo>
                  <a:lnTo>
                    <a:pt x="180" y="102"/>
                  </a:lnTo>
                  <a:lnTo>
                    <a:pt x="203" y="0"/>
                  </a:lnTo>
                  <a:lnTo>
                    <a:pt x="330" y="217"/>
                  </a:lnTo>
                  <a:lnTo>
                    <a:pt x="468" y="154"/>
                  </a:lnTo>
                  <a:lnTo>
                    <a:pt x="340" y="279"/>
                  </a:lnTo>
                  <a:lnTo>
                    <a:pt x="278" y="265"/>
                  </a:lnTo>
                  <a:lnTo>
                    <a:pt x="156" y="348"/>
                  </a:lnTo>
                  <a:lnTo>
                    <a:pt x="133" y="397"/>
                  </a:lnTo>
                  <a:lnTo>
                    <a:pt x="0" y="442"/>
                  </a:lnTo>
                  <a:lnTo>
                    <a:pt x="3" y="44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19200" y="2122560"/>
              <a:ext cx="76680" cy="70200"/>
            </a:xfrm>
            <a:custGeom>
              <a:avLst/>
              <a:gdLst/>
              <a:ahLst/>
              <a:rect l="0" t="0" r="r" b="b"/>
              <a:pathLst>
                <a:path w="213" h="195">
                  <a:moveTo>
                    <a:pt x="62" y="89"/>
                  </a:moveTo>
                  <a:lnTo>
                    <a:pt x="9" y="146"/>
                  </a:lnTo>
                  <a:lnTo>
                    <a:pt x="0" y="152"/>
                  </a:lnTo>
                  <a:lnTo>
                    <a:pt x="80" y="0"/>
                  </a:lnTo>
                  <a:lnTo>
                    <a:pt x="195" y="104"/>
                  </a:lnTo>
                  <a:lnTo>
                    <a:pt x="213" y="195"/>
                  </a:lnTo>
                  <a:lnTo>
                    <a:pt x="111" y="90"/>
                  </a:lnTo>
                  <a:lnTo>
                    <a:pt x="93" y="138"/>
                  </a:lnTo>
                  <a:lnTo>
                    <a:pt x="66" y="123"/>
                  </a:lnTo>
                  <a:lnTo>
                    <a:pt x="61" y="89"/>
                  </a:lnTo>
                  <a:lnTo>
                    <a:pt x="62" y="8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9200" y="2122560"/>
              <a:ext cx="76680" cy="70200"/>
            </a:xfrm>
            <a:custGeom>
              <a:avLst/>
              <a:gdLst/>
              <a:ahLst/>
              <a:rect l="0" t="0" r="r" b="b"/>
              <a:pathLst>
                <a:path fill="none" w="213" h="195">
                  <a:moveTo>
                    <a:pt x="62" y="89"/>
                  </a:moveTo>
                  <a:lnTo>
                    <a:pt x="9" y="146"/>
                  </a:lnTo>
                  <a:lnTo>
                    <a:pt x="0" y="152"/>
                  </a:lnTo>
                  <a:lnTo>
                    <a:pt x="80" y="0"/>
                  </a:lnTo>
                  <a:lnTo>
                    <a:pt x="195" y="104"/>
                  </a:lnTo>
                  <a:lnTo>
                    <a:pt x="213" y="195"/>
                  </a:lnTo>
                  <a:lnTo>
                    <a:pt x="111" y="90"/>
                  </a:lnTo>
                  <a:lnTo>
                    <a:pt x="93" y="138"/>
                  </a:lnTo>
                  <a:lnTo>
                    <a:pt x="66" y="123"/>
                  </a:lnTo>
                  <a:lnTo>
                    <a:pt x="61" y="89"/>
                  </a:lnTo>
                  <a:lnTo>
                    <a:pt x="62" y="8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7280" y="2081160"/>
              <a:ext cx="109800" cy="111600"/>
            </a:xfrm>
            <a:custGeom>
              <a:avLst/>
              <a:gdLst/>
              <a:ahLst/>
              <a:rect l="0" t="0" r="r" b="b"/>
              <a:pathLst>
                <a:path w="305" h="310">
                  <a:moveTo>
                    <a:pt x="0" y="23"/>
                  </a:moveTo>
                  <a:lnTo>
                    <a:pt x="26" y="0"/>
                  </a:lnTo>
                  <a:lnTo>
                    <a:pt x="133" y="255"/>
                  </a:lnTo>
                  <a:lnTo>
                    <a:pt x="305" y="255"/>
                  </a:lnTo>
                  <a:lnTo>
                    <a:pt x="305" y="310"/>
                  </a:lnTo>
                  <a:lnTo>
                    <a:pt x="30" y="310"/>
                  </a:lnTo>
                  <a:lnTo>
                    <a:pt x="28" y="255"/>
                  </a:lnTo>
                  <a:lnTo>
                    <a:pt x="97" y="255"/>
                  </a:lnTo>
                  <a:lnTo>
                    <a:pt x="0" y="3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57280" y="2081160"/>
              <a:ext cx="109800" cy="111600"/>
            </a:xfrm>
            <a:custGeom>
              <a:avLst/>
              <a:gdLst/>
              <a:ahLst/>
              <a:rect l="0" t="0" r="r" b="b"/>
              <a:pathLst>
                <a:path fill="none" w="305" h="310">
                  <a:moveTo>
                    <a:pt x="0" y="23"/>
                  </a:moveTo>
                  <a:lnTo>
                    <a:pt x="26" y="0"/>
                  </a:lnTo>
                  <a:lnTo>
                    <a:pt x="133" y="255"/>
                  </a:lnTo>
                  <a:lnTo>
                    <a:pt x="305" y="255"/>
                  </a:lnTo>
                  <a:lnTo>
                    <a:pt x="305" y="310"/>
                  </a:lnTo>
                  <a:lnTo>
                    <a:pt x="30" y="310"/>
                  </a:lnTo>
                  <a:lnTo>
                    <a:pt x="28" y="255"/>
                  </a:lnTo>
                  <a:lnTo>
                    <a:pt x="97" y="255"/>
                  </a:lnTo>
                  <a:lnTo>
                    <a:pt x="0" y="30"/>
                  </a:lnTo>
                  <a:lnTo>
                    <a:pt x="0" y="2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576360" y="3124080"/>
            <a:ext cx="252720" cy="454680"/>
            <a:chOff x="576360" y="3124080"/>
            <a:chExt cx="252720" cy="454680"/>
          </a:xfrm>
        </p:grpSpPr>
        <p:sp>
          <p:nvSpPr>
            <p:cNvPr id="250" name=""/>
            <p:cNvSpPr/>
            <p:nvPr/>
          </p:nvSpPr>
          <p:spPr>
            <a:xfrm>
              <a:off x="655560" y="3252960"/>
              <a:ext cx="28800" cy="44640"/>
            </a:xfrm>
            <a:custGeom>
              <a:avLst/>
              <a:gdLst/>
              <a:ahLst/>
              <a:rect l="0" t="0" r="r" b="b"/>
              <a:pathLst>
                <a:path w="80" h="124">
                  <a:moveTo>
                    <a:pt x="0" y="56"/>
                  </a:moveTo>
                  <a:lnTo>
                    <a:pt x="13" y="61"/>
                  </a:lnTo>
                  <a:lnTo>
                    <a:pt x="19" y="79"/>
                  </a:lnTo>
                  <a:lnTo>
                    <a:pt x="16" y="124"/>
                  </a:lnTo>
                  <a:lnTo>
                    <a:pt x="26" y="88"/>
                  </a:lnTo>
                  <a:lnTo>
                    <a:pt x="36" y="48"/>
                  </a:lnTo>
                  <a:lnTo>
                    <a:pt x="60" y="48"/>
                  </a:lnTo>
                  <a:lnTo>
                    <a:pt x="80" y="0"/>
                  </a:lnTo>
                  <a:lnTo>
                    <a:pt x="51" y="0"/>
                  </a:lnTo>
                  <a:lnTo>
                    <a:pt x="0" y="53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55560" y="3252960"/>
              <a:ext cx="28800" cy="44640"/>
            </a:xfrm>
            <a:custGeom>
              <a:avLst/>
              <a:gdLst/>
              <a:ahLst/>
              <a:rect l="0" t="0" r="r" b="b"/>
              <a:pathLst>
                <a:path fill="none" w="80" h="124">
                  <a:moveTo>
                    <a:pt x="0" y="56"/>
                  </a:moveTo>
                  <a:lnTo>
                    <a:pt x="13" y="61"/>
                  </a:lnTo>
                  <a:lnTo>
                    <a:pt x="19" y="79"/>
                  </a:lnTo>
                  <a:lnTo>
                    <a:pt x="16" y="124"/>
                  </a:lnTo>
                  <a:lnTo>
                    <a:pt x="26" y="88"/>
                  </a:lnTo>
                  <a:lnTo>
                    <a:pt x="36" y="48"/>
                  </a:lnTo>
                  <a:lnTo>
                    <a:pt x="60" y="48"/>
                  </a:lnTo>
                  <a:lnTo>
                    <a:pt x="80" y="0"/>
                  </a:lnTo>
                  <a:lnTo>
                    <a:pt x="51" y="0"/>
                  </a:lnTo>
                  <a:lnTo>
                    <a:pt x="0" y="53"/>
                  </a:lnTo>
                  <a:lnTo>
                    <a:pt x="0" y="5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95440" y="3233880"/>
              <a:ext cx="233640" cy="344880"/>
            </a:xfrm>
            <a:custGeom>
              <a:avLst/>
              <a:gdLst/>
              <a:ahLst/>
              <a:rect l="0" t="0" r="r" b="b"/>
              <a:pathLst>
                <a:path w="649" h="958">
                  <a:moveTo>
                    <a:pt x="371" y="0"/>
                  </a:moveTo>
                  <a:lnTo>
                    <a:pt x="369" y="3"/>
                  </a:lnTo>
                  <a:lnTo>
                    <a:pt x="364" y="10"/>
                  </a:lnTo>
                  <a:lnTo>
                    <a:pt x="355" y="22"/>
                  </a:lnTo>
                  <a:lnTo>
                    <a:pt x="344" y="38"/>
                  </a:lnTo>
                  <a:lnTo>
                    <a:pt x="331" y="57"/>
                  </a:lnTo>
                  <a:lnTo>
                    <a:pt x="314" y="76"/>
                  </a:lnTo>
                  <a:lnTo>
                    <a:pt x="299" y="99"/>
                  </a:lnTo>
                  <a:lnTo>
                    <a:pt x="282" y="122"/>
                  </a:lnTo>
                  <a:lnTo>
                    <a:pt x="266" y="145"/>
                  </a:lnTo>
                  <a:lnTo>
                    <a:pt x="249" y="166"/>
                  </a:lnTo>
                  <a:lnTo>
                    <a:pt x="235" y="187"/>
                  </a:lnTo>
                  <a:lnTo>
                    <a:pt x="222" y="206"/>
                  </a:lnTo>
                  <a:lnTo>
                    <a:pt x="210" y="222"/>
                  </a:lnTo>
                  <a:lnTo>
                    <a:pt x="201" y="232"/>
                  </a:lnTo>
                  <a:lnTo>
                    <a:pt x="195" y="242"/>
                  </a:lnTo>
                  <a:lnTo>
                    <a:pt x="193" y="244"/>
                  </a:lnTo>
                  <a:lnTo>
                    <a:pt x="194" y="244"/>
                  </a:lnTo>
                  <a:lnTo>
                    <a:pt x="195" y="245"/>
                  </a:lnTo>
                  <a:lnTo>
                    <a:pt x="199" y="245"/>
                  </a:lnTo>
                  <a:lnTo>
                    <a:pt x="202" y="247"/>
                  </a:lnTo>
                  <a:lnTo>
                    <a:pt x="205" y="247"/>
                  </a:lnTo>
                  <a:lnTo>
                    <a:pt x="211" y="249"/>
                  </a:lnTo>
                  <a:lnTo>
                    <a:pt x="215" y="251"/>
                  </a:lnTo>
                  <a:lnTo>
                    <a:pt x="221" y="251"/>
                  </a:lnTo>
                  <a:lnTo>
                    <a:pt x="225" y="252"/>
                  </a:lnTo>
                  <a:lnTo>
                    <a:pt x="230" y="254"/>
                  </a:lnTo>
                  <a:lnTo>
                    <a:pt x="235" y="254"/>
                  </a:lnTo>
                  <a:lnTo>
                    <a:pt x="238" y="256"/>
                  </a:lnTo>
                  <a:lnTo>
                    <a:pt x="242" y="256"/>
                  </a:lnTo>
                  <a:lnTo>
                    <a:pt x="245" y="258"/>
                  </a:lnTo>
                  <a:lnTo>
                    <a:pt x="246" y="258"/>
                  </a:lnTo>
                  <a:lnTo>
                    <a:pt x="247" y="258"/>
                  </a:lnTo>
                  <a:lnTo>
                    <a:pt x="244" y="265"/>
                  </a:lnTo>
                  <a:lnTo>
                    <a:pt x="236" y="286"/>
                  </a:lnTo>
                  <a:lnTo>
                    <a:pt x="224" y="317"/>
                  </a:lnTo>
                  <a:lnTo>
                    <a:pt x="209" y="357"/>
                  </a:lnTo>
                  <a:lnTo>
                    <a:pt x="190" y="405"/>
                  </a:lnTo>
                  <a:lnTo>
                    <a:pt x="169" y="459"/>
                  </a:lnTo>
                  <a:lnTo>
                    <a:pt x="146" y="517"/>
                  </a:lnTo>
                  <a:lnTo>
                    <a:pt x="124" y="576"/>
                  </a:lnTo>
                  <a:lnTo>
                    <a:pt x="101" y="636"/>
                  </a:lnTo>
                  <a:lnTo>
                    <a:pt x="78" y="693"/>
                  </a:lnTo>
                  <a:lnTo>
                    <a:pt x="57" y="747"/>
                  </a:lnTo>
                  <a:lnTo>
                    <a:pt x="38" y="796"/>
                  </a:lnTo>
                  <a:lnTo>
                    <a:pt x="23" y="836"/>
                  </a:lnTo>
                  <a:lnTo>
                    <a:pt x="11" y="867"/>
                  </a:lnTo>
                  <a:lnTo>
                    <a:pt x="3" y="888"/>
                  </a:lnTo>
                  <a:lnTo>
                    <a:pt x="0" y="895"/>
                  </a:lnTo>
                  <a:lnTo>
                    <a:pt x="1" y="894"/>
                  </a:lnTo>
                  <a:lnTo>
                    <a:pt x="5" y="892"/>
                  </a:lnTo>
                  <a:lnTo>
                    <a:pt x="9" y="890"/>
                  </a:lnTo>
                  <a:lnTo>
                    <a:pt x="17" y="887"/>
                  </a:lnTo>
                  <a:lnTo>
                    <a:pt x="26" y="881"/>
                  </a:lnTo>
                  <a:lnTo>
                    <a:pt x="37" y="878"/>
                  </a:lnTo>
                  <a:lnTo>
                    <a:pt x="49" y="873"/>
                  </a:lnTo>
                  <a:lnTo>
                    <a:pt x="61" y="869"/>
                  </a:lnTo>
                  <a:lnTo>
                    <a:pt x="75" y="864"/>
                  </a:lnTo>
                  <a:lnTo>
                    <a:pt x="90" y="860"/>
                  </a:lnTo>
                  <a:lnTo>
                    <a:pt x="105" y="857"/>
                  </a:lnTo>
                  <a:lnTo>
                    <a:pt x="119" y="853"/>
                  </a:lnTo>
                  <a:lnTo>
                    <a:pt x="135" y="852"/>
                  </a:lnTo>
                  <a:lnTo>
                    <a:pt x="150" y="852"/>
                  </a:lnTo>
                  <a:lnTo>
                    <a:pt x="166" y="852"/>
                  </a:lnTo>
                  <a:lnTo>
                    <a:pt x="180" y="853"/>
                  </a:lnTo>
                  <a:lnTo>
                    <a:pt x="193" y="857"/>
                  </a:lnTo>
                  <a:lnTo>
                    <a:pt x="204" y="862"/>
                  </a:lnTo>
                  <a:lnTo>
                    <a:pt x="213" y="869"/>
                  </a:lnTo>
                  <a:lnTo>
                    <a:pt x="220" y="876"/>
                  </a:lnTo>
                  <a:lnTo>
                    <a:pt x="225" y="885"/>
                  </a:lnTo>
                  <a:lnTo>
                    <a:pt x="231" y="894"/>
                  </a:lnTo>
                  <a:lnTo>
                    <a:pt x="235" y="902"/>
                  </a:lnTo>
                  <a:lnTo>
                    <a:pt x="239" y="911"/>
                  </a:lnTo>
                  <a:lnTo>
                    <a:pt x="244" y="920"/>
                  </a:lnTo>
                  <a:lnTo>
                    <a:pt x="248" y="929"/>
                  </a:lnTo>
                  <a:lnTo>
                    <a:pt x="254" y="936"/>
                  </a:lnTo>
                  <a:lnTo>
                    <a:pt x="260" y="943"/>
                  </a:lnTo>
                  <a:lnTo>
                    <a:pt x="268" y="950"/>
                  </a:lnTo>
                  <a:lnTo>
                    <a:pt x="278" y="953"/>
                  </a:lnTo>
                  <a:lnTo>
                    <a:pt x="290" y="957"/>
                  </a:lnTo>
                  <a:lnTo>
                    <a:pt x="304" y="958"/>
                  </a:lnTo>
                  <a:lnTo>
                    <a:pt x="319" y="957"/>
                  </a:lnTo>
                  <a:lnTo>
                    <a:pt x="334" y="955"/>
                  </a:lnTo>
                  <a:lnTo>
                    <a:pt x="348" y="950"/>
                  </a:lnTo>
                  <a:lnTo>
                    <a:pt x="361" y="944"/>
                  </a:lnTo>
                  <a:lnTo>
                    <a:pt x="375" y="937"/>
                  </a:lnTo>
                  <a:lnTo>
                    <a:pt x="388" y="930"/>
                  </a:lnTo>
                  <a:lnTo>
                    <a:pt x="400" y="922"/>
                  </a:lnTo>
                  <a:lnTo>
                    <a:pt x="413" y="913"/>
                  </a:lnTo>
                  <a:lnTo>
                    <a:pt x="425" y="906"/>
                  </a:lnTo>
                  <a:lnTo>
                    <a:pt x="437" y="897"/>
                  </a:lnTo>
                  <a:lnTo>
                    <a:pt x="448" y="888"/>
                  </a:lnTo>
                  <a:lnTo>
                    <a:pt x="461" y="880"/>
                  </a:lnTo>
                  <a:lnTo>
                    <a:pt x="473" y="873"/>
                  </a:lnTo>
                  <a:lnTo>
                    <a:pt x="485" y="867"/>
                  </a:lnTo>
                  <a:lnTo>
                    <a:pt x="497" y="862"/>
                  </a:lnTo>
                  <a:lnTo>
                    <a:pt x="509" y="859"/>
                  </a:lnTo>
                  <a:lnTo>
                    <a:pt x="520" y="857"/>
                  </a:lnTo>
                  <a:lnTo>
                    <a:pt x="530" y="855"/>
                  </a:lnTo>
                  <a:lnTo>
                    <a:pt x="538" y="857"/>
                  </a:lnTo>
                  <a:lnTo>
                    <a:pt x="544" y="859"/>
                  </a:lnTo>
                  <a:lnTo>
                    <a:pt x="551" y="860"/>
                  </a:lnTo>
                  <a:lnTo>
                    <a:pt x="555" y="864"/>
                  </a:lnTo>
                  <a:lnTo>
                    <a:pt x="558" y="869"/>
                  </a:lnTo>
                  <a:lnTo>
                    <a:pt x="562" y="873"/>
                  </a:lnTo>
                  <a:lnTo>
                    <a:pt x="563" y="878"/>
                  </a:lnTo>
                  <a:lnTo>
                    <a:pt x="564" y="881"/>
                  </a:lnTo>
                  <a:lnTo>
                    <a:pt x="565" y="887"/>
                  </a:lnTo>
                  <a:lnTo>
                    <a:pt x="566" y="890"/>
                  </a:lnTo>
                  <a:lnTo>
                    <a:pt x="566" y="894"/>
                  </a:lnTo>
                  <a:lnTo>
                    <a:pt x="565" y="897"/>
                  </a:lnTo>
                  <a:lnTo>
                    <a:pt x="565" y="899"/>
                  </a:lnTo>
                  <a:lnTo>
                    <a:pt x="566" y="897"/>
                  </a:lnTo>
                  <a:lnTo>
                    <a:pt x="568" y="895"/>
                  </a:lnTo>
                  <a:lnTo>
                    <a:pt x="573" y="890"/>
                  </a:lnTo>
                  <a:lnTo>
                    <a:pt x="578" y="885"/>
                  </a:lnTo>
                  <a:lnTo>
                    <a:pt x="585" y="878"/>
                  </a:lnTo>
                  <a:lnTo>
                    <a:pt x="592" y="869"/>
                  </a:lnTo>
                  <a:lnTo>
                    <a:pt x="599" y="860"/>
                  </a:lnTo>
                  <a:lnTo>
                    <a:pt x="607" y="852"/>
                  </a:lnTo>
                  <a:lnTo>
                    <a:pt x="615" y="843"/>
                  </a:lnTo>
                  <a:lnTo>
                    <a:pt x="622" y="834"/>
                  </a:lnTo>
                  <a:lnTo>
                    <a:pt x="629" y="827"/>
                  </a:lnTo>
                  <a:lnTo>
                    <a:pt x="636" y="818"/>
                  </a:lnTo>
                  <a:lnTo>
                    <a:pt x="641" y="813"/>
                  </a:lnTo>
                  <a:lnTo>
                    <a:pt x="645" y="808"/>
                  </a:lnTo>
                  <a:lnTo>
                    <a:pt x="648" y="806"/>
                  </a:lnTo>
                  <a:lnTo>
                    <a:pt x="649" y="804"/>
                  </a:lnTo>
                  <a:lnTo>
                    <a:pt x="645" y="796"/>
                  </a:lnTo>
                  <a:lnTo>
                    <a:pt x="637" y="769"/>
                  </a:lnTo>
                  <a:lnTo>
                    <a:pt x="623" y="731"/>
                  </a:lnTo>
                  <a:lnTo>
                    <a:pt x="606" y="678"/>
                  </a:lnTo>
                  <a:lnTo>
                    <a:pt x="586" y="618"/>
                  </a:lnTo>
                  <a:lnTo>
                    <a:pt x="562" y="550"/>
                  </a:lnTo>
                  <a:lnTo>
                    <a:pt x="538" y="478"/>
                  </a:lnTo>
                  <a:lnTo>
                    <a:pt x="512" y="403"/>
                  </a:lnTo>
                  <a:lnTo>
                    <a:pt x="487" y="328"/>
                  </a:lnTo>
                  <a:lnTo>
                    <a:pt x="462" y="256"/>
                  </a:lnTo>
                  <a:lnTo>
                    <a:pt x="439" y="187"/>
                  </a:lnTo>
                  <a:lnTo>
                    <a:pt x="418" y="125"/>
                  </a:lnTo>
                  <a:lnTo>
                    <a:pt x="400" y="75"/>
                  </a:lnTo>
                  <a:lnTo>
                    <a:pt x="387" y="34"/>
                  </a:lnTo>
                  <a:lnTo>
                    <a:pt x="378" y="10"/>
                  </a:lnTo>
                  <a:lnTo>
                    <a:pt x="375" y="0"/>
                  </a:lnTo>
                  <a:lnTo>
                    <a:pt x="37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5440" y="3233880"/>
              <a:ext cx="233640" cy="344880"/>
            </a:xfrm>
            <a:custGeom>
              <a:avLst/>
              <a:gdLst/>
              <a:ahLst/>
              <a:rect l="0" t="0" r="r" b="b"/>
              <a:pathLst>
                <a:path fill="none" w="649" h="958">
                  <a:moveTo>
                    <a:pt x="371" y="0"/>
                  </a:moveTo>
                  <a:lnTo>
                    <a:pt x="369" y="3"/>
                  </a:lnTo>
                  <a:lnTo>
                    <a:pt x="364" y="10"/>
                  </a:lnTo>
                  <a:lnTo>
                    <a:pt x="355" y="22"/>
                  </a:lnTo>
                  <a:lnTo>
                    <a:pt x="344" y="38"/>
                  </a:lnTo>
                  <a:lnTo>
                    <a:pt x="331" y="57"/>
                  </a:lnTo>
                  <a:lnTo>
                    <a:pt x="314" y="76"/>
                  </a:lnTo>
                  <a:lnTo>
                    <a:pt x="299" y="99"/>
                  </a:lnTo>
                  <a:lnTo>
                    <a:pt x="282" y="122"/>
                  </a:lnTo>
                  <a:lnTo>
                    <a:pt x="266" y="145"/>
                  </a:lnTo>
                  <a:lnTo>
                    <a:pt x="249" y="166"/>
                  </a:lnTo>
                  <a:lnTo>
                    <a:pt x="235" y="187"/>
                  </a:lnTo>
                  <a:lnTo>
                    <a:pt x="222" y="206"/>
                  </a:lnTo>
                  <a:lnTo>
                    <a:pt x="210" y="222"/>
                  </a:lnTo>
                  <a:lnTo>
                    <a:pt x="201" y="232"/>
                  </a:lnTo>
                  <a:lnTo>
                    <a:pt x="195" y="242"/>
                  </a:lnTo>
                  <a:lnTo>
                    <a:pt x="193" y="244"/>
                  </a:lnTo>
                  <a:lnTo>
                    <a:pt x="194" y="244"/>
                  </a:lnTo>
                  <a:lnTo>
                    <a:pt x="195" y="245"/>
                  </a:lnTo>
                  <a:lnTo>
                    <a:pt x="199" y="245"/>
                  </a:lnTo>
                  <a:lnTo>
                    <a:pt x="202" y="247"/>
                  </a:lnTo>
                  <a:lnTo>
                    <a:pt x="205" y="247"/>
                  </a:lnTo>
                  <a:lnTo>
                    <a:pt x="211" y="249"/>
                  </a:lnTo>
                  <a:lnTo>
                    <a:pt x="215" y="251"/>
                  </a:lnTo>
                  <a:lnTo>
                    <a:pt x="221" y="251"/>
                  </a:lnTo>
                  <a:lnTo>
                    <a:pt x="225" y="252"/>
                  </a:lnTo>
                  <a:lnTo>
                    <a:pt x="230" y="254"/>
                  </a:lnTo>
                  <a:lnTo>
                    <a:pt x="235" y="254"/>
                  </a:lnTo>
                  <a:lnTo>
                    <a:pt x="238" y="256"/>
                  </a:lnTo>
                  <a:lnTo>
                    <a:pt x="242" y="256"/>
                  </a:lnTo>
                  <a:lnTo>
                    <a:pt x="245" y="258"/>
                  </a:lnTo>
                  <a:lnTo>
                    <a:pt x="246" y="258"/>
                  </a:lnTo>
                  <a:lnTo>
                    <a:pt x="247" y="258"/>
                  </a:lnTo>
                  <a:lnTo>
                    <a:pt x="244" y="265"/>
                  </a:lnTo>
                  <a:lnTo>
                    <a:pt x="236" y="286"/>
                  </a:lnTo>
                  <a:lnTo>
                    <a:pt x="224" y="317"/>
                  </a:lnTo>
                  <a:lnTo>
                    <a:pt x="209" y="357"/>
                  </a:lnTo>
                  <a:lnTo>
                    <a:pt x="190" y="405"/>
                  </a:lnTo>
                  <a:lnTo>
                    <a:pt x="169" y="459"/>
                  </a:lnTo>
                  <a:lnTo>
                    <a:pt x="146" y="517"/>
                  </a:lnTo>
                  <a:lnTo>
                    <a:pt x="124" y="576"/>
                  </a:lnTo>
                  <a:lnTo>
                    <a:pt x="101" y="636"/>
                  </a:lnTo>
                  <a:lnTo>
                    <a:pt x="78" y="693"/>
                  </a:lnTo>
                  <a:lnTo>
                    <a:pt x="57" y="747"/>
                  </a:lnTo>
                  <a:lnTo>
                    <a:pt x="38" y="796"/>
                  </a:lnTo>
                  <a:lnTo>
                    <a:pt x="23" y="836"/>
                  </a:lnTo>
                  <a:lnTo>
                    <a:pt x="11" y="867"/>
                  </a:lnTo>
                  <a:lnTo>
                    <a:pt x="3" y="888"/>
                  </a:lnTo>
                  <a:lnTo>
                    <a:pt x="0" y="895"/>
                  </a:lnTo>
                  <a:lnTo>
                    <a:pt x="1" y="894"/>
                  </a:lnTo>
                  <a:lnTo>
                    <a:pt x="5" y="892"/>
                  </a:lnTo>
                  <a:lnTo>
                    <a:pt x="9" y="890"/>
                  </a:lnTo>
                  <a:lnTo>
                    <a:pt x="17" y="887"/>
                  </a:lnTo>
                  <a:lnTo>
                    <a:pt x="26" y="881"/>
                  </a:lnTo>
                  <a:lnTo>
                    <a:pt x="37" y="878"/>
                  </a:lnTo>
                  <a:lnTo>
                    <a:pt x="49" y="873"/>
                  </a:lnTo>
                  <a:lnTo>
                    <a:pt x="61" y="869"/>
                  </a:lnTo>
                  <a:lnTo>
                    <a:pt x="75" y="864"/>
                  </a:lnTo>
                  <a:lnTo>
                    <a:pt x="90" y="860"/>
                  </a:lnTo>
                  <a:lnTo>
                    <a:pt x="105" y="857"/>
                  </a:lnTo>
                  <a:lnTo>
                    <a:pt x="119" y="853"/>
                  </a:lnTo>
                  <a:lnTo>
                    <a:pt x="135" y="852"/>
                  </a:lnTo>
                  <a:lnTo>
                    <a:pt x="150" y="852"/>
                  </a:lnTo>
                  <a:lnTo>
                    <a:pt x="166" y="852"/>
                  </a:lnTo>
                  <a:lnTo>
                    <a:pt x="180" y="853"/>
                  </a:lnTo>
                  <a:lnTo>
                    <a:pt x="193" y="857"/>
                  </a:lnTo>
                  <a:lnTo>
                    <a:pt x="204" y="862"/>
                  </a:lnTo>
                  <a:lnTo>
                    <a:pt x="213" y="869"/>
                  </a:lnTo>
                  <a:lnTo>
                    <a:pt x="220" y="876"/>
                  </a:lnTo>
                  <a:lnTo>
                    <a:pt x="225" y="885"/>
                  </a:lnTo>
                  <a:lnTo>
                    <a:pt x="231" y="894"/>
                  </a:lnTo>
                  <a:lnTo>
                    <a:pt x="235" y="902"/>
                  </a:lnTo>
                  <a:lnTo>
                    <a:pt x="239" y="911"/>
                  </a:lnTo>
                  <a:lnTo>
                    <a:pt x="244" y="920"/>
                  </a:lnTo>
                  <a:lnTo>
                    <a:pt x="248" y="929"/>
                  </a:lnTo>
                  <a:lnTo>
                    <a:pt x="254" y="936"/>
                  </a:lnTo>
                  <a:lnTo>
                    <a:pt x="260" y="943"/>
                  </a:lnTo>
                  <a:lnTo>
                    <a:pt x="268" y="950"/>
                  </a:lnTo>
                  <a:lnTo>
                    <a:pt x="278" y="953"/>
                  </a:lnTo>
                  <a:lnTo>
                    <a:pt x="290" y="957"/>
                  </a:lnTo>
                  <a:lnTo>
                    <a:pt x="304" y="958"/>
                  </a:lnTo>
                  <a:lnTo>
                    <a:pt x="319" y="957"/>
                  </a:lnTo>
                  <a:lnTo>
                    <a:pt x="334" y="955"/>
                  </a:lnTo>
                  <a:lnTo>
                    <a:pt x="348" y="950"/>
                  </a:lnTo>
                  <a:lnTo>
                    <a:pt x="361" y="944"/>
                  </a:lnTo>
                  <a:lnTo>
                    <a:pt x="375" y="937"/>
                  </a:lnTo>
                  <a:lnTo>
                    <a:pt x="388" y="930"/>
                  </a:lnTo>
                  <a:lnTo>
                    <a:pt x="400" y="922"/>
                  </a:lnTo>
                  <a:lnTo>
                    <a:pt x="413" y="913"/>
                  </a:lnTo>
                  <a:lnTo>
                    <a:pt x="425" y="906"/>
                  </a:lnTo>
                  <a:lnTo>
                    <a:pt x="437" y="897"/>
                  </a:lnTo>
                  <a:lnTo>
                    <a:pt x="448" y="888"/>
                  </a:lnTo>
                  <a:lnTo>
                    <a:pt x="461" y="880"/>
                  </a:lnTo>
                  <a:lnTo>
                    <a:pt x="473" y="873"/>
                  </a:lnTo>
                  <a:lnTo>
                    <a:pt x="485" y="867"/>
                  </a:lnTo>
                  <a:lnTo>
                    <a:pt x="497" y="862"/>
                  </a:lnTo>
                  <a:lnTo>
                    <a:pt x="509" y="859"/>
                  </a:lnTo>
                  <a:lnTo>
                    <a:pt x="520" y="857"/>
                  </a:lnTo>
                  <a:lnTo>
                    <a:pt x="530" y="855"/>
                  </a:lnTo>
                  <a:lnTo>
                    <a:pt x="538" y="857"/>
                  </a:lnTo>
                  <a:lnTo>
                    <a:pt x="544" y="859"/>
                  </a:lnTo>
                  <a:lnTo>
                    <a:pt x="551" y="860"/>
                  </a:lnTo>
                  <a:lnTo>
                    <a:pt x="555" y="864"/>
                  </a:lnTo>
                  <a:lnTo>
                    <a:pt x="558" y="869"/>
                  </a:lnTo>
                  <a:lnTo>
                    <a:pt x="562" y="873"/>
                  </a:lnTo>
                  <a:lnTo>
                    <a:pt x="563" y="878"/>
                  </a:lnTo>
                  <a:lnTo>
                    <a:pt x="564" y="881"/>
                  </a:lnTo>
                  <a:lnTo>
                    <a:pt x="565" y="887"/>
                  </a:lnTo>
                  <a:lnTo>
                    <a:pt x="566" y="890"/>
                  </a:lnTo>
                  <a:lnTo>
                    <a:pt x="566" y="894"/>
                  </a:lnTo>
                  <a:lnTo>
                    <a:pt x="565" y="897"/>
                  </a:lnTo>
                  <a:lnTo>
                    <a:pt x="565" y="899"/>
                  </a:lnTo>
                  <a:lnTo>
                    <a:pt x="566" y="897"/>
                  </a:lnTo>
                  <a:lnTo>
                    <a:pt x="568" y="895"/>
                  </a:lnTo>
                  <a:lnTo>
                    <a:pt x="573" y="890"/>
                  </a:lnTo>
                  <a:lnTo>
                    <a:pt x="578" y="885"/>
                  </a:lnTo>
                  <a:lnTo>
                    <a:pt x="585" y="878"/>
                  </a:lnTo>
                  <a:lnTo>
                    <a:pt x="592" y="869"/>
                  </a:lnTo>
                  <a:lnTo>
                    <a:pt x="599" y="860"/>
                  </a:lnTo>
                  <a:lnTo>
                    <a:pt x="607" y="852"/>
                  </a:lnTo>
                  <a:lnTo>
                    <a:pt x="615" y="843"/>
                  </a:lnTo>
                  <a:lnTo>
                    <a:pt x="622" y="834"/>
                  </a:lnTo>
                  <a:lnTo>
                    <a:pt x="629" y="827"/>
                  </a:lnTo>
                  <a:lnTo>
                    <a:pt x="636" y="818"/>
                  </a:lnTo>
                  <a:lnTo>
                    <a:pt x="641" y="813"/>
                  </a:lnTo>
                  <a:lnTo>
                    <a:pt x="645" y="808"/>
                  </a:lnTo>
                  <a:lnTo>
                    <a:pt x="648" y="806"/>
                  </a:lnTo>
                  <a:lnTo>
                    <a:pt x="649" y="804"/>
                  </a:lnTo>
                  <a:lnTo>
                    <a:pt x="645" y="796"/>
                  </a:lnTo>
                  <a:lnTo>
                    <a:pt x="637" y="769"/>
                  </a:lnTo>
                  <a:lnTo>
                    <a:pt x="623" y="731"/>
                  </a:lnTo>
                  <a:lnTo>
                    <a:pt x="606" y="678"/>
                  </a:lnTo>
                  <a:lnTo>
                    <a:pt x="586" y="618"/>
                  </a:lnTo>
                  <a:lnTo>
                    <a:pt x="562" y="550"/>
                  </a:lnTo>
                  <a:lnTo>
                    <a:pt x="538" y="478"/>
                  </a:lnTo>
                  <a:lnTo>
                    <a:pt x="512" y="403"/>
                  </a:lnTo>
                  <a:lnTo>
                    <a:pt x="487" y="328"/>
                  </a:lnTo>
                  <a:lnTo>
                    <a:pt x="462" y="256"/>
                  </a:lnTo>
                  <a:lnTo>
                    <a:pt x="439" y="187"/>
                  </a:lnTo>
                  <a:lnTo>
                    <a:pt x="418" y="125"/>
                  </a:lnTo>
                  <a:lnTo>
                    <a:pt x="400" y="75"/>
                  </a:lnTo>
                  <a:lnTo>
                    <a:pt x="387" y="34"/>
                  </a:lnTo>
                  <a:lnTo>
                    <a:pt x="378" y="10"/>
                  </a:lnTo>
                  <a:lnTo>
                    <a:pt x="375" y="0"/>
                  </a:lnTo>
                  <a:lnTo>
                    <a:pt x="371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06600" y="3124080"/>
              <a:ext cx="168480" cy="159120"/>
            </a:xfrm>
            <a:custGeom>
              <a:avLst/>
              <a:gdLst/>
              <a:ahLst/>
              <a:rect l="0" t="0" r="r" b="b"/>
              <a:pathLst>
                <a:path w="468" h="442">
                  <a:moveTo>
                    <a:pt x="3" y="442"/>
                  </a:moveTo>
                  <a:lnTo>
                    <a:pt x="96" y="352"/>
                  </a:lnTo>
                  <a:lnTo>
                    <a:pt x="126" y="40"/>
                  </a:lnTo>
                  <a:lnTo>
                    <a:pt x="180" y="102"/>
                  </a:lnTo>
                  <a:lnTo>
                    <a:pt x="203" y="0"/>
                  </a:lnTo>
                  <a:lnTo>
                    <a:pt x="330" y="217"/>
                  </a:lnTo>
                  <a:lnTo>
                    <a:pt x="468" y="154"/>
                  </a:lnTo>
                  <a:lnTo>
                    <a:pt x="340" y="279"/>
                  </a:lnTo>
                  <a:lnTo>
                    <a:pt x="278" y="265"/>
                  </a:lnTo>
                  <a:lnTo>
                    <a:pt x="156" y="348"/>
                  </a:lnTo>
                  <a:lnTo>
                    <a:pt x="133" y="397"/>
                  </a:lnTo>
                  <a:lnTo>
                    <a:pt x="0" y="442"/>
                  </a:lnTo>
                  <a:lnTo>
                    <a:pt x="3" y="44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06600" y="3124080"/>
              <a:ext cx="168480" cy="159120"/>
            </a:xfrm>
            <a:custGeom>
              <a:avLst/>
              <a:gdLst/>
              <a:ahLst/>
              <a:rect l="0" t="0" r="r" b="b"/>
              <a:pathLst>
                <a:path fill="none" w="468" h="442">
                  <a:moveTo>
                    <a:pt x="3" y="442"/>
                  </a:moveTo>
                  <a:lnTo>
                    <a:pt x="96" y="352"/>
                  </a:lnTo>
                  <a:lnTo>
                    <a:pt x="126" y="40"/>
                  </a:lnTo>
                  <a:lnTo>
                    <a:pt x="180" y="102"/>
                  </a:lnTo>
                  <a:lnTo>
                    <a:pt x="203" y="0"/>
                  </a:lnTo>
                  <a:lnTo>
                    <a:pt x="330" y="217"/>
                  </a:lnTo>
                  <a:lnTo>
                    <a:pt x="468" y="154"/>
                  </a:lnTo>
                  <a:lnTo>
                    <a:pt x="340" y="279"/>
                  </a:lnTo>
                  <a:lnTo>
                    <a:pt x="278" y="265"/>
                  </a:lnTo>
                  <a:lnTo>
                    <a:pt x="156" y="348"/>
                  </a:lnTo>
                  <a:lnTo>
                    <a:pt x="133" y="397"/>
                  </a:lnTo>
                  <a:lnTo>
                    <a:pt x="0" y="442"/>
                  </a:lnTo>
                  <a:lnTo>
                    <a:pt x="3" y="44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38280" y="3360600"/>
              <a:ext cx="76680" cy="70200"/>
            </a:xfrm>
            <a:custGeom>
              <a:avLst/>
              <a:gdLst/>
              <a:ahLst/>
              <a:rect l="0" t="0" r="r" b="b"/>
              <a:pathLst>
                <a:path w="213" h="195">
                  <a:moveTo>
                    <a:pt x="62" y="89"/>
                  </a:moveTo>
                  <a:lnTo>
                    <a:pt x="9" y="146"/>
                  </a:lnTo>
                  <a:lnTo>
                    <a:pt x="0" y="152"/>
                  </a:lnTo>
                  <a:lnTo>
                    <a:pt x="80" y="0"/>
                  </a:lnTo>
                  <a:lnTo>
                    <a:pt x="195" y="104"/>
                  </a:lnTo>
                  <a:lnTo>
                    <a:pt x="213" y="195"/>
                  </a:lnTo>
                  <a:lnTo>
                    <a:pt x="111" y="90"/>
                  </a:lnTo>
                  <a:lnTo>
                    <a:pt x="93" y="138"/>
                  </a:lnTo>
                  <a:lnTo>
                    <a:pt x="66" y="123"/>
                  </a:lnTo>
                  <a:lnTo>
                    <a:pt x="61" y="89"/>
                  </a:lnTo>
                  <a:lnTo>
                    <a:pt x="62" y="8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38280" y="3360600"/>
              <a:ext cx="76680" cy="70200"/>
            </a:xfrm>
            <a:custGeom>
              <a:avLst/>
              <a:gdLst/>
              <a:ahLst/>
              <a:rect l="0" t="0" r="r" b="b"/>
              <a:pathLst>
                <a:path fill="none" w="213" h="195">
                  <a:moveTo>
                    <a:pt x="62" y="89"/>
                  </a:moveTo>
                  <a:lnTo>
                    <a:pt x="9" y="146"/>
                  </a:lnTo>
                  <a:lnTo>
                    <a:pt x="0" y="152"/>
                  </a:lnTo>
                  <a:lnTo>
                    <a:pt x="80" y="0"/>
                  </a:lnTo>
                  <a:lnTo>
                    <a:pt x="195" y="104"/>
                  </a:lnTo>
                  <a:lnTo>
                    <a:pt x="213" y="195"/>
                  </a:lnTo>
                  <a:lnTo>
                    <a:pt x="111" y="90"/>
                  </a:lnTo>
                  <a:lnTo>
                    <a:pt x="93" y="138"/>
                  </a:lnTo>
                  <a:lnTo>
                    <a:pt x="66" y="123"/>
                  </a:lnTo>
                  <a:lnTo>
                    <a:pt x="61" y="89"/>
                  </a:lnTo>
                  <a:lnTo>
                    <a:pt x="62" y="8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76360" y="3319560"/>
              <a:ext cx="109800" cy="111600"/>
            </a:xfrm>
            <a:custGeom>
              <a:avLst/>
              <a:gdLst/>
              <a:ahLst/>
              <a:rect l="0" t="0" r="r" b="b"/>
              <a:pathLst>
                <a:path w="305" h="310">
                  <a:moveTo>
                    <a:pt x="0" y="23"/>
                  </a:moveTo>
                  <a:lnTo>
                    <a:pt x="26" y="0"/>
                  </a:lnTo>
                  <a:lnTo>
                    <a:pt x="133" y="255"/>
                  </a:lnTo>
                  <a:lnTo>
                    <a:pt x="305" y="255"/>
                  </a:lnTo>
                  <a:lnTo>
                    <a:pt x="305" y="310"/>
                  </a:lnTo>
                  <a:lnTo>
                    <a:pt x="30" y="310"/>
                  </a:lnTo>
                  <a:lnTo>
                    <a:pt x="28" y="255"/>
                  </a:lnTo>
                  <a:lnTo>
                    <a:pt x="97" y="255"/>
                  </a:lnTo>
                  <a:lnTo>
                    <a:pt x="0" y="3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6360" y="3319560"/>
              <a:ext cx="109800" cy="111600"/>
            </a:xfrm>
            <a:custGeom>
              <a:avLst/>
              <a:gdLst/>
              <a:ahLst/>
              <a:rect l="0" t="0" r="r" b="b"/>
              <a:pathLst>
                <a:path fill="none" w="305" h="310">
                  <a:moveTo>
                    <a:pt x="0" y="23"/>
                  </a:moveTo>
                  <a:lnTo>
                    <a:pt x="26" y="0"/>
                  </a:lnTo>
                  <a:lnTo>
                    <a:pt x="133" y="255"/>
                  </a:lnTo>
                  <a:lnTo>
                    <a:pt x="305" y="255"/>
                  </a:lnTo>
                  <a:lnTo>
                    <a:pt x="305" y="310"/>
                  </a:lnTo>
                  <a:lnTo>
                    <a:pt x="30" y="310"/>
                  </a:lnTo>
                  <a:lnTo>
                    <a:pt x="28" y="255"/>
                  </a:lnTo>
                  <a:lnTo>
                    <a:pt x="97" y="255"/>
                  </a:lnTo>
                  <a:lnTo>
                    <a:pt x="0" y="30"/>
                  </a:lnTo>
                  <a:lnTo>
                    <a:pt x="0" y="2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557280" y="4648320"/>
            <a:ext cx="252720" cy="454320"/>
            <a:chOff x="557280" y="4648320"/>
            <a:chExt cx="252720" cy="454320"/>
          </a:xfrm>
        </p:grpSpPr>
        <p:sp>
          <p:nvSpPr>
            <p:cNvPr id="261" name=""/>
            <p:cNvSpPr/>
            <p:nvPr/>
          </p:nvSpPr>
          <p:spPr>
            <a:xfrm>
              <a:off x="636480" y="4776840"/>
              <a:ext cx="28800" cy="44640"/>
            </a:xfrm>
            <a:custGeom>
              <a:avLst/>
              <a:gdLst/>
              <a:ahLst/>
              <a:rect l="0" t="0" r="r" b="b"/>
              <a:pathLst>
                <a:path w="80" h="124">
                  <a:moveTo>
                    <a:pt x="0" y="56"/>
                  </a:moveTo>
                  <a:lnTo>
                    <a:pt x="13" y="61"/>
                  </a:lnTo>
                  <a:lnTo>
                    <a:pt x="19" y="79"/>
                  </a:lnTo>
                  <a:lnTo>
                    <a:pt x="16" y="124"/>
                  </a:lnTo>
                  <a:lnTo>
                    <a:pt x="26" y="88"/>
                  </a:lnTo>
                  <a:lnTo>
                    <a:pt x="36" y="48"/>
                  </a:lnTo>
                  <a:lnTo>
                    <a:pt x="60" y="48"/>
                  </a:lnTo>
                  <a:lnTo>
                    <a:pt x="80" y="0"/>
                  </a:lnTo>
                  <a:lnTo>
                    <a:pt x="51" y="0"/>
                  </a:lnTo>
                  <a:lnTo>
                    <a:pt x="0" y="53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36480" y="4776840"/>
              <a:ext cx="28800" cy="44640"/>
            </a:xfrm>
            <a:custGeom>
              <a:avLst/>
              <a:gdLst/>
              <a:ahLst/>
              <a:rect l="0" t="0" r="r" b="b"/>
              <a:pathLst>
                <a:path fill="none" w="80" h="124">
                  <a:moveTo>
                    <a:pt x="0" y="56"/>
                  </a:moveTo>
                  <a:lnTo>
                    <a:pt x="13" y="61"/>
                  </a:lnTo>
                  <a:lnTo>
                    <a:pt x="19" y="79"/>
                  </a:lnTo>
                  <a:lnTo>
                    <a:pt x="16" y="124"/>
                  </a:lnTo>
                  <a:lnTo>
                    <a:pt x="26" y="88"/>
                  </a:lnTo>
                  <a:lnTo>
                    <a:pt x="36" y="48"/>
                  </a:lnTo>
                  <a:lnTo>
                    <a:pt x="60" y="48"/>
                  </a:lnTo>
                  <a:lnTo>
                    <a:pt x="80" y="0"/>
                  </a:lnTo>
                  <a:lnTo>
                    <a:pt x="51" y="0"/>
                  </a:lnTo>
                  <a:lnTo>
                    <a:pt x="0" y="53"/>
                  </a:lnTo>
                  <a:lnTo>
                    <a:pt x="0" y="5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76360" y="4757760"/>
              <a:ext cx="233640" cy="344880"/>
            </a:xfrm>
            <a:custGeom>
              <a:avLst/>
              <a:gdLst/>
              <a:ahLst/>
              <a:rect l="0" t="0" r="r" b="b"/>
              <a:pathLst>
                <a:path w="649" h="958">
                  <a:moveTo>
                    <a:pt x="371" y="0"/>
                  </a:moveTo>
                  <a:lnTo>
                    <a:pt x="369" y="3"/>
                  </a:lnTo>
                  <a:lnTo>
                    <a:pt x="364" y="10"/>
                  </a:lnTo>
                  <a:lnTo>
                    <a:pt x="355" y="22"/>
                  </a:lnTo>
                  <a:lnTo>
                    <a:pt x="344" y="38"/>
                  </a:lnTo>
                  <a:lnTo>
                    <a:pt x="331" y="57"/>
                  </a:lnTo>
                  <a:lnTo>
                    <a:pt x="314" y="76"/>
                  </a:lnTo>
                  <a:lnTo>
                    <a:pt x="299" y="99"/>
                  </a:lnTo>
                  <a:lnTo>
                    <a:pt x="282" y="122"/>
                  </a:lnTo>
                  <a:lnTo>
                    <a:pt x="266" y="145"/>
                  </a:lnTo>
                  <a:lnTo>
                    <a:pt x="249" y="166"/>
                  </a:lnTo>
                  <a:lnTo>
                    <a:pt x="235" y="187"/>
                  </a:lnTo>
                  <a:lnTo>
                    <a:pt x="222" y="206"/>
                  </a:lnTo>
                  <a:lnTo>
                    <a:pt x="210" y="222"/>
                  </a:lnTo>
                  <a:lnTo>
                    <a:pt x="201" y="232"/>
                  </a:lnTo>
                  <a:lnTo>
                    <a:pt x="195" y="242"/>
                  </a:lnTo>
                  <a:lnTo>
                    <a:pt x="193" y="244"/>
                  </a:lnTo>
                  <a:lnTo>
                    <a:pt x="194" y="244"/>
                  </a:lnTo>
                  <a:lnTo>
                    <a:pt x="195" y="245"/>
                  </a:lnTo>
                  <a:lnTo>
                    <a:pt x="199" y="245"/>
                  </a:lnTo>
                  <a:lnTo>
                    <a:pt x="202" y="247"/>
                  </a:lnTo>
                  <a:lnTo>
                    <a:pt x="205" y="247"/>
                  </a:lnTo>
                  <a:lnTo>
                    <a:pt x="211" y="249"/>
                  </a:lnTo>
                  <a:lnTo>
                    <a:pt x="215" y="251"/>
                  </a:lnTo>
                  <a:lnTo>
                    <a:pt x="221" y="251"/>
                  </a:lnTo>
                  <a:lnTo>
                    <a:pt x="225" y="252"/>
                  </a:lnTo>
                  <a:lnTo>
                    <a:pt x="230" y="254"/>
                  </a:lnTo>
                  <a:lnTo>
                    <a:pt x="235" y="254"/>
                  </a:lnTo>
                  <a:lnTo>
                    <a:pt x="238" y="256"/>
                  </a:lnTo>
                  <a:lnTo>
                    <a:pt x="242" y="256"/>
                  </a:lnTo>
                  <a:lnTo>
                    <a:pt x="245" y="258"/>
                  </a:lnTo>
                  <a:lnTo>
                    <a:pt x="246" y="258"/>
                  </a:lnTo>
                  <a:lnTo>
                    <a:pt x="247" y="258"/>
                  </a:lnTo>
                  <a:lnTo>
                    <a:pt x="244" y="265"/>
                  </a:lnTo>
                  <a:lnTo>
                    <a:pt x="236" y="286"/>
                  </a:lnTo>
                  <a:lnTo>
                    <a:pt x="224" y="317"/>
                  </a:lnTo>
                  <a:lnTo>
                    <a:pt x="209" y="357"/>
                  </a:lnTo>
                  <a:lnTo>
                    <a:pt x="190" y="405"/>
                  </a:lnTo>
                  <a:lnTo>
                    <a:pt x="169" y="459"/>
                  </a:lnTo>
                  <a:lnTo>
                    <a:pt x="146" y="517"/>
                  </a:lnTo>
                  <a:lnTo>
                    <a:pt x="124" y="576"/>
                  </a:lnTo>
                  <a:lnTo>
                    <a:pt x="101" y="636"/>
                  </a:lnTo>
                  <a:lnTo>
                    <a:pt x="78" y="693"/>
                  </a:lnTo>
                  <a:lnTo>
                    <a:pt x="57" y="747"/>
                  </a:lnTo>
                  <a:lnTo>
                    <a:pt x="38" y="796"/>
                  </a:lnTo>
                  <a:lnTo>
                    <a:pt x="23" y="836"/>
                  </a:lnTo>
                  <a:lnTo>
                    <a:pt x="11" y="867"/>
                  </a:lnTo>
                  <a:lnTo>
                    <a:pt x="3" y="888"/>
                  </a:lnTo>
                  <a:lnTo>
                    <a:pt x="0" y="895"/>
                  </a:lnTo>
                  <a:lnTo>
                    <a:pt x="1" y="894"/>
                  </a:lnTo>
                  <a:lnTo>
                    <a:pt x="5" y="892"/>
                  </a:lnTo>
                  <a:lnTo>
                    <a:pt x="9" y="890"/>
                  </a:lnTo>
                  <a:lnTo>
                    <a:pt x="17" y="887"/>
                  </a:lnTo>
                  <a:lnTo>
                    <a:pt x="26" y="881"/>
                  </a:lnTo>
                  <a:lnTo>
                    <a:pt x="37" y="878"/>
                  </a:lnTo>
                  <a:lnTo>
                    <a:pt x="49" y="873"/>
                  </a:lnTo>
                  <a:lnTo>
                    <a:pt x="61" y="869"/>
                  </a:lnTo>
                  <a:lnTo>
                    <a:pt x="75" y="864"/>
                  </a:lnTo>
                  <a:lnTo>
                    <a:pt x="90" y="860"/>
                  </a:lnTo>
                  <a:lnTo>
                    <a:pt x="105" y="857"/>
                  </a:lnTo>
                  <a:lnTo>
                    <a:pt x="119" y="853"/>
                  </a:lnTo>
                  <a:lnTo>
                    <a:pt x="135" y="852"/>
                  </a:lnTo>
                  <a:lnTo>
                    <a:pt x="150" y="852"/>
                  </a:lnTo>
                  <a:lnTo>
                    <a:pt x="166" y="852"/>
                  </a:lnTo>
                  <a:lnTo>
                    <a:pt x="180" y="853"/>
                  </a:lnTo>
                  <a:lnTo>
                    <a:pt x="193" y="857"/>
                  </a:lnTo>
                  <a:lnTo>
                    <a:pt x="204" y="862"/>
                  </a:lnTo>
                  <a:lnTo>
                    <a:pt x="213" y="869"/>
                  </a:lnTo>
                  <a:lnTo>
                    <a:pt x="220" y="876"/>
                  </a:lnTo>
                  <a:lnTo>
                    <a:pt x="225" y="885"/>
                  </a:lnTo>
                  <a:lnTo>
                    <a:pt x="231" y="894"/>
                  </a:lnTo>
                  <a:lnTo>
                    <a:pt x="235" y="902"/>
                  </a:lnTo>
                  <a:lnTo>
                    <a:pt x="239" y="911"/>
                  </a:lnTo>
                  <a:lnTo>
                    <a:pt x="244" y="920"/>
                  </a:lnTo>
                  <a:lnTo>
                    <a:pt x="248" y="929"/>
                  </a:lnTo>
                  <a:lnTo>
                    <a:pt x="254" y="936"/>
                  </a:lnTo>
                  <a:lnTo>
                    <a:pt x="260" y="943"/>
                  </a:lnTo>
                  <a:lnTo>
                    <a:pt x="268" y="950"/>
                  </a:lnTo>
                  <a:lnTo>
                    <a:pt x="278" y="953"/>
                  </a:lnTo>
                  <a:lnTo>
                    <a:pt x="290" y="957"/>
                  </a:lnTo>
                  <a:lnTo>
                    <a:pt x="304" y="958"/>
                  </a:lnTo>
                  <a:lnTo>
                    <a:pt x="319" y="957"/>
                  </a:lnTo>
                  <a:lnTo>
                    <a:pt x="334" y="955"/>
                  </a:lnTo>
                  <a:lnTo>
                    <a:pt x="348" y="950"/>
                  </a:lnTo>
                  <a:lnTo>
                    <a:pt x="361" y="944"/>
                  </a:lnTo>
                  <a:lnTo>
                    <a:pt x="375" y="937"/>
                  </a:lnTo>
                  <a:lnTo>
                    <a:pt x="388" y="930"/>
                  </a:lnTo>
                  <a:lnTo>
                    <a:pt x="400" y="922"/>
                  </a:lnTo>
                  <a:lnTo>
                    <a:pt x="413" y="913"/>
                  </a:lnTo>
                  <a:lnTo>
                    <a:pt x="425" y="906"/>
                  </a:lnTo>
                  <a:lnTo>
                    <a:pt x="437" y="897"/>
                  </a:lnTo>
                  <a:lnTo>
                    <a:pt x="448" y="888"/>
                  </a:lnTo>
                  <a:lnTo>
                    <a:pt x="461" y="880"/>
                  </a:lnTo>
                  <a:lnTo>
                    <a:pt x="473" y="873"/>
                  </a:lnTo>
                  <a:lnTo>
                    <a:pt x="485" y="867"/>
                  </a:lnTo>
                  <a:lnTo>
                    <a:pt x="497" y="862"/>
                  </a:lnTo>
                  <a:lnTo>
                    <a:pt x="509" y="859"/>
                  </a:lnTo>
                  <a:lnTo>
                    <a:pt x="520" y="857"/>
                  </a:lnTo>
                  <a:lnTo>
                    <a:pt x="530" y="855"/>
                  </a:lnTo>
                  <a:lnTo>
                    <a:pt x="538" y="857"/>
                  </a:lnTo>
                  <a:lnTo>
                    <a:pt x="544" y="859"/>
                  </a:lnTo>
                  <a:lnTo>
                    <a:pt x="551" y="860"/>
                  </a:lnTo>
                  <a:lnTo>
                    <a:pt x="555" y="864"/>
                  </a:lnTo>
                  <a:lnTo>
                    <a:pt x="558" y="869"/>
                  </a:lnTo>
                  <a:lnTo>
                    <a:pt x="562" y="873"/>
                  </a:lnTo>
                  <a:lnTo>
                    <a:pt x="563" y="878"/>
                  </a:lnTo>
                  <a:lnTo>
                    <a:pt x="564" y="881"/>
                  </a:lnTo>
                  <a:lnTo>
                    <a:pt x="565" y="887"/>
                  </a:lnTo>
                  <a:lnTo>
                    <a:pt x="566" y="890"/>
                  </a:lnTo>
                  <a:lnTo>
                    <a:pt x="566" y="894"/>
                  </a:lnTo>
                  <a:lnTo>
                    <a:pt x="565" y="897"/>
                  </a:lnTo>
                  <a:lnTo>
                    <a:pt x="565" y="899"/>
                  </a:lnTo>
                  <a:lnTo>
                    <a:pt x="566" y="897"/>
                  </a:lnTo>
                  <a:lnTo>
                    <a:pt x="568" y="895"/>
                  </a:lnTo>
                  <a:lnTo>
                    <a:pt x="573" y="890"/>
                  </a:lnTo>
                  <a:lnTo>
                    <a:pt x="578" y="885"/>
                  </a:lnTo>
                  <a:lnTo>
                    <a:pt x="585" y="878"/>
                  </a:lnTo>
                  <a:lnTo>
                    <a:pt x="592" y="869"/>
                  </a:lnTo>
                  <a:lnTo>
                    <a:pt x="599" y="860"/>
                  </a:lnTo>
                  <a:lnTo>
                    <a:pt x="607" y="852"/>
                  </a:lnTo>
                  <a:lnTo>
                    <a:pt x="615" y="843"/>
                  </a:lnTo>
                  <a:lnTo>
                    <a:pt x="622" y="834"/>
                  </a:lnTo>
                  <a:lnTo>
                    <a:pt x="629" y="827"/>
                  </a:lnTo>
                  <a:lnTo>
                    <a:pt x="636" y="818"/>
                  </a:lnTo>
                  <a:lnTo>
                    <a:pt x="641" y="813"/>
                  </a:lnTo>
                  <a:lnTo>
                    <a:pt x="645" y="808"/>
                  </a:lnTo>
                  <a:lnTo>
                    <a:pt x="648" y="806"/>
                  </a:lnTo>
                  <a:lnTo>
                    <a:pt x="649" y="804"/>
                  </a:lnTo>
                  <a:lnTo>
                    <a:pt x="645" y="796"/>
                  </a:lnTo>
                  <a:lnTo>
                    <a:pt x="637" y="769"/>
                  </a:lnTo>
                  <a:lnTo>
                    <a:pt x="623" y="731"/>
                  </a:lnTo>
                  <a:lnTo>
                    <a:pt x="606" y="678"/>
                  </a:lnTo>
                  <a:lnTo>
                    <a:pt x="586" y="618"/>
                  </a:lnTo>
                  <a:lnTo>
                    <a:pt x="562" y="550"/>
                  </a:lnTo>
                  <a:lnTo>
                    <a:pt x="538" y="478"/>
                  </a:lnTo>
                  <a:lnTo>
                    <a:pt x="512" y="403"/>
                  </a:lnTo>
                  <a:lnTo>
                    <a:pt x="487" y="328"/>
                  </a:lnTo>
                  <a:lnTo>
                    <a:pt x="462" y="256"/>
                  </a:lnTo>
                  <a:lnTo>
                    <a:pt x="439" y="187"/>
                  </a:lnTo>
                  <a:lnTo>
                    <a:pt x="418" y="125"/>
                  </a:lnTo>
                  <a:lnTo>
                    <a:pt x="400" y="75"/>
                  </a:lnTo>
                  <a:lnTo>
                    <a:pt x="387" y="34"/>
                  </a:lnTo>
                  <a:lnTo>
                    <a:pt x="378" y="10"/>
                  </a:lnTo>
                  <a:lnTo>
                    <a:pt x="375" y="0"/>
                  </a:lnTo>
                  <a:lnTo>
                    <a:pt x="37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76360" y="4757760"/>
              <a:ext cx="233640" cy="344880"/>
            </a:xfrm>
            <a:custGeom>
              <a:avLst/>
              <a:gdLst/>
              <a:ahLst/>
              <a:rect l="0" t="0" r="r" b="b"/>
              <a:pathLst>
                <a:path fill="none" w="649" h="958">
                  <a:moveTo>
                    <a:pt x="371" y="0"/>
                  </a:moveTo>
                  <a:lnTo>
                    <a:pt x="369" y="3"/>
                  </a:lnTo>
                  <a:lnTo>
                    <a:pt x="364" y="10"/>
                  </a:lnTo>
                  <a:lnTo>
                    <a:pt x="355" y="22"/>
                  </a:lnTo>
                  <a:lnTo>
                    <a:pt x="344" y="38"/>
                  </a:lnTo>
                  <a:lnTo>
                    <a:pt x="331" y="57"/>
                  </a:lnTo>
                  <a:lnTo>
                    <a:pt x="314" y="76"/>
                  </a:lnTo>
                  <a:lnTo>
                    <a:pt x="299" y="99"/>
                  </a:lnTo>
                  <a:lnTo>
                    <a:pt x="282" y="122"/>
                  </a:lnTo>
                  <a:lnTo>
                    <a:pt x="266" y="145"/>
                  </a:lnTo>
                  <a:lnTo>
                    <a:pt x="249" y="166"/>
                  </a:lnTo>
                  <a:lnTo>
                    <a:pt x="235" y="187"/>
                  </a:lnTo>
                  <a:lnTo>
                    <a:pt x="222" y="206"/>
                  </a:lnTo>
                  <a:lnTo>
                    <a:pt x="210" y="222"/>
                  </a:lnTo>
                  <a:lnTo>
                    <a:pt x="201" y="232"/>
                  </a:lnTo>
                  <a:lnTo>
                    <a:pt x="195" y="242"/>
                  </a:lnTo>
                  <a:lnTo>
                    <a:pt x="193" y="244"/>
                  </a:lnTo>
                  <a:lnTo>
                    <a:pt x="194" y="244"/>
                  </a:lnTo>
                  <a:lnTo>
                    <a:pt x="195" y="245"/>
                  </a:lnTo>
                  <a:lnTo>
                    <a:pt x="199" y="245"/>
                  </a:lnTo>
                  <a:lnTo>
                    <a:pt x="202" y="247"/>
                  </a:lnTo>
                  <a:lnTo>
                    <a:pt x="205" y="247"/>
                  </a:lnTo>
                  <a:lnTo>
                    <a:pt x="211" y="249"/>
                  </a:lnTo>
                  <a:lnTo>
                    <a:pt x="215" y="251"/>
                  </a:lnTo>
                  <a:lnTo>
                    <a:pt x="221" y="251"/>
                  </a:lnTo>
                  <a:lnTo>
                    <a:pt x="225" y="252"/>
                  </a:lnTo>
                  <a:lnTo>
                    <a:pt x="230" y="254"/>
                  </a:lnTo>
                  <a:lnTo>
                    <a:pt x="235" y="254"/>
                  </a:lnTo>
                  <a:lnTo>
                    <a:pt x="238" y="256"/>
                  </a:lnTo>
                  <a:lnTo>
                    <a:pt x="242" y="256"/>
                  </a:lnTo>
                  <a:lnTo>
                    <a:pt x="245" y="258"/>
                  </a:lnTo>
                  <a:lnTo>
                    <a:pt x="246" y="258"/>
                  </a:lnTo>
                  <a:lnTo>
                    <a:pt x="247" y="258"/>
                  </a:lnTo>
                  <a:lnTo>
                    <a:pt x="244" y="265"/>
                  </a:lnTo>
                  <a:lnTo>
                    <a:pt x="236" y="286"/>
                  </a:lnTo>
                  <a:lnTo>
                    <a:pt x="224" y="317"/>
                  </a:lnTo>
                  <a:lnTo>
                    <a:pt x="209" y="357"/>
                  </a:lnTo>
                  <a:lnTo>
                    <a:pt x="190" y="405"/>
                  </a:lnTo>
                  <a:lnTo>
                    <a:pt x="169" y="459"/>
                  </a:lnTo>
                  <a:lnTo>
                    <a:pt x="146" y="517"/>
                  </a:lnTo>
                  <a:lnTo>
                    <a:pt x="124" y="576"/>
                  </a:lnTo>
                  <a:lnTo>
                    <a:pt x="101" y="636"/>
                  </a:lnTo>
                  <a:lnTo>
                    <a:pt x="78" y="693"/>
                  </a:lnTo>
                  <a:lnTo>
                    <a:pt x="57" y="747"/>
                  </a:lnTo>
                  <a:lnTo>
                    <a:pt x="38" y="796"/>
                  </a:lnTo>
                  <a:lnTo>
                    <a:pt x="23" y="836"/>
                  </a:lnTo>
                  <a:lnTo>
                    <a:pt x="11" y="867"/>
                  </a:lnTo>
                  <a:lnTo>
                    <a:pt x="3" y="888"/>
                  </a:lnTo>
                  <a:lnTo>
                    <a:pt x="0" y="895"/>
                  </a:lnTo>
                  <a:lnTo>
                    <a:pt x="1" y="894"/>
                  </a:lnTo>
                  <a:lnTo>
                    <a:pt x="5" y="892"/>
                  </a:lnTo>
                  <a:lnTo>
                    <a:pt x="9" y="890"/>
                  </a:lnTo>
                  <a:lnTo>
                    <a:pt x="17" y="887"/>
                  </a:lnTo>
                  <a:lnTo>
                    <a:pt x="26" y="881"/>
                  </a:lnTo>
                  <a:lnTo>
                    <a:pt x="37" y="878"/>
                  </a:lnTo>
                  <a:lnTo>
                    <a:pt x="49" y="873"/>
                  </a:lnTo>
                  <a:lnTo>
                    <a:pt x="61" y="869"/>
                  </a:lnTo>
                  <a:lnTo>
                    <a:pt x="75" y="864"/>
                  </a:lnTo>
                  <a:lnTo>
                    <a:pt x="90" y="860"/>
                  </a:lnTo>
                  <a:lnTo>
                    <a:pt x="105" y="857"/>
                  </a:lnTo>
                  <a:lnTo>
                    <a:pt x="119" y="853"/>
                  </a:lnTo>
                  <a:lnTo>
                    <a:pt x="135" y="852"/>
                  </a:lnTo>
                  <a:lnTo>
                    <a:pt x="150" y="852"/>
                  </a:lnTo>
                  <a:lnTo>
                    <a:pt x="166" y="852"/>
                  </a:lnTo>
                  <a:lnTo>
                    <a:pt x="180" y="853"/>
                  </a:lnTo>
                  <a:lnTo>
                    <a:pt x="193" y="857"/>
                  </a:lnTo>
                  <a:lnTo>
                    <a:pt x="204" y="862"/>
                  </a:lnTo>
                  <a:lnTo>
                    <a:pt x="213" y="869"/>
                  </a:lnTo>
                  <a:lnTo>
                    <a:pt x="220" y="876"/>
                  </a:lnTo>
                  <a:lnTo>
                    <a:pt x="225" y="885"/>
                  </a:lnTo>
                  <a:lnTo>
                    <a:pt x="231" y="894"/>
                  </a:lnTo>
                  <a:lnTo>
                    <a:pt x="235" y="902"/>
                  </a:lnTo>
                  <a:lnTo>
                    <a:pt x="239" y="911"/>
                  </a:lnTo>
                  <a:lnTo>
                    <a:pt x="244" y="920"/>
                  </a:lnTo>
                  <a:lnTo>
                    <a:pt x="248" y="929"/>
                  </a:lnTo>
                  <a:lnTo>
                    <a:pt x="254" y="936"/>
                  </a:lnTo>
                  <a:lnTo>
                    <a:pt x="260" y="943"/>
                  </a:lnTo>
                  <a:lnTo>
                    <a:pt x="268" y="950"/>
                  </a:lnTo>
                  <a:lnTo>
                    <a:pt x="278" y="953"/>
                  </a:lnTo>
                  <a:lnTo>
                    <a:pt x="290" y="957"/>
                  </a:lnTo>
                  <a:lnTo>
                    <a:pt x="304" y="958"/>
                  </a:lnTo>
                  <a:lnTo>
                    <a:pt x="319" y="957"/>
                  </a:lnTo>
                  <a:lnTo>
                    <a:pt x="334" y="955"/>
                  </a:lnTo>
                  <a:lnTo>
                    <a:pt x="348" y="950"/>
                  </a:lnTo>
                  <a:lnTo>
                    <a:pt x="361" y="944"/>
                  </a:lnTo>
                  <a:lnTo>
                    <a:pt x="375" y="937"/>
                  </a:lnTo>
                  <a:lnTo>
                    <a:pt x="388" y="930"/>
                  </a:lnTo>
                  <a:lnTo>
                    <a:pt x="400" y="922"/>
                  </a:lnTo>
                  <a:lnTo>
                    <a:pt x="413" y="913"/>
                  </a:lnTo>
                  <a:lnTo>
                    <a:pt x="425" y="906"/>
                  </a:lnTo>
                  <a:lnTo>
                    <a:pt x="437" y="897"/>
                  </a:lnTo>
                  <a:lnTo>
                    <a:pt x="448" y="888"/>
                  </a:lnTo>
                  <a:lnTo>
                    <a:pt x="461" y="880"/>
                  </a:lnTo>
                  <a:lnTo>
                    <a:pt x="473" y="873"/>
                  </a:lnTo>
                  <a:lnTo>
                    <a:pt x="485" y="867"/>
                  </a:lnTo>
                  <a:lnTo>
                    <a:pt x="497" y="862"/>
                  </a:lnTo>
                  <a:lnTo>
                    <a:pt x="509" y="859"/>
                  </a:lnTo>
                  <a:lnTo>
                    <a:pt x="520" y="857"/>
                  </a:lnTo>
                  <a:lnTo>
                    <a:pt x="530" y="855"/>
                  </a:lnTo>
                  <a:lnTo>
                    <a:pt x="538" y="857"/>
                  </a:lnTo>
                  <a:lnTo>
                    <a:pt x="544" y="859"/>
                  </a:lnTo>
                  <a:lnTo>
                    <a:pt x="551" y="860"/>
                  </a:lnTo>
                  <a:lnTo>
                    <a:pt x="555" y="864"/>
                  </a:lnTo>
                  <a:lnTo>
                    <a:pt x="558" y="869"/>
                  </a:lnTo>
                  <a:lnTo>
                    <a:pt x="562" y="873"/>
                  </a:lnTo>
                  <a:lnTo>
                    <a:pt x="563" y="878"/>
                  </a:lnTo>
                  <a:lnTo>
                    <a:pt x="564" y="881"/>
                  </a:lnTo>
                  <a:lnTo>
                    <a:pt x="565" y="887"/>
                  </a:lnTo>
                  <a:lnTo>
                    <a:pt x="566" y="890"/>
                  </a:lnTo>
                  <a:lnTo>
                    <a:pt x="566" y="894"/>
                  </a:lnTo>
                  <a:lnTo>
                    <a:pt x="565" y="897"/>
                  </a:lnTo>
                  <a:lnTo>
                    <a:pt x="565" y="899"/>
                  </a:lnTo>
                  <a:lnTo>
                    <a:pt x="566" y="897"/>
                  </a:lnTo>
                  <a:lnTo>
                    <a:pt x="568" y="895"/>
                  </a:lnTo>
                  <a:lnTo>
                    <a:pt x="573" y="890"/>
                  </a:lnTo>
                  <a:lnTo>
                    <a:pt x="578" y="885"/>
                  </a:lnTo>
                  <a:lnTo>
                    <a:pt x="585" y="878"/>
                  </a:lnTo>
                  <a:lnTo>
                    <a:pt x="592" y="869"/>
                  </a:lnTo>
                  <a:lnTo>
                    <a:pt x="599" y="860"/>
                  </a:lnTo>
                  <a:lnTo>
                    <a:pt x="607" y="852"/>
                  </a:lnTo>
                  <a:lnTo>
                    <a:pt x="615" y="843"/>
                  </a:lnTo>
                  <a:lnTo>
                    <a:pt x="622" y="834"/>
                  </a:lnTo>
                  <a:lnTo>
                    <a:pt x="629" y="827"/>
                  </a:lnTo>
                  <a:lnTo>
                    <a:pt x="636" y="818"/>
                  </a:lnTo>
                  <a:lnTo>
                    <a:pt x="641" y="813"/>
                  </a:lnTo>
                  <a:lnTo>
                    <a:pt x="645" y="808"/>
                  </a:lnTo>
                  <a:lnTo>
                    <a:pt x="648" y="806"/>
                  </a:lnTo>
                  <a:lnTo>
                    <a:pt x="649" y="804"/>
                  </a:lnTo>
                  <a:lnTo>
                    <a:pt x="645" y="796"/>
                  </a:lnTo>
                  <a:lnTo>
                    <a:pt x="637" y="769"/>
                  </a:lnTo>
                  <a:lnTo>
                    <a:pt x="623" y="731"/>
                  </a:lnTo>
                  <a:lnTo>
                    <a:pt x="606" y="678"/>
                  </a:lnTo>
                  <a:lnTo>
                    <a:pt x="586" y="618"/>
                  </a:lnTo>
                  <a:lnTo>
                    <a:pt x="562" y="550"/>
                  </a:lnTo>
                  <a:lnTo>
                    <a:pt x="538" y="478"/>
                  </a:lnTo>
                  <a:lnTo>
                    <a:pt x="512" y="403"/>
                  </a:lnTo>
                  <a:lnTo>
                    <a:pt x="487" y="328"/>
                  </a:lnTo>
                  <a:lnTo>
                    <a:pt x="462" y="256"/>
                  </a:lnTo>
                  <a:lnTo>
                    <a:pt x="439" y="187"/>
                  </a:lnTo>
                  <a:lnTo>
                    <a:pt x="418" y="125"/>
                  </a:lnTo>
                  <a:lnTo>
                    <a:pt x="400" y="75"/>
                  </a:lnTo>
                  <a:lnTo>
                    <a:pt x="387" y="34"/>
                  </a:lnTo>
                  <a:lnTo>
                    <a:pt x="378" y="10"/>
                  </a:lnTo>
                  <a:lnTo>
                    <a:pt x="375" y="0"/>
                  </a:lnTo>
                  <a:lnTo>
                    <a:pt x="371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87520" y="4648320"/>
              <a:ext cx="168480" cy="159120"/>
            </a:xfrm>
            <a:custGeom>
              <a:avLst/>
              <a:gdLst/>
              <a:ahLst/>
              <a:rect l="0" t="0" r="r" b="b"/>
              <a:pathLst>
                <a:path w="468" h="442">
                  <a:moveTo>
                    <a:pt x="3" y="442"/>
                  </a:moveTo>
                  <a:lnTo>
                    <a:pt x="96" y="352"/>
                  </a:lnTo>
                  <a:lnTo>
                    <a:pt x="126" y="40"/>
                  </a:lnTo>
                  <a:lnTo>
                    <a:pt x="180" y="102"/>
                  </a:lnTo>
                  <a:lnTo>
                    <a:pt x="203" y="0"/>
                  </a:lnTo>
                  <a:lnTo>
                    <a:pt x="330" y="217"/>
                  </a:lnTo>
                  <a:lnTo>
                    <a:pt x="468" y="154"/>
                  </a:lnTo>
                  <a:lnTo>
                    <a:pt x="340" y="279"/>
                  </a:lnTo>
                  <a:lnTo>
                    <a:pt x="278" y="265"/>
                  </a:lnTo>
                  <a:lnTo>
                    <a:pt x="156" y="348"/>
                  </a:lnTo>
                  <a:lnTo>
                    <a:pt x="133" y="397"/>
                  </a:lnTo>
                  <a:lnTo>
                    <a:pt x="0" y="442"/>
                  </a:lnTo>
                  <a:lnTo>
                    <a:pt x="3" y="44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87520" y="4648320"/>
              <a:ext cx="168480" cy="159120"/>
            </a:xfrm>
            <a:custGeom>
              <a:avLst/>
              <a:gdLst/>
              <a:ahLst/>
              <a:rect l="0" t="0" r="r" b="b"/>
              <a:pathLst>
                <a:path fill="none" w="468" h="442">
                  <a:moveTo>
                    <a:pt x="3" y="442"/>
                  </a:moveTo>
                  <a:lnTo>
                    <a:pt x="96" y="352"/>
                  </a:lnTo>
                  <a:lnTo>
                    <a:pt x="126" y="40"/>
                  </a:lnTo>
                  <a:lnTo>
                    <a:pt x="180" y="102"/>
                  </a:lnTo>
                  <a:lnTo>
                    <a:pt x="203" y="0"/>
                  </a:lnTo>
                  <a:lnTo>
                    <a:pt x="330" y="217"/>
                  </a:lnTo>
                  <a:lnTo>
                    <a:pt x="468" y="154"/>
                  </a:lnTo>
                  <a:lnTo>
                    <a:pt x="340" y="279"/>
                  </a:lnTo>
                  <a:lnTo>
                    <a:pt x="278" y="265"/>
                  </a:lnTo>
                  <a:lnTo>
                    <a:pt x="156" y="348"/>
                  </a:lnTo>
                  <a:lnTo>
                    <a:pt x="133" y="397"/>
                  </a:lnTo>
                  <a:lnTo>
                    <a:pt x="0" y="442"/>
                  </a:lnTo>
                  <a:lnTo>
                    <a:pt x="3" y="44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19200" y="4884840"/>
              <a:ext cx="76680" cy="70200"/>
            </a:xfrm>
            <a:custGeom>
              <a:avLst/>
              <a:gdLst/>
              <a:ahLst/>
              <a:rect l="0" t="0" r="r" b="b"/>
              <a:pathLst>
                <a:path w="213" h="195">
                  <a:moveTo>
                    <a:pt x="62" y="89"/>
                  </a:moveTo>
                  <a:lnTo>
                    <a:pt x="9" y="146"/>
                  </a:lnTo>
                  <a:lnTo>
                    <a:pt x="0" y="152"/>
                  </a:lnTo>
                  <a:lnTo>
                    <a:pt x="80" y="0"/>
                  </a:lnTo>
                  <a:lnTo>
                    <a:pt x="195" y="104"/>
                  </a:lnTo>
                  <a:lnTo>
                    <a:pt x="213" y="195"/>
                  </a:lnTo>
                  <a:lnTo>
                    <a:pt x="111" y="90"/>
                  </a:lnTo>
                  <a:lnTo>
                    <a:pt x="93" y="138"/>
                  </a:lnTo>
                  <a:lnTo>
                    <a:pt x="66" y="123"/>
                  </a:lnTo>
                  <a:lnTo>
                    <a:pt x="61" y="89"/>
                  </a:lnTo>
                  <a:lnTo>
                    <a:pt x="62" y="8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19200" y="4884840"/>
              <a:ext cx="76680" cy="70200"/>
            </a:xfrm>
            <a:custGeom>
              <a:avLst/>
              <a:gdLst/>
              <a:ahLst/>
              <a:rect l="0" t="0" r="r" b="b"/>
              <a:pathLst>
                <a:path fill="none" w="213" h="195">
                  <a:moveTo>
                    <a:pt x="62" y="89"/>
                  </a:moveTo>
                  <a:lnTo>
                    <a:pt x="9" y="146"/>
                  </a:lnTo>
                  <a:lnTo>
                    <a:pt x="0" y="152"/>
                  </a:lnTo>
                  <a:lnTo>
                    <a:pt x="80" y="0"/>
                  </a:lnTo>
                  <a:lnTo>
                    <a:pt x="195" y="104"/>
                  </a:lnTo>
                  <a:lnTo>
                    <a:pt x="213" y="195"/>
                  </a:lnTo>
                  <a:lnTo>
                    <a:pt x="111" y="90"/>
                  </a:lnTo>
                  <a:lnTo>
                    <a:pt x="93" y="138"/>
                  </a:lnTo>
                  <a:lnTo>
                    <a:pt x="66" y="123"/>
                  </a:lnTo>
                  <a:lnTo>
                    <a:pt x="61" y="89"/>
                  </a:lnTo>
                  <a:lnTo>
                    <a:pt x="62" y="8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7280" y="4843440"/>
              <a:ext cx="109800" cy="111600"/>
            </a:xfrm>
            <a:custGeom>
              <a:avLst/>
              <a:gdLst/>
              <a:ahLst/>
              <a:rect l="0" t="0" r="r" b="b"/>
              <a:pathLst>
                <a:path w="305" h="310">
                  <a:moveTo>
                    <a:pt x="0" y="23"/>
                  </a:moveTo>
                  <a:lnTo>
                    <a:pt x="26" y="0"/>
                  </a:lnTo>
                  <a:lnTo>
                    <a:pt x="133" y="255"/>
                  </a:lnTo>
                  <a:lnTo>
                    <a:pt x="305" y="255"/>
                  </a:lnTo>
                  <a:lnTo>
                    <a:pt x="305" y="310"/>
                  </a:lnTo>
                  <a:lnTo>
                    <a:pt x="30" y="310"/>
                  </a:lnTo>
                  <a:lnTo>
                    <a:pt x="28" y="255"/>
                  </a:lnTo>
                  <a:lnTo>
                    <a:pt x="97" y="255"/>
                  </a:lnTo>
                  <a:lnTo>
                    <a:pt x="0" y="3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7280" y="4843440"/>
              <a:ext cx="109800" cy="111600"/>
            </a:xfrm>
            <a:custGeom>
              <a:avLst/>
              <a:gdLst/>
              <a:ahLst/>
              <a:rect l="0" t="0" r="r" b="b"/>
              <a:pathLst>
                <a:path fill="none" w="305" h="310">
                  <a:moveTo>
                    <a:pt x="0" y="23"/>
                  </a:moveTo>
                  <a:lnTo>
                    <a:pt x="26" y="0"/>
                  </a:lnTo>
                  <a:lnTo>
                    <a:pt x="133" y="255"/>
                  </a:lnTo>
                  <a:lnTo>
                    <a:pt x="305" y="255"/>
                  </a:lnTo>
                  <a:lnTo>
                    <a:pt x="305" y="310"/>
                  </a:lnTo>
                  <a:lnTo>
                    <a:pt x="30" y="310"/>
                  </a:lnTo>
                  <a:lnTo>
                    <a:pt x="28" y="255"/>
                  </a:lnTo>
                  <a:lnTo>
                    <a:pt x="97" y="255"/>
                  </a:lnTo>
                  <a:lnTo>
                    <a:pt x="0" y="30"/>
                  </a:lnTo>
                  <a:lnTo>
                    <a:pt x="0" y="2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557280" y="5505480"/>
            <a:ext cx="252720" cy="454320"/>
            <a:chOff x="557280" y="5505480"/>
            <a:chExt cx="252720" cy="454320"/>
          </a:xfrm>
        </p:grpSpPr>
        <p:sp>
          <p:nvSpPr>
            <p:cNvPr id="272" name=""/>
            <p:cNvSpPr/>
            <p:nvPr/>
          </p:nvSpPr>
          <p:spPr>
            <a:xfrm>
              <a:off x="636480" y="5634000"/>
              <a:ext cx="28800" cy="44640"/>
            </a:xfrm>
            <a:custGeom>
              <a:avLst/>
              <a:gdLst/>
              <a:ahLst/>
              <a:rect l="0" t="0" r="r" b="b"/>
              <a:pathLst>
                <a:path w="80" h="124">
                  <a:moveTo>
                    <a:pt x="0" y="56"/>
                  </a:moveTo>
                  <a:lnTo>
                    <a:pt x="13" y="61"/>
                  </a:lnTo>
                  <a:lnTo>
                    <a:pt x="19" y="79"/>
                  </a:lnTo>
                  <a:lnTo>
                    <a:pt x="16" y="124"/>
                  </a:lnTo>
                  <a:lnTo>
                    <a:pt x="26" y="88"/>
                  </a:lnTo>
                  <a:lnTo>
                    <a:pt x="36" y="48"/>
                  </a:lnTo>
                  <a:lnTo>
                    <a:pt x="60" y="48"/>
                  </a:lnTo>
                  <a:lnTo>
                    <a:pt x="80" y="0"/>
                  </a:lnTo>
                  <a:lnTo>
                    <a:pt x="51" y="0"/>
                  </a:lnTo>
                  <a:lnTo>
                    <a:pt x="0" y="53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36480" y="5634000"/>
              <a:ext cx="28800" cy="44640"/>
            </a:xfrm>
            <a:custGeom>
              <a:avLst/>
              <a:gdLst/>
              <a:ahLst/>
              <a:rect l="0" t="0" r="r" b="b"/>
              <a:pathLst>
                <a:path fill="none" w="80" h="124">
                  <a:moveTo>
                    <a:pt x="0" y="56"/>
                  </a:moveTo>
                  <a:lnTo>
                    <a:pt x="13" y="61"/>
                  </a:lnTo>
                  <a:lnTo>
                    <a:pt x="19" y="79"/>
                  </a:lnTo>
                  <a:lnTo>
                    <a:pt x="16" y="124"/>
                  </a:lnTo>
                  <a:lnTo>
                    <a:pt x="26" y="88"/>
                  </a:lnTo>
                  <a:lnTo>
                    <a:pt x="36" y="48"/>
                  </a:lnTo>
                  <a:lnTo>
                    <a:pt x="60" y="48"/>
                  </a:lnTo>
                  <a:lnTo>
                    <a:pt x="80" y="0"/>
                  </a:lnTo>
                  <a:lnTo>
                    <a:pt x="51" y="0"/>
                  </a:lnTo>
                  <a:lnTo>
                    <a:pt x="0" y="53"/>
                  </a:lnTo>
                  <a:lnTo>
                    <a:pt x="0" y="5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6360" y="5614920"/>
              <a:ext cx="233640" cy="344880"/>
            </a:xfrm>
            <a:custGeom>
              <a:avLst/>
              <a:gdLst/>
              <a:ahLst/>
              <a:rect l="0" t="0" r="r" b="b"/>
              <a:pathLst>
                <a:path w="649" h="958">
                  <a:moveTo>
                    <a:pt x="371" y="0"/>
                  </a:moveTo>
                  <a:lnTo>
                    <a:pt x="369" y="3"/>
                  </a:lnTo>
                  <a:lnTo>
                    <a:pt x="364" y="10"/>
                  </a:lnTo>
                  <a:lnTo>
                    <a:pt x="355" y="22"/>
                  </a:lnTo>
                  <a:lnTo>
                    <a:pt x="344" y="38"/>
                  </a:lnTo>
                  <a:lnTo>
                    <a:pt x="331" y="57"/>
                  </a:lnTo>
                  <a:lnTo>
                    <a:pt x="314" y="76"/>
                  </a:lnTo>
                  <a:lnTo>
                    <a:pt x="299" y="99"/>
                  </a:lnTo>
                  <a:lnTo>
                    <a:pt x="282" y="122"/>
                  </a:lnTo>
                  <a:lnTo>
                    <a:pt x="266" y="145"/>
                  </a:lnTo>
                  <a:lnTo>
                    <a:pt x="249" y="166"/>
                  </a:lnTo>
                  <a:lnTo>
                    <a:pt x="235" y="187"/>
                  </a:lnTo>
                  <a:lnTo>
                    <a:pt x="222" y="206"/>
                  </a:lnTo>
                  <a:lnTo>
                    <a:pt x="210" y="222"/>
                  </a:lnTo>
                  <a:lnTo>
                    <a:pt x="201" y="232"/>
                  </a:lnTo>
                  <a:lnTo>
                    <a:pt x="195" y="242"/>
                  </a:lnTo>
                  <a:lnTo>
                    <a:pt x="193" y="244"/>
                  </a:lnTo>
                  <a:lnTo>
                    <a:pt x="194" y="244"/>
                  </a:lnTo>
                  <a:lnTo>
                    <a:pt x="195" y="245"/>
                  </a:lnTo>
                  <a:lnTo>
                    <a:pt x="199" y="245"/>
                  </a:lnTo>
                  <a:lnTo>
                    <a:pt x="202" y="247"/>
                  </a:lnTo>
                  <a:lnTo>
                    <a:pt x="205" y="247"/>
                  </a:lnTo>
                  <a:lnTo>
                    <a:pt x="211" y="249"/>
                  </a:lnTo>
                  <a:lnTo>
                    <a:pt x="215" y="251"/>
                  </a:lnTo>
                  <a:lnTo>
                    <a:pt x="221" y="251"/>
                  </a:lnTo>
                  <a:lnTo>
                    <a:pt x="225" y="252"/>
                  </a:lnTo>
                  <a:lnTo>
                    <a:pt x="230" y="254"/>
                  </a:lnTo>
                  <a:lnTo>
                    <a:pt x="235" y="254"/>
                  </a:lnTo>
                  <a:lnTo>
                    <a:pt x="238" y="256"/>
                  </a:lnTo>
                  <a:lnTo>
                    <a:pt x="242" y="256"/>
                  </a:lnTo>
                  <a:lnTo>
                    <a:pt x="245" y="258"/>
                  </a:lnTo>
                  <a:lnTo>
                    <a:pt x="246" y="258"/>
                  </a:lnTo>
                  <a:lnTo>
                    <a:pt x="247" y="258"/>
                  </a:lnTo>
                  <a:lnTo>
                    <a:pt x="244" y="265"/>
                  </a:lnTo>
                  <a:lnTo>
                    <a:pt x="236" y="286"/>
                  </a:lnTo>
                  <a:lnTo>
                    <a:pt x="224" y="317"/>
                  </a:lnTo>
                  <a:lnTo>
                    <a:pt x="209" y="357"/>
                  </a:lnTo>
                  <a:lnTo>
                    <a:pt x="190" y="405"/>
                  </a:lnTo>
                  <a:lnTo>
                    <a:pt x="169" y="459"/>
                  </a:lnTo>
                  <a:lnTo>
                    <a:pt x="146" y="517"/>
                  </a:lnTo>
                  <a:lnTo>
                    <a:pt x="124" y="576"/>
                  </a:lnTo>
                  <a:lnTo>
                    <a:pt x="101" y="636"/>
                  </a:lnTo>
                  <a:lnTo>
                    <a:pt x="78" y="693"/>
                  </a:lnTo>
                  <a:lnTo>
                    <a:pt x="57" y="747"/>
                  </a:lnTo>
                  <a:lnTo>
                    <a:pt x="38" y="796"/>
                  </a:lnTo>
                  <a:lnTo>
                    <a:pt x="23" y="836"/>
                  </a:lnTo>
                  <a:lnTo>
                    <a:pt x="11" y="867"/>
                  </a:lnTo>
                  <a:lnTo>
                    <a:pt x="3" y="888"/>
                  </a:lnTo>
                  <a:lnTo>
                    <a:pt x="0" y="895"/>
                  </a:lnTo>
                  <a:lnTo>
                    <a:pt x="1" y="894"/>
                  </a:lnTo>
                  <a:lnTo>
                    <a:pt x="5" y="892"/>
                  </a:lnTo>
                  <a:lnTo>
                    <a:pt x="9" y="890"/>
                  </a:lnTo>
                  <a:lnTo>
                    <a:pt x="17" y="887"/>
                  </a:lnTo>
                  <a:lnTo>
                    <a:pt x="26" y="881"/>
                  </a:lnTo>
                  <a:lnTo>
                    <a:pt x="37" y="878"/>
                  </a:lnTo>
                  <a:lnTo>
                    <a:pt x="49" y="873"/>
                  </a:lnTo>
                  <a:lnTo>
                    <a:pt x="61" y="869"/>
                  </a:lnTo>
                  <a:lnTo>
                    <a:pt x="75" y="864"/>
                  </a:lnTo>
                  <a:lnTo>
                    <a:pt x="90" y="860"/>
                  </a:lnTo>
                  <a:lnTo>
                    <a:pt x="105" y="857"/>
                  </a:lnTo>
                  <a:lnTo>
                    <a:pt x="119" y="853"/>
                  </a:lnTo>
                  <a:lnTo>
                    <a:pt x="135" y="852"/>
                  </a:lnTo>
                  <a:lnTo>
                    <a:pt x="150" y="852"/>
                  </a:lnTo>
                  <a:lnTo>
                    <a:pt x="166" y="852"/>
                  </a:lnTo>
                  <a:lnTo>
                    <a:pt x="180" y="853"/>
                  </a:lnTo>
                  <a:lnTo>
                    <a:pt x="193" y="857"/>
                  </a:lnTo>
                  <a:lnTo>
                    <a:pt x="204" y="862"/>
                  </a:lnTo>
                  <a:lnTo>
                    <a:pt x="213" y="869"/>
                  </a:lnTo>
                  <a:lnTo>
                    <a:pt x="220" y="876"/>
                  </a:lnTo>
                  <a:lnTo>
                    <a:pt x="225" y="885"/>
                  </a:lnTo>
                  <a:lnTo>
                    <a:pt x="231" y="894"/>
                  </a:lnTo>
                  <a:lnTo>
                    <a:pt x="235" y="902"/>
                  </a:lnTo>
                  <a:lnTo>
                    <a:pt x="239" y="911"/>
                  </a:lnTo>
                  <a:lnTo>
                    <a:pt x="244" y="920"/>
                  </a:lnTo>
                  <a:lnTo>
                    <a:pt x="248" y="929"/>
                  </a:lnTo>
                  <a:lnTo>
                    <a:pt x="254" y="936"/>
                  </a:lnTo>
                  <a:lnTo>
                    <a:pt x="260" y="943"/>
                  </a:lnTo>
                  <a:lnTo>
                    <a:pt x="268" y="950"/>
                  </a:lnTo>
                  <a:lnTo>
                    <a:pt x="278" y="953"/>
                  </a:lnTo>
                  <a:lnTo>
                    <a:pt x="290" y="957"/>
                  </a:lnTo>
                  <a:lnTo>
                    <a:pt x="304" y="958"/>
                  </a:lnTo>
                  <a:lnTo>
                    <a:pt x="319" y="957"/>
                  </a:lnTo>
                  <a:lnTo>
                    <a:pt x="334" y="955"/>
                  </a:lnTo>
                  <a:lnTo>
                    <a:pt x="348" y="950"/>
                  </a:lnTo>
                  <a:lnTo>
                    <a:pt x="361" y="944"/>
                  </a:lnTo>
                  <a:lnTo>
                    <a:pt x="375" y="937"/>
                  </a:lnTo>
                  <a:lnTo>
                    <a:pt x="388" y="930"/>
                  </a:lnTo>
                  <a:lnTo>
                    <a:pt x="400" y="922"/>
                  </a:lnTo>
                  <a:lnTo>
                    <a:pt x="413" y="913"/>
                  </a:lnTo>
                  <a:lnTo>
                    <a:pt x="425" y="906"/>
                  </a:lnTo>
                  <a:lnTo>
                    <a:pt x="437" y="897"/>
                  </a:lnTo>
                  <a:lnTo>
                    <a:pt x="448" y="888"/>
                  </a:lnTo>
                  <a:lnTo>
                    <a:pt x="461" y="880"/>
                  </a:lnTo>
                  <a:lnTo>
                    <a:pt x="473" y="873"/>
                  </a:lnTo>
                  <a:lnTo>
                    <a:pt x="485" y="867"/>
                  </a:lnTo>
                  <a:lnTo>
                    <a:pt x="497" y="862"/>
                  </a:lnTo>
                  <a:lnTo>
                    <a:pt x="509" y="859"/>
                  </a:lnTo>
                  <a:lnTo>
                    <a:pt x="520" y="857"/>
                  </a:lnTo>
                  <a:lnTo>
                    <a:pt x="530" y="855"/>
                  </a:lnTo>
                  <a:lnTo>
                    <a:pt x="538" y="857"/>
                  </a:lnTo>
                  <a:lnTo>
                    <a:pt x="544" y="859"/>
                  </a:lnTo>
                  <a:lnTo>
                    <a:pt x="551" y="860"/>
                  </a:lnTo>
                  <a:lnTo>
                    <a:pt x="555" y="864"/>
                  </a:lnTo>
                  <a:lnTo>
                    <a:pt x="558" y="869"/>
                  </a:lnTo>
                  <a:lnTo>
                    <a:pt x="562" y="873"/>
                  </a:lnTo>
                  <a:lnTo>
                    <a:pt x="563" y="878"/>
                  </a:lnTo>
                  <a:lnTo>
                    <a:pt x="564" y="881"/>
                  </a:lnTo>
                  <a:lnTo>
                    <a:pt x="565" y="887"/>
                  </a:lnTo>
                  <a:lnTo>
                    <a:pt x="566" y="890"/>
                  </a:lnTo>
                  <a:lnTo>
                    <a:pt x="566" y="894"/>
                  </a:lnTo>
                  <a:lnTo>
                    <a:pt x="565" y="897"/>
                  </a:lnTo>
                  <a:lnTo>
                    <a:pt x="565" y="899"/>
                  </a:lnTo>
                  <a:lnTo>
                    <a:pt x="566" y="897"/>
                  </a:lnTo>
                  <a:lnTo>
                    <a:pt x="568" y="895"/>
                  </a:lnTo>
                  <a:lnTo>
                    <a:pt x="573" y="890"/>
                  </a:lnTo>
                  <a:lnTo>
                    <a:pt x="578" y="885"/>
                  </a:lnTo>
                  <a:lnTo>
                    <a:pt x="585" y="878"/>
                  </a:lnTo>
                  <a:lnTo>
                    <a:pt x="592" y="869"/>
                  </a:lnTo>
                  <a:lnTo>
                    <a:pt x="599" y="860"/>
                  </a:lnTo>
                  <a:lnTo>
                    <a:pt x="607" y="852"/>
                  </a:lnTo>
                  <a:lnTo>
                    <a:pt x="615" y="843"/>
                  </a:lnTo>
                  <a:lnTo>
                    <a:pt x="622" y="834"/>
                  </a:lnTo>
                  <a:lnTo>
                    <a:pt x="629" y="827"/>
                  </a:lnTo>
                  <a:lnTo>
                    <a:pt x="636" y="818"/>
                  </a:lnTo>
                  <a:lnTo>
                    <a:pt x="641" y="813"/>
                  </a:lnTo>
                  <a:lnTo>
                    <a:pt x="645" y="808"/>
                  </a:lnTo>
                  <a:lnTo>
                    <a:pt x="648" y="806"/>
                  </a:lnTo>
                  <a:lnTo>
                    <a:pt x="649" y="804"/>
                  </a:lnTo>
                  <a:lnTo>
                    <a:pt x="645" y="796"/>
                  </a:lnTo>
                  <a:lnTo>
                    <a:pt x="637" y="769"/>
                  </a:lnTo>
                  <a:lnTo>
                    <a:pt x="623" y="731"/>
                  </a:lnTo>
                  <a:lnTo>
                    <a:pt x="606" y="678"/>
                  </a:lnTo>
                  <a:lnTo>
                    <a:pt x="586" y="618"/>
                  </a:lnTo>
                  <a:lnTo>
                    <a:pt x="562" y="550"/>
                  </a:lnTo>
                  <a:lnTo>
                    <a:pt x="538" y="478"/>
                  </a:lnTo>
                  <a:lnTo>
                    <a:pt x="512" y="403"/>
                  </a:lnTo>
                  <a:lnTo>
                    <a:pt x="487" y="328"/>
                  </a:lnTo>
                  <a:lnTo>
                    <a:pt x="462" y="256"/>
                  </a:lnTo>
                  <a:lnTo>
                    <a:pt x="439" y="187"/>
                  </a:lnTo>
                  <a:lnTo>
                    <a:pt x="418" y="125"/>
                  </a:lnTo>
                  <a:lnTo>
                    <a:pt x="400" y="75"/>
                  </a:lnTo>
                  <a:lnTo>
                    <a:pt x="387" y="34"/>
                  </a:lnTo>
                  <a:lnTo>
                    <a:pt x="378" y="10"/>
                  </a:lnTo>
                  <a:lnTo>
                    <a:pt x="375" y="0"/>
                  </a:lnTo>
                  <a:lnTo>
                    <a:pt x="37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76360" y="5614920"/>
              <a:ext cx="233640" cy="344880"/>
            </a:xfrm>
            <a:custGeom>
              <a:avLst/>
              <a:gdLst/>
              <a:ahLst/>
              <a:rect l="0" t="0" r="r" b="b"/>
              <a:pathLst>
                <a:path fill="none" w="649" h="958">
                  <a:moveTo>
                    <a:pt x="371" y="0"/>
                  </a:moveTo>
                  <a:lnTo>
                    <a:pt x="369" y="3"/>
                  </a:lnTo>
                  <a:lnTo>
                    <a:pt x="364" y="10"/>
                  </a:lnTo>
                  <a:lnTo>
                    <a:pt x="355" y="22"/>
                  </a:lnTo>
                  <a:lnTo>
                    <a:pt x="344" y="38"/>
                  </a:lnTo>
                  <a:lnTo>
                    <a:pt x="331" y="57"/>
                  </a:lnTo>
                  <a:lnTo>
                    <a:pt x="314" y="76"/>
                  </a:lnTo>
                  <a:lnTo>
                    <a:pt x="299" y="99"/>
                  </a:lnTo>
                  <a:lnTo>
                    <a:pt x="282" y="122"/>
                  </a:lnTo>
                  <a:lnTo>
                    <a:pt x="266" y="145"/>
                  </a:lnTo>
                  <a:lnTo>
                    <a:pt x="249" y="166"/>
                  </a:lnTo>
                  <a:lnTo>
                    <a:pt x="235" y="187"/>
                  </a:lnTo>
                  <a:lnTo>
                    <a:pt x="222" y="206"/>
                  </a:lnTo>
                  <a:lnTo>
                    <a:pt x="210" y="222"/>
                  </a:lnTo>
                  <a:lnTo>
                    <a:pt x="201" y="232"/>
                  </a:lnTo>
                  <a:lnTo>
                    <a:pt x="195" y="242"/>
                  </a:lnTo>
                  <a:lnTo>
                    <a:pt x="193" y="244"/>
                  </a:lnTo>
                  <a:lnTo>
                    <a:pt x="194" y="244"/>
                  </a:lnTo>
                  <a:lnTo>
                    <a:pt x="195" y="245"/>
                  </a:lnTo>
                  <a:lnTo>
                    <a:pt x="199" y="245"/>
                  </a:lnTo>
                  <a:lnTo>
                    <a:pt x="202" y="247"/>
                  </a:lnTo>
                  <a:lnTo>
                    <a:pt x="205" y="247"/>
                  </a:lnTo>
                  <a:lnTo>
                    <a:pt x="211" y="249"/>
                  </a:lnTo>
                  <a:lnTo>
                    <a:pt x="215" y="251"/>
                  </a:lnTo>
                  <a:lnTo>
                    <a:pt x="221" y="251"/>
                  </a:lnTo>
                  <a:lnTo>
                    <a:pt x="225" y="252"/>
                  </a:lnTo>
                  <a:lnTo>
                    <a:pt x="230" y="254"/>
                  </a:lnTo>
                  <a:lnTo>
                    <a:pt x="235" y="254"/>
                  </a:lnTo>
                  <a:lnTo>
                    <a:pt x="238" y="256"/>
                  </a:lnTo>
                  <a:lnTo>
                    <a:pt x="242" y="256"/>
                  </a:lnTo>
                  <a:lnTo>
                    <a:pt x="245" y="258"/>
                  </a:lnTo>
                  <a:lnTo>
                    <a:pt x="246" y="258"/>
                  </a:lnTo>
                  <a:lnTo>
                    <a:pt x="247" y="258"/>
                  </a:lnTo>
                  <a:lnTo>
                    <a:pt x="244" y="265"/>
                  </a:lnTo>
                  <a:lnTo>
                    <a:pt x="236" y="286"/>
                  </a:lnTo>
                  <a:lnTo>
                    <a:pt x="224" y="317"/>
                  </a:lnTo>
                  <a:lnTo>
                    <a:pt x="209" y="357"/>
                  </a:lnTo>
                  <a:lnTo>
                    <a:pt x="190" y="405"/>
                  </a:lnTo>
                  <a:lnTo>
                    <a:pt x="169" y="459"/>
                  </a:lnTo>
                  <a:lnTo>
                    <a:pt x="146" y="517"/>
                  </a:lnTo>
                  <a:lnTo>
                    <a:pt x="124" y="576"/>
                  </a:lnTo>
                  <a:lnTo>
                    <a:pt x="101" y="636"/>
                  </a:lnTo>
                  <a:lnTo>
                    <a:pt x="78" y="693"/>
                  </a:lnTo>
                  <a:lnTo>
                    <a:pt x="57" y="747"/>
                  </a:lnTo>
                  <a:lnTo>
                    <a:pt x="38" y="796"/>
                  </a:lnTo>
                  <a:lnTo>
                    <a:pt x="23" y="836"/>
                  </a:lnTo>
                  <a:lnTo>
                    <a:pt x="11" y="867"/>
                  </a:lnTo>
                  <a:lnTo>
                    <a:pt x="3" y="888"/>
                  </a:lnTo>
                  <a:lnTo>
                    <a:pt x="0" y="895"/>
                  </a:lnTo>
                  <a:lnTo>
                    <a:pt x="1" y="894"/>
                  </a:lnTo>
                  <a:lnTo>
                    <a:pt x="5" y="892"/>
                  </a:lnTo>
                  <a:lnTo>
                    <a:pt x="9" y="890"/>
                  </a:lnTo>
                  <a:lnTo>
                    <a:pt x="17" y="887"/>
                  </a:lnTo>
                  <a:lnTo>
                    <a:pt x="26" y="881"/>
                  </a:lnTo>
                  <a:lnTo>
                    <a:pt x="37" y="878"/>
                  </a:lnTo>
                  <a:lnTo>
                    <a:pt x="49" y="873"/>
                  </a:lnTo>
                  <a:lnTo>
                    <a:pt x="61" y="869"/>
                  </a:lnTo>
                  <a:lnTo>
                    <a:pt x="75" y="864"/>
                  </a:lnTo>
                  <a:lnTo>
                    <a:pt x="90" y="860"/>
                  </a:lnTo>
                  <a:lnTo>
                    <a:pt x="105" y="857"/>
                  </a:lnTo>
                  <a:lnTo>
                    <a:pt x="119" y="853"/>
                  </a:lnTo>
                  <a:lnTo>
                    <a:pt x="135" y="852"/>
                  </a:lnTo>
                  <a:lnTo>
                    <a:pt x="150" y="852"/>
                  </a:lnTo>
                  <a:lnTo>
                    <a:pt x="166" y="852"/>
                  </a:lnTo>
                  <a:lnTo>
                    <a:pt x="180" y="853"/>
                  </a:lnTo>
                  <a:lnTo>
                    <a:pt x="193" y="857"/>
                  </a:lnTo>
                  <a:lnTo>
                    <a:pt x="204" y="862"/>
                  </a:lnTo>
                  <a:lnTo>
                    <a:pt x="213" y="869"/>
                  </a:lnTo>
                  <a:lnTo>
                    <a:pt x="220" y="876"/>
                  </a:lnTo>
                  <a:lnTo>
                    <a:pt x="225" y="885"/>
                  </a:lnTo>
                  <a:lnTo>
                    <a:pt x="231" y="894"/>
                  </a:lnTo>
                  <a:lnTo>
                    <a:pt x="235" y="902"/>
                  </a:lnTo>
                  <a:lnTo>
                    <a:pt x="239" y="911"/>
                  </a:lnTo>
                  <a:lnTo>
                    <a:pt x="244" y="920"/>
                  </a:lnTo>
                  <a:lnTo>
                    <a:pt x="248" y="929"/>
                  </a:lnTo>
                  <a:lnTo>
                    <a:pt x="254" y="936"/>
                  </a:lnTo>
                  <a:lnTo>
                    <a:pt x="260" y="943"/>
                  </a:lnTo>
                  <a:lnTo>
                    <a:pt x="268" y="950"/>
                  </a:lnTo>
                  <a:lnTo>
                    <a:pt x="278" y="953"/>
                  </a:lnTo>
                  <a:lnTo>
                    <a:pt x="290" y="957"/>
                  </a:lnTo>
                  <a:lnTo>
                    <a:pt x="304" y="958"/>
                  </a:lnTo>
                  <a:lnTo>
                    <a:pt x="319" y="957"/>
                  </a:lnTo>
                  <a:lnTo>
                    <a:pt x="334" y="955"/>
                  </a:lnTo>
                  <a:lnTo>
                    <a:pt x="348" y="950"/>
                  </a:lnTo>
                  <a:lnTo>
                    <a:pt x="361" y="944"/>
                  </a:lnTo>
                  <a:lnTo>
                    <a:pt x="375" y="937"/>
                  </a:lnTo>
                  <a:lnTo>
                    <a:pt x="388" y="930"/>
                  </a:lnTo>
                  <a:lnTo>
                    <a:pt x="400" y="922"/>
                  </a:lnTo>
                  <a:lnTo>
                    <a:pt x="413" y="913"/>
                  </a:lnTo>
                  <a:lnTo>
                    <a:pt x="425" y="906"/>
                  </a:lnTo>
                  <a:lnTo>
                    <a:pt x="437" y="897"/>
                  </a:lnTo>
                  <a:lnTo>
                    <a:pt x="448" y="888"/>
                  </a:lnTo>
                  <a:lnTo>
                    <a:pt x="461" y="880"/>
                  </a:lnTo>
                  <a:lnTo>
                    <a:pt x="473" y="873"/>
                  </a:lnTo>
                  <a:lnTo>
                    <a:pt x="485" y="867"/>
                  </a:lnTo>
                  <a:lnTo>
                    <a:pt x="497" y="862"/>
                  </a:lnTo>
                  <a:lnTo>
                    <a:pt x="509" y="859"/>
                  </a:lnTo>
                  <a:lnTo>
                    <a:pt x="520" y="857"/>
                  </a:lnTo>
                  <a:lnTo>
                    <a:pt x="530" y="855"/>
                  </a:lnTo>
                  <a:lnTo>
                    <a:pt x="538" y="857"/>
                  </a:lnTo>
                  <a:lnTo>
                    <a:pt x="544" y="859"/>
                  </a:lnTo>
                  <a:lnTo>
                    <a:pt x="551" y="860"/>
                  </a:lnTo>
                  <a:lnTo>
                    <a:pt x="555" y="864"/>
                  </a:lnTo>
                  <a:lnTo>
                    <a:pt x="558" y="869"/>
                  </a:lnTo>
                  <a:lnTo>
                    <a:pt x="562" y="873"/>
                  </a:lnTo>
                  <a:lnTo>
                    <a:pt x="563" y="878"/>
                  </a:lnTo>
                  <a:lnTo>
                    <a:pt x="564" y="881"/>
                  </a:lnTo>
                  <a:lnTo>
                    <a:pt x="565" y="887"/>
                  </a:lnTo>
                  <a:lnTo>
                    <a:pt x="566" y="890"/>
                  </a:lnTo>
                  <a:lnTo>
                    <a:pt x="566" y="894"/>
                  </a:lnTo>
                  <a:lnTo>
                    <a:pt x="565" y="897"/>
                  </a:lnTo>
                  <a:lnTo>
                    <a:pt x="565" y="899"/>
                  </a:lnTo>
                  <a:lnTo>
                    <a:pt x="566" y="897"/>
                  </a:lnTo>
                  <a:lnTo>
                    <a:pt x="568" y="895"/>
                  </a:lnTo>
                  <a:lnTo>
                    <a:pt x="573" y="890"/>
                  </a:lnTo>
                  <a:lnTo>
                    <a:pt x="578" y="885"/>
                  </a:lnTo>
                  <a:lnTo>
                    <a:pt x="585" y="878"/>
                  </a:lnTo>
                  <a:lnTo>
                    <a:pt x="592" y="869"/>
                  </a:lnTo>
                  <a:lnTo>
                    <a:pt x="599" y="860"/>
                  </a:lnTo>
                  <a:lnTo>
                    <a:pt x="607" y="852"/>
                  </a:lnTo>
                  <a:lnTo>
                    <a:pt x="615" y="843"/>
                  </a:lnTo>
                  <a:lnTo>
                    <a:pt x="622" y="834"/>
                  </a:lnTo>
                  <a:lnTo>
                    <a:pt x="629" y="827"/>
                  </a:lnTo>
                  <a:lnTo>
                    <a:pt x="636" y="818"/>
                  </a:lnTo>
                  <a:lnTo>
                    <a:pt x="641" y="813"/>
                  </a:lnTo>
                  <a:lnTo>
                    <a:pt x="645" y="808"/>
                  </a:lnTo>
                  <a:lnTo>
                    <a:pt x="648" y="806"/>
                  </a:lnTo>
                  <a:lnTo>
                    <a:pt x="649" y="804"/>
                  </a:lnTo>
                  <a:lnTo>
                    <a:pt x="645" y="796"/>
                  </a:lnTo>
                  <a:lnTo>
                    <a:pt x="637" y="769"/>
                  </a:lnTo>
                  <a:lnTo>
                    <a:pt x="623" y="731"/>
                  </a:lnTo>
                  <a:lnTo>
                    <a:pt x="606" y="678"/>
                  </a:lnTo>
                  <a:lnTo>
                    <a:pt x="586" y="618"/>
                  </a:lnTo>
                  <a:lnTo>
                    <a:pt x="562" y="550"/>
                  </a:lnTo>
                  <a:lnTo>
                    <a:pt x="538" y="478"/>
                  </a:lnTo>
                  <a:lnTo>
                    <a:pt x="512" y="403"/>
                  </a:lnTo>
                  <a:lnTo>
                    <a:pt x="487" y="328"/>
                  </a:lnTo>
                  <a:lnTo>
                    <a:pt x="462" y="256"/>
                  </a:lnTo>
                  <a:lnTo>
                    <a:pt x="439" y="187"/>
                  </a:lnTo>
                  <a:lnTo>
                    <a:pt x="418" y="125"/>
                  </a:lnTo>
                  <a:lnTo>
                    <a:pt x="400" y="75"/>
                  </a:lnTo>
                  <a:lnTo>
                    <a:pt x="387" y="34"/>
                  </a:lnTo>
                  <a:lnTo>
                    <a:pt x="378" y="10"/>
                  </a:lnTo>
                  <a:lnTo>
                    <a:pt x="375" y="0"/>
                  </a:lnTo>
                  <a:lnTo>
                    <a:pt x="371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7520" y="5505480"/>
              <a:ext cx="168480" cy="159120"/>
            </a:xfrm>
            <a:custGeom>
              <a:avLst/>
              <a:gdLst/>
              <a:ahLst/>
              <a:rect l="0" t="0" r="r" b="b"/>
              <a:pathLst>
                <a:path w="468" h="442">
                  <a:moveTo>
                    <a:pt x="3" y="442"/>
                  </a:moveTo>
                  <a:lnTo>
                    <a:pt x="96" y="352"/>
                  </a:lnTo>
                  <a:lnTo>
                    <a:pt x="126" y="40"/>
                  </a:lnTo>
                  <a:lnTo>
                    <a:pt x="180" y="102"/>
                  </a:lnTo>
                  <a:lnTo>
                    <a:pt x="203" y="0"/>
                  </a:lnTo>
                  <a:lnTo>
                    <a:pt x="330" y="217"/>
                  </a:lnTo>
                  <a:lnTo>
                    <a:pt x="468" y="154"/>
                  </a:lnTo>
                  <a:lnTo>
                    <a:pt x="340" y="279"/>
                  </a:lnTo>
                  <a:lnTo>
                    <a:pt x="278" y="265"/>
                  </a:lnTo>
                  <a:lnTo>
                    <a:pt x="156" y="348"/>
                  </a:lnTo>
                  <a:lnTo>
                    <a:pt x="133" y="397"/>
                  </a:lnTo>
                  <a:lnTo>
                    <a:pt x="0" y="442"/>
                  </a:lnTo>
                  <a:lnTo>
                    <a:pt x="3" y="44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87520" y="5505480"/>
              <a:ext cx="168480" cy="159120"/>
            </a:xfrm>
            <a:custGeom>
              <a:avLst/>
              <a:gdLst/>
              <a:ahLst/>
              <a:rect l="0" t="0" r="r" b="b"/>
              <a:pathLst>
                <a:path fill="none" w="468" h="442">
                  <a:moveTo>
                    <a:pt x="3" y="442"/>
                  </a:moveTo>
                  <a:lnTo>
                    <a:pt x="96" y="352"/>
                  </a:lnTo>
                  <a:lnTo>
                    <a:pt x="126" y="40"/>
                  </a:lnTo>
                  <a:lnTo>
                    <a:pt x="180" y="102"/>
                  </a:lnTo>
                  <a:lnTo>
                    <a:pt x="203" y="0"/>
                  </a:lnTo>
                  <a:lnTo>
                    <a:pt x="330" y="217"/>
                  </a:lnTo>
                  <a:lnTo>
                    <a:pt x="468" y="154"/>
                  </a:lnTo>
                  <a:lnTo>
                    <a:pt x="340" y="279"/>
                  </a:lnTo>
                  <a:lnTo>
                    <a:pt x="278" y="265"/>
                  </a:lnTo>
                  <a:lnTo>
                    <a:pt x="156" y="348"/>
                  </a:lnTo>
                  <a:lnTo>
                    <a:pt x="133" y="397"/>
                  </a:lnTo>
                  <a:lnTo>
                    <a:pt x="0" y="442"/>
                  </a:lnTo>
                  <a:lnTo>
                    <a:pt x="3" y="44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19200" y="5742000"/>
              <a:ext cx="76680" cy="70200"/>
            </a:xfrm>
            <a:custGeom>
              <a:avLst/>
              <a:gdLst/>
              <a:ahLst/>
              <a:rect l="0" t="0" r="r" b="b"/>
              <a:pathLst>
                <a:path w="213" h="195">
                  <a:moveTo>
                    <a:pt x="62" y="89"/>
                  </a:moveTo>
                  <a:lnTo>
                    <a:pt x="9" y="146"/>
                  </a:lnTo>
                  <a:lnTo>
                    <a:pt x="0" y="152"/>
                  </a:lnTo>
                  <a:lnTo>
                    <a:pt x="80" y="0"/>
                  </a:lnTo>
                  <a:lnTo>
                    <a:pt x="195" y="104"/>
                  </a:lnTo>
                  <a:lnTo>
                    <a:pt x="213" y="195"/>
                  </a:lnTo>
                  <a:lnTo>
                    <a:pt x="111" y="90"/>
                  </a:lnTo>
                  <a:lnTo>
                    <a:pt x="93" y="138"/>
                  </a:lnTo>
                  <a:lnTo>
                    <a:pt x="66" y="123"/>
                  </a:lnTo>
                  <a:lnTo>
                    <a:pt x="61" y="89"/>
                  </a:lnTo>
                  <a:lnTo>
                    <a:pt x="62" y="8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9200" y="5742000"/>
              <a:ext cx="76680" cy="70200"/>
            </a:xfrm>
            <a:custGeom>
              <a:avLst/>
              <a:gdLst/>
              <a:ahLst/>
              <a:rect l="0" t="0" r="r" b="b"/>
              <a:pathLst>
                <a:path fill="none" w="213" h="195">
                  <a:moveTo>
                    <a:pt x="62" y="89"/>
                  </a:moveTo>
                  <a:lnTo>
                    <a:pt x="9" y="146"/>
                  </a:lnTo>
                  <a:lnTo>
                    <a:pt x="0" y="152"/>
                  </a:lnTo>
                  <a:lnTo>
                    <a:pt x="80" y="0"/>
                  </a:lnTo>
                  <a:lnTo>
                    <a:pt x="195" y="104"/>
                  </a:lnTo>
                  <a:lnTo>
                    <a:pt x="213" y="195"/>
                  </a:lnTo>
                  <a:lnTo>
                    <a:pt x="111" y="90"/>
                  </a:lnTo>
                  <a:lnTo>
                    <a:pt x="93" y="138"/>
                  </a:lnTo>
                  <a:lnTo>
                    <a:pt x="66" y="123"/>
                  </a:lnTo>
                  <a:lnTo>
                    <a:pt x="61" y="89"/>
                  </a:lnTo>
                  <a:lnTo>
                    <a:pt x="62" y="8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57280" y="5700600"/>
              <a:ext cx="109800" cy="111600"/>
            </a:xfrm>
            <a:custGeom>
              <a:avLst/>
              <a:gdLst/>
              <a:ahLst/>
              <a:rect l="0" t="0" r="r" b="b"/>
              <a:pathLst>
                <a:path w="305" h="310">
                  <a:moveTo>
                    <a:pt x="0" y="23"/>
                  </a:moveTo>
                  <a:lnTo>
                    <a:pt x="26" y="0"/>
                  </a:lnTo>
                  <a:lnTo>
                    <a:pt x="133" y="255"/>
                  </a:lnTo>
                  <a:lnTo>
                    <a:pt x="305" y="255"/>
                  </a:lnTo>
                  <a:lnTo>
                    <a:pt x="305" y="310"/>
                  </a:lnTo>
                  <a:lnTo>
                    <a:pt x="30" y="310"/>
                  </a:lnTo>
                  <a:lnTo>
                    <a:pt x="28" y="255"/>
                  </a:lnTo>
                  <a:lnTo>
                    <a:pt x="97" y="255"/>
                  </a:lnTo>
                  <a:lnTo>
                    <a:pt x="0" y="3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57280" y="5700600"/>
              <a:ext cx="109800" cy="111600"/>
            </a:xfrm>
            <a:custGeom>
              <a:avLst/>
              <a:gdLst/>
              <a:ahLst/>
              <a:rect l="0" t="0" r="r" b="b"/>
              <a:pathLst>
                <a:path fill="none" w="305" h="310">
                  <a:moveTo>
                    <a:pt x="0" y="23"/>
                  </a:moveTo>
                  <a:lnTo>
                    <a:pt x="26" y="0"/>
                  </a:lnTo>
                  <a:lnTo>
                    <a:pt x="133" y="255"/>
                  </a:lnTo>
                  <a:lnTo>
                    <a:pt x="305" y="255"/>
                  </a:lnTo>
                  <a:lnTo>
                    <a:pt x="305" y="310"/>
                  </a:lnTo>
                  <a:lnTo>
                    <a:pt x="30" y="310"/>
                  </a:lnTo>
                  <a:lnTo>
                    <a:pt x="28" y="255"/>
                  </a:lnTo>
                  <a:lnTo>
                    <a:pt x="97" y="255"/>
                  </a:lnTo>
                  <a:lnTo>
                    <a:pt x="0" y="30"/>
                  </a:lnTo>
                  <a:lnTo>
                    <a:pt x="0" y="2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989000" y="1060560"/>
            <a:ext cx="4792680" cy="1095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914400" y="2556000"/>
            <a:ext cx="48578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quarters:  Fair Oaks, 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00+ Personnel Worldw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estic and International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ve Government and Commercial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 Spectrum of support and technical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s Hardware and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and 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ineering and Instal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stics and 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ning and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mental 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542880" y="2495520"/>
            <a:ext cx="5791320" cy="633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rical Commitment to Information Systems, Security, Communications, and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utation of Innovative and Cost-Effective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d technical, security, management and analytical support provided to a diverse client ba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artment of Defense Services and 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artment of energy HQ and Field Off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artment of State and U.S. Foreign Service P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.S. Arms Control and Disarm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Federal Agencies (FBI, FAA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324080" y="1028880"/>
            <a:ext cx="4191120" cy="1211040"/>
            <a:chOff x="1324080" y="1028880"/>
            <a:chExt cx="4191120" cy="121104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1324080" y="1028880"/>
              <a:ext cx="419112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 txBox="1"/>
            <p:nvPr/>
          </p:nvSpPr>
          <p:spPr>
            <a:xfrm>
              <a:off x="1765440" y="1965240"/>
              <a:ext cx="36734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TECH STRATEGIC ASSOCIATES, LT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76360" y="2933640"/>
            <a:ext cx="252720" cy="454320"/>
            <a:chOff x="576360" y="2933640"/>
            <a:chExt cx="252720" cy="454320"/>
          </a:xfrm>
        </p:grpSpPr>
        <p:sp>
          <p:nvSpPr>
            <p:cNvPr id="165" name=""/>
            <p:cNvSpPr/>
            <p:nvPr/>
          </p:nvSpPr>
          <p:spPr>
            <a:xfrm>
              <a:off x="655560" y="3062160"/>
              <a:ext cx="28800" cy="44640"/>
            </a:xfrm>
            <a:custGeom>
              <a:avLst/>
              <a:gdLst/>
              <a:ahLst/>
              <a:rect l="0" t="0" r="r" b="b"/>
              <a:pathLst>
                <a:path w="80" h="124">
                  <a:moveTo>
                    <a:pt x="0" y="56"/>
                  </a:moveTo>
                  <a:lnTo>
                    <a:pt x="13" y="61"/>
                  </a:lnTo>
                  <a:lnTo>
                    <a:pt x="19" y="79"/>
                  </a:lnTo>
                  <a:lnTo>
                    <a:pt x="16" y="124"/>
                  </a:lnTo>
                  <a:lnTo>
                    <a:pt x="26" y="88"/>
                  </a:lnTo>
                  <a:lnTo>
                    <a:pt x="36" y="48"/>
                  </a:lnTo>
                  <a:lnTo>
                    <a:pt x="60" y="48"/>
                  </a:lnTo>
                  <a:lnTo>
                    <a:pt x="80" y="0"/>
                  </a:lnTo>
                  <a:lnTo>
                    <a:pt x="51" y="0"/>
                  </a:lnTo>
                  <a:lnTo>
                    <a:pt x="0" y="53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5560" y="3062160"/>
              <a:ext cx="28800" cy="44640"/>
            </a:xfrm>
            <a:custGeom>
              <a:avLst/>
              <a:gdLst/>
              <a:ahLst/>
              <a:rect l="0" t="0" r="r" b="b"/>
              <a:pathLst>
                <a:path fill="none" w="80" h="124">
                  <a:moveTo>
                    <a:pt x="0" y="56"/>
                  </a:moveTo>
                  <a:lnTo>
                    <a:pt x="13" y="61"/>
                  </a:lnTo>
                  <a:lnTo>
                    <a:pt x="19" y="79"/>
                  </a:lnTo>
                  <a:lnTo>
                    <a:pt x="16" y="124"/>
                  </a:lnTo>
                  <a:lnTo>
                    <a:pt x="26" y="88"/>
                  </a:lnTo>
                  <a:lnTo>
                    <a:pt x="36" y="48"/>
                  </a:lnTo>
                  <a:lnTo>
                    <a:pt x="60" y="48"/>
                  </a:lnTo>
                  <a:lnTo>
                    <a:pt x="80" y="0"/>
                  </a:lnTo>
                  <a:lnTo>
                    <a:pt x="51" y="0"/>
                  </a:lnTo>
                  <a:lnTo>
                    <a:pt x="0" y="53"/>
                  </a:lnTo>
                  <a:lnTo>
                    <a:pt x="0" y="5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95440" y="3043080"/>
              <a:ext cx="233640" cy="344880"/>
            </a:xfrm>
            <a:custGeom>
              <a:avLst/>
              <a:gdLst/>
              <a:ahLst/>
              <a:rect l="0" t="0" r="r" b="b"/>
              <a:pathLst>
                <a:path w="649" h="958">
                  <a:moveTo>
                    <a:pt x="371" y="0"/>
                  </a:moveTo>
                  <a:lnTo>
                    <a:pt x="369" y="3"/>
                  </a:lnTo>
                  <a:lnTo>
                    <a:pt x="364" y="10"/>
                  </a:lnTo>
                  <a:lnTo>
                    <a:pt x="355" y="22"/>
                  </a:lnTo>
                  <a:lnTo>
                    <a:pt x="344" y="38"/>
                  </a:lnTo>
                  <a:lnTo>
                    <a:pt x="331" y="57"/>
                  </a:lnTo>
                  <a:lnTo>
                    <a:pt x="314" y="76"/>
                  </a:lnTo>
                  <a:lnTo>
                    <a:pt x="299" y="99"/>
                  </a:lnTo>
                  <a:lnTo>
                    <a:pt x="282" y="122"/>
                  </a:lnTo>
                  <a:lnTo>
                    <a:pt x="266" y="145"/>
                  </a:lnTo>
                  <a:lnTo>
                    <a:pt x="249" y="166"/>
                  </a:lnTo>
                  <a:lnTo>
                    <a:pt x="235" y="187"/>
                  </a:lnTo>
                  <a:lnTo>
                    <a:pt x="222" y="206"/>
                  </a:lnTo>
                  <a:lnTo>
                    <a:pt x="210" y="222"/>
                  </a:lnTo>
                  <a:lnTo>
                    <a:pt x="201" y="232"/>
                  </a:lnTo>
                  <a:lnTo>
                    <a:pt x="195" y="242"/>
                  </a:lnTo>
                  <a:lnTo>
                    <a:pt x="193" y="244"/>
                  </a:lnTo>
                  <a:lnTo>
                    <a:pt x="194" y="244"/>
                  </a:lnTo>
                  <a:lnTo>
                    <a:pt x="195" y="245"/>
                  </a:lnTo>
                  <a:lnTo>
                    <a:pt x="199" y="245"/>
                  </a:lnTo>
                  <a:lnTo>
                    <a:pt x="202" y="247"/>
                  </a:lnTo>
                  <a:lnTo>
                    <a:pt x="205" y="247"/>
                  </a:lnTo>
                  <a:lnTo>
                    <a:pt x="211" y="249"/>
                  </a:lnTo>
                  <a:lnTo>
                    <a:pt x="215" y="251"/>
                  </a:lnTo>
                  <a:lnTo>
                    <a:pt x="221" y="251"/>
                  </a:lnTo>
                  <a:lnTo>
                    <a:pt x="225" y="252"/>
                  </a:lnTo>
                  <a:lnTo>
                    <a:pt x="230" y="254"/>
                  </a:lnTo>
                  <a:lnTo>
                    <a:pt x="235" y="254"/>
                  </a:lnTo>
                  <a:lnTo>
                    <a:pt x="238" y="256"/>
                  </a:lnTo>
                  <a:lnTo>
                    <a:pt x="242" y="256"/>
                  </a:lnTo>
                  <a:lnTo>
                    <a:pt x="245" y="258"/>
                  </a:lnTo>
                  <a:lnTo>
                    <a:pt x="246" y="258"/>
                  </a:lnTo>
                  <a:lnTo>
                    <a:pt x="247" y="258"/>
                  </a:lnTo>
                  <a:lnTo>
                    <a:pt x="244" y="265"/>
                  </a:lnTo>
                  <a:lnTo>
                    <a:pt x="236" y="286"/>
                  </a:lnTo>
                  <a:lnTo>
                    <a:pt x="224" y="317"/>
                  </a:lnTo>
                  <a:lnTo>
                    <a:pt x="209" y="357"/>
                  </a:lnTo>
                  <a:lnTo>
                    <a:pt x="190" y="405"/>
                  </a:lnTo>
                  <a:lnTo>
                    <a:pt x="169" y="459"/>
                  </a:lnTo>
                  <a:lnTo>
                    <a:pt x="146" y="517"/>
                  </a:lnTo>
                  <a:lnTo>
                    <a:pt x="124" y="576"/>
                  </a:lnTo>
                  <a:lnTo>
                    <a:pt x="101" y="636"/>
                  </a:lnTo>
                  <a:lnTo>
                    <a:pt x="78" y="693"/>
                  </a:lnTo>
                  <a:lnTo>
                    <a:pt x="57" y="747"/>
                  </a:lnTo>
                  <a:lnTo>
                    <a:pt x="38" y="796"/>
                  </a:lnTo>
                  <a:lnTo>
                    <a:pt x="23" y="836"/>
                  </a:lnTo>
                  <a:lnTo>
                    <a:pt x="11" y="867"/>
                  </a:lnTo>
                  <a:lnTo>
                    <a:pt x="3" y="888"/>
                  </a:lnTo>
                  <a:lnTo>
                    <a:pt x="0" y="895"/>
                  </a:lnTo>
                  <a:lnTo>
                    <a:pt x="1" y="894"/>
                  </a:lnTo>
                  <a:lnTo>
                    <a:pt x="5" y="892"/>
                  </a:lnTo>
                  <a:lnTo>
                    <a:pt x="9" y="890"/>
                  </a:lnTo>
                  <a:lnTo>
                    <a:pt x="17" y="887"/>
                  </a:lnTo>
                  <a:lnTo>
                    <a:pt x="26" y="881"/>
                  </a:lnTo>
                  <a:lnTo>
                    <a:pt x="37" y="878"/>
                  </a:lnTo>
                  <a:lnTo>
                    <a:pt x="49" y="873"/>
                  </a:lnTo>
                  <a:lnTo>
                    <a:pt x="61" y="869"/>
                  </a:lnTo>
                  <a:lnTo>
                    <a:pt x="75" y="864"/>
                  </a:lnTo>
                  <a:lnTo>
                    <a:pt x="90" y="860"/>
                  </a:lnTo>
                  <a:lnTo>
                    <a:pt x="105" y="857"/>
                  </a:lnTo>
                  <a:lnTo>
                    <a:pt x="119" y="853"/>
                  </a:lnTo>
                  <a:lnTo>
                    <a:pt x="135" y="852"/>
                  </a:lnTo>
                  <a:lnTo>
                    <a:pt x="150" y="852"/>
                  </a:lnTo>
                  <a:lnTo>
                    <a:pt x="166" y="852"/>
                  </a:lnTo>
                  <a:lnTo>
                    <a:pt x="180" y="853"/>
                  </a:lnTo>
                  <a:lnTo>
                    <a:pt x="193" y="857"/>
                  </a:lnTo>
                  <a:lnTo>
                    <a:pt x="204" y="862"/>
                  </a:lnTo>
                  <a:lnTo>
                    <a:pt x="213" y="869"/>
                  </a:lnTo>
                  <a:lnTo>
                    <a:pt x="220" y="876"/>
                  </a:lnTo>
                  <a:lnTo>
                    <a:pt x="225" y="885"/>
                  </a:lnTo>
                  <a:lnTo>
                    <a:pt x="231" y="894"/>
                  </a:lnTo>
                  <a:lnTo>
                    <a:pt x="235" y="902"/>
                  </a:lnTo>
                  <a:lnTo>
                    <a:pt x="239" y="911"/>
                  </a:lnTo>
                  <a:lnTo>
                    <a:pt x="244" y="920"/>
                  </a:lnTo>
                  <a:lnTo>
                    <a:pt x="248" y="929"/>
                  </a:lnTo>
                  <a:lnTo>
                    <a:pt x="254" y="936"/>
                  </a:lnTo>
                  <a:lnTo>
                    <a:pt x="260" y="943"/>
                  </a:lnTo>
                  <a:lnTo>
                    <a:pt x="268" y="950"/>
                  </a:lnTo>
                  <a:lnTo>
                    <a:pt x="278" y="953"/>
                  </a:lnTo>
                  <a:lnTo>
                    <a:pt x="290" y="957"/>
                  </a:lnTo>
                  <a:lnTo>
                    <a:pt x="304" y="958"/>
                  </a:lnTo>
                  <a:lnTo>
                    <a:pt x="319" y="957"/>
                  </a:lnTo>
                  <a:lnTo>
                    <a:pt x="334" y="955"/>
                  </a:lnTo>
                  <a:lnTo>
                    <a:pt x="348" y="950"/>
                  </a:lnTo>
                  <a:lnTo>
                    <a:pt x="361" y="944"/>
                  </a:lnTo>
                  <a:lnTo>
                    <a:pt x="375" y="937"/>
                  </a:lnTo>
                  <a:lnTo>
                    <a:pt x="388" y="930"/>
                  </a:lnTo>
                  <a:lnTo>
                    <a:pt x="400" y="922"/>
                  </a:lnTo>
                  <a:lnTo>
                    <a:pt x="413" y="913"/>
                  </a:lnTo>
                  <a:lnTo>
                    <a:pt x="425" y="906"/>
                  </a:lnTo>
                  <a:lnTo>
                    <a:pt x="437" y="897"/>
                  </a:lnTo>
                  <a:lnTo>
                    <a:pt x="448" y="888"/>
                  </a:lnTo>
                  <a:lnTo>
                    <a:pt x="461" y="880"/>
                  </a:lnTo>
                  <a:lnTo>
                    <a:pt x="473" y="873"/>
                  </a:lnTo>
                  <a:lnTo>
                    <a:pt x="485" y="867"/>
                  </a:lnTo>
                  <a:lnTo>
                    <a:pt x="497" y="862"/>
                  </a:lnTo>
                  <a:lnTo>
                    <a:pt x="509" y="859"/>
                  </a:lnTo>
                  <a:lnTo>
                    <a:pt x="520" y="857"/>
                  </a:lnTo>
                  <a:lnTo>
                    <a:pt x="530" y="855"/>
                  </a:lnTo>
                  <a:lnTo>
                    <a:pt x="538" y="857"/>
                  </a:lnTo>
                  <a:lnTo>
                    <a:pt x="544" y="859"/>
                  </a:lnTo>
                  <a:lnTo>
                    <a:pt x="551" y="860"/>
                  </a:lnTo>
                  <a:lnTo>
                    <a:pt x="555" y="864"/>
                  </a:lnTo>
                  <a:lnTo>
                    <a:pt x="558" y="869"/>
                  </a:lnTo>
                  <a:lnTo>
                    <a:pt x="562" y="873"/>
                  </a:lnTo>
                  <a:lnTo>
                    <a:pt x="563" y="878"/>
                  </a:lnTo>
                  <a:lnTo>
                    <a:pt x="564" y="881"/>
                  </a:lnTo>
                  <a:lnTo>
                    <a:pt x="565" y="887"/>
                  </a:lnTo>
                  <a:lnTo>
                    <a:pt x="566" y="890"/>
                  </a:lnTo>
                  <a:lnTo>
                    <a:pt x="566" y="894"/>
                  </a:lnTo>
                  <a:lnTo>
                    <a:pt x="565" y="897"/>
                  </a:lnTo>
                  <a:lnTo>
                    <a:pt x="565" y="899"/>
                  </a:lnTo>
                  <a:lnTo>
                    <a:pt x="566" y="897"/>
                  </a:lnTo>
                  <a:lnTo>
                    <a:pt x="568" y="895"/>
                  </a:lnTo>
                  <a:lnTo>
                    <a:pt x="573" y="890"/>
                  </a:lnTo>
                  <a:lnTo>
                    <a:pt x="578" y="885"/>
                  </a:lnTo>
                  <a:lnTo>
                    <a:pt x="585" y="878"/>
                  </a:lnTo>
                  <a:lnTo>
                    <a:pt x="592" y="869"/>
                  </a:lnTo>
                  <a:lnTo>
                    <a:pt x="599" y="860"/>
                  </a:lnTo>
                  <a:lnTo>
                    <a:pt x="607" y="852"/>
                  </a:lnTo>
                  <a:lnTo>
                    <a:pt x="615" y="843"/>
                  </a:lnTo>
                  <a:lnTo>
                    <a:pt x="622" y="834"/>
                  </a:lnTo>
                  <a:lnTo>
                    <a:pt x="629" y="827"/>
                  </a:lnTo>
                  <a:lnTo>
                    <a:pt x="636" y="818"/>
                  </a:lnTo>
                  <a:lnTo>
                    <a:pt x="641" y="813"/>
                  </a:lnTo>
                  <a:lnTo>
                    <a:pt x="645" y="808"/>
                  </a:lnTo>
                  <a:lnTo>
                    <a:pt x="648" y="806"/>
                  </a:lnTo>
                  <a:lnTo>
                    <a:pt x="649" y="804"/>
                  </a:lnTo>
                  <a:lnTo>
                    <a:pt x="645" y="796"/>
                  </a:lnTo>
                  <a:lnTo>
                    <a:pt x="637" y="769"/>
                  </a:lnTo>
                  <a:lnTo>
                    <a:pt x="623" y="731"/>
                  </a:lnTo>
                  <a:lnTo>
                    <a:pt x="606" y="678"/>
                  </a:lnTo>
                  <a:lnTo>
                    <a:pt x="586" y="618"/>
                  </a:lnTo>
                  <a:lnTo>
                    <a:pt x="562" y="550"/>
                  </a:lnTo>
                  <a:lnTo>
                    <a:pt x="538" y="478"/>
                  </a:lnTo>
                  <a:lnTo>
                    <a:pt x="512" y="403"/>
                  </a:lnTo>
                  <a:lnTo>
                    <a:pt x="487" y="328"/>
                  </a:lnTo>
                  <a:lnTo>
                    <a:pt x="462" y="256"/>
                  </a:lnTo>
                  <a:lnTo>
                    <a:pt x="439" y="187"/>
                  </a:lnTo>
                  <a:lnTo>
                    <a:pt x="418" y="125"/>
                  </a:lnTo>
                  <a:lnTo>
                    <a:pt x="400" y="75"/>
                  </a:lnTo>
                  <a:lnTo>
                    <a:pt x="387" y="34"/>
                  </a:lnTo>
                  <a:lnTo>
                    <a:pt x="378" y="10"/>
                  </a:lnTo>
                  <a:lnTo>
                    <a:pt x="375" y="0"/>
                  </a:lnTo>
                  <a:lnTo>
                    <a:pt x="37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95440" y="3043080"/>
              <a:ext cx="233640" cy="344880"/>
            </a:xfrm>
            <a:custGeom>
              <a:avLst/>
              <a:gdLst/>
              <a:ahLst/>
              <a:rect l="0" t="0" r="r" b="b"/>
              <a:pathLst>
                <a:path fill="none" w="649" h="958">
                  <a:moveTo>
                    <a:pt x="371" y="0"/>
                  </a:moveTo>
                  <a:lnTo>
                    <a:pt x="369" y="3"/>
                  </a:lnTo>
                  <a:lnTo>
                    <a:pt x="364" y="10"/>
                  </a:lnTo>
                  <a:lnTo>
                    <a:pt x="355" y="22"/>
                  </a:lnTo>
                  <a:lnTo>
                    <a:pt x="344" y="38"/>
                  </a:lnTo>
                  <a:lnTo>
                    <a:pt x="331" y="57"/>
                  </a:lnTo>
                  <a:lnTo>
                    <a:pt x="314" y="76"/>
                  </a:lnTo>
                  <a:lnTo>
                    <a:pt x="299" y="99"/>
                  </a:lnTo>
                  <a:lnTo>
                    <a:pt x="282" y="122"/>
                  </a:lnTo>
                  <a:lnTo>
                    <a:pt x="266" y="145"/>
                  </a:lnTo>
                  <a:lnTo>
                    <a:pt x="249" y="166"/>
                  </a:lnTo>
                  <a:lnTo>
                    <a:pt x="235" y="187"/>
                  </a:lnTo>
                  <a:lnTo>
                    <a:pt x="222" y="206"/>
                  </a:lnTo>
                  <a:lnTo>
                    <a:pt x="210" y="222"/>
                  </a:lnTo>
                  <a:lnTo>
                    <a:pt x="201" y="232"/>
                  </a:lnTo>
                  <a:lnTo>
                    <a:pt x="195" y="242"/>
                  </a:lnTo>
                  <a:lnTo>
                    <a:pt x="193" y="244"/>
                  </a:lnTo>
                  <a:lnTo>
                    <a:pt x="194" y="244"/>
                  </a:lnTo>
                  <a:lnTo>
                    <a:pt x="195" y="245"/>
                  </a:lnTo>
                  <a:lnTo>
                    <a:pt x="199" y="245"/>
                  </a:lnTo>
                  <a:lnTo>
                    <a:pt x="202" y="247"/>
                  </a:lnTo>
                  <a:lnTo>
                    <a:pt x="205" y="247"/>
                  </a:lnTo>
                  <a:lnTo>
                    <a:pt x="211" y="249"/>
                  </a:lnTo>
                  <a:lnTo>
                    <a:pt x="215" y="251"/>
                  </a:lnTo>
                  <a:lnTo>
                    <a:pt x="221" y="251"/>
                  </a:lnTo>
                  <a:lnTo>
                    <a:pt x="225" y="252"/>
                  </a:lnTo>
                  <a:lnTo>
                    <a:pt x="230" y="254"/>
                  </a:lnTo>
                  <a:lnTo>
                    <a:pt x="235" y="254"/>
                  </a:lnTo>
                  <a:lnTo>
                    <a:pt x="238" y="256"/>
                  </a:lnTo>
                  <a:lnTo>
                    <a:pt x="242" y="256"/>
                  </a:lnTo>
                  <a:lnTo>
                    <a:pt x="245" y="258"/>
                  </a:lnTo>
                  <a:lnTo>
                    <a:pt x="246" y="258"/>
                  </a:lnTo>
                  <a:lnTo>
                    <a:pt x="247" y="258"/>
                  </a:lnTo>
                  <a:lnTo>
                    <a:pt x="244" y="265"/>
                  </a:lnTo>
                  <a:lnTo>
                    <a:pt x="236" y="286"/>
                  </a:lnTo>
                  <a:lnTo>
                    <a:pt x="224" y="317"/>
                  </a:lnTo>
                  <a:lnTo>
                    <a:pt x="209" y="357"/>
                  </a:lnTo>
                  <a:lnTo>
                    <a:pt x="190" y="405"/>
                  </a:lnTo>
                  <a:lnTo>
                    <a:pt x="169" y="459"/>
                  </a:lnTo>
                  <a:lnTo>
                    <a:pt x="146" y="517"/>
                  </a:lnTo>
                  <a:lnTo>
                    <a:pt x="124" y="576"/>
                  </a:lnTo>
                  <a:lnTo>
                    <a:pt x="101" y="636"/>
                  </a:lnTo>
                  <a:lnTo>
                    <a:pt x="78" y="693"/>
                  </a:lnTo>
                  <a:lnTo>
                    <a:pt x="57" y="747"/>
                  </a:lnTo>
                  <a:lnTo>
                    <a:pt x="38" y="796"/>
                  </a:lnTo>
                  <a:lnTo>
                    <a:pt x="23" y="836"/>
                  </a:lnTo>
                  <a:lnTo>
                    <a:pt x="11" y="867"/>
                  </a:lnTo>
                  <a:lnTo>
                    <a:pt x="3" y="888"/>
                  </a:lnTo>
                  <a:lnTo>
                    <a:pt x="0" y="895"/>
                  </a:lnTo>
                  <a:lnTo>
                    <a:pt x="1" y="894"/>
                  </a:lnTo>
                  <a:lnTo>
                    <a:pt x="5" y="892"/>
                  </a:lnTo>
                  <a:lnTo>
                    <a:pt x="9" y="890"/>
                  </a:lnTo>
                  <a:lnTo>
                    <a:pt x="17" y="887"/>
                  </a:lnTo>
                  <a:lnTo>
                    <a:pt x="26" y="881"/>
                  </a:lnTo>
                  <a:lnTo>
                    <a:pt x="37" y="878"/>
                  </a:lnTo>
                  <a:lnTo>
                    <a:pt x="49" y="873"/>
                  </a:lnTo>
                  <a:lnTo>
                    <a:pt x="61" y="869"/>
                  </a:lnTo>
                  <a:lnTo>
                    <a:pt x="75" y="864"/>
                  </a:lnTo>
                  <a:lnTo>
                    <a:pt x="90" y="860"/>
                  </a:lnTo>
                  <a:lnTo>
                    <a:pt x="105" y="857"/>
                  </a:lnTo>
                  <a:lnTo>
                    <a:pt x="119" y="853"/>
                  </a:lnTo>
                  <a:lnTo>
                    <a:pt x="135" y="852"/>
                  </a:lnTo>
                  <a:lnTo>
                    <a:pt x="150" y="852"/>
                  </a:lnTo>
                  <a:lnTo>
                    <a:pt x="166" y="852"/>
                  </a:lnTo>
                  <a:lnTo>
                    <a:pt x="180" y="853"/>
                  </a:lnTo>
                  <a:lnTo>
                    <a:pt x="193" y="857"/>
                  </a:lnTo>
                  <a:lnTo>
                    <a:pt x="204" y="862"/>
                  </a:lnTo>
                  <a:lnTo>
                    <a:pt x="213" y="869"/>
                  </a:lnTo>
                  <a:lnTo>
                    <a:pt x="220" y="876"/>
                  </a:lnTo>
                  <a:lnTo>
                    <a:pt x="225" y="885"/>
                  </a:lnTo>
                  <a:lnTo>
                    <a:pt x="231" y="894"/>
                  </a:lnTo>
                  <a:lnTo>
                    <a:pt x="235" y="902"/>
                  </a:lnTo>
                  <a:lnTo>
                    <a:pt x="239" y="911"/>
                  </a:lnTo>
                  <a:lnTo>
                    <a:pt x="244" y="920"/>
                  </a:lnTo>
                  <a:lnTo>
                    <a:pt x="248" y="929"/>
                  </a:lnTo>
                  <a:lnTo>
                    <a:pt x="254" y="936"/>
                  </a:lnTo>
                  <a:lnTo>
                    <a:pt x="260" y="943"/>
                  </a:lnTo>
                  <a:lnTo>
                    <a:pt x="268" y="950"/>
                  </a:lnTo>
                  <a:lnTo>
                    <a:pt x="278" y="953"/>
                  </a:lnTo>
                  <a:lnTo>
                    <a:pt x="290" y="957"/>
                  </a:lnTo>
                  <a:lnTo>
                    <a:pt x="304" y="958"/>
                  </a:lnTo>
                  <a:lnTo>
                    <a:pt x="319" y="957"/>
                  </a:lnTo>
                  <a:lnTo>
                    <a:pt x="334" y="955"/>
                  </a:lnTo>
                  <a:lnTo>
                    <a:pt x="348" y="950"/>
                  </a:lnTo>
                  <a:lnTo>
                    <a:pt x="361" y="944"/>
                  </a:lnTo>
                  <a:lnTo>
                    <a:pt x="375" y="937"/>
                  </a:lnTo>
                  <a:lnTo>
                    <a:pt x="388" y="930"/>
                  </a:lnTo>
                  <a:lnTo>
                    <a:pt x="400" y="922"/>
                  </a:lnTo>
                  <a:lnTo>
                    <a:pt x="413" y="913"/>
                  </a:lnTo>
                  <a:lnTo>
                    <a:pt x="425" y="906"/>
                  </a:lnTo>
                  <a:lnTo>
                    <a:pt x="437" y="897"/>
                  </a:lnTo>
                  <a:lnTo>
                    <a:pt x="448" y="888"/>
                  </a:lnTo>
                  <a:lnTo>
                    <a:pt x="461" y="880"/>
                  </a:lnTo>
                  <a:lnTo>
                    <a:pt x="473" y="873"/>
                  </a:lnTo>
                  <a:lnTo>
                    <a:pt x="485" y="867"/>
                  </a:lnTo>
                  <a:lnTo>
                    <a:pt x="497" y="862"/>
                  </a:lnTo>
                  <a:lnTo>
                    <a:pt x="509" y="859"/>
                  </a:lnTo>
                  <a:lnTo>
                    <a:pt x="520" y="857"/>
                  </a:lnTo>
                  <a:lnTo>
                    <a:pt x="530" y="855"/>
                  </a:lnTo>
                  <a:lnTo>
                    <a:pt x="538" y="857"/>
                  </a:lnTo>
                  <a:lnTo>
                    <a:pt x="544" y="859"/>
                  </a:lnTo>
                  <a:lnTo>
                    <a:pt x="551" y="860"/>
                  </a:lnTo>
                  <a:lnTo>
                    <a:pt x="555" y="864"/>
                  </a:lnTo>
                  <a:lnTo>
                    <a:pt x="558" y="869"/>
                  </a:lnTo>
                  <a:lnTo>
                    <a:pt x="562" y="873"/>
                  </a:lnTo>
                  <a:lnTo>
                    <a:pt x="563" y="878"/>
                  </a:lnTo>
                  <a:lnTo>
                    <a:pt x="564" y="881"/>
                  </a:lnTo>
                  <a:lnTo>
                    <a:pt x="565" y="887"/>
                  </a:lnTo>
                  <a:lnTo>
                    <a:pt x="566" y="890"/>
                  </a:lnTo>
                  <a:lnTo>
                    <a:pt x="566" y="894"/>
                  </a:lnTo>
                  <a:lnTo>
                    <a:pt x="565" y="897"/>
                  </a:lnTo>
                  <a:lnTo>
                    <a:pt x="565" y="899"/>
                  </a:lnTo>
                  <a:lnTo>
                    <a:pt x="566" y="897"/>
                  </a:lnTo>
                  <a:lnTo>
                    <a:pt x="568" y="895"/>
                  </a:lnTo>
                  <a:lnTo>
                    <a:pt x="573" y="890"/>
                  </a:lnTo>
                  <a:lnTo>
                    <a:pt x="578" y="885"/>
                  </a:lnTo>
                  <a:lnTo>
                    <a:pt x="585" y="878"/>
                  </a:lnTo>
                  <a:lnTo>
                    <a:pt x="592" y="869"/>
                  </a:lnTo>
                  <a:lnTo>
                    <a:pt x="599" y="860"/>
                  </a:lnTo>
                  <a:lnTo>
                    <a:pt x="607" y="852"/>
                  </a:lnTo>
                  <a:lnTo>
                    <a:pt x="615" y="843"/>
                  </a:lnTo>
                  <a:lnTo>
                    <a:pt x="622" y="834"/>
                  </a:lnTo>
                  <a:lnTo>
                    <a:pt x="629" y="827"/>
                  </a:lnTo>
                  <a:lnTo>
                    <a:pt x="636" y="818"/>
                  </a:lnTo>
                  <a:lnTo>
                    <a:pt x="641" y="813"/>
                  </a:lnTo>
                  <a:lnTo>
                    <a:pt x="645" y="808"/>
                  </a:lnTo>
                  <a:lnTo>
                    <a:pt x="648" y="806"/>
                  </a:lnTo>
                  <a:lnTo>
                    <a:pt x="649" y="804"/>
                  </a:lnTo>
                  <a:lnTo>
                    <a:pt x="645" y="796"/>
                  </a:lnTo>
                  <a:lnTo>
                    <a:pt x="637" y="769"/>
                  </a:lnTo>
                  <a:lnTo>
                    <a:pt x="623" y="731"/>
                  </a:lnTo>
                  <a:lnTo>
                    <a:pt x="606" y="678"/>
                  </a:lnTo>
                  <a:lnTo>
                    <a:pt x="586" y="618"/>
                  </a:lnTo>
                  <a:lnTo>
                    <a:pt x="562" y="550"/>
                  </a:lnTo>
                  <a:lnTo>
                    <a:pt x="538" y="478"/>
                  </a:lnTo>
                  <a:lnTo>
                    <a:pt x="512" y="403"/>
                  </a:lnTo>
                  <a:lnTo>
                    <a:pt x="487" y="328"/>
                  </a:lnTo>
                  <a:lnTo>
                    <a:pt x="462" y="256"/>
                  </a:lnTo>
                  <a:lnTo>
                    <a:pt x="439" y="187"/>
                  </a:lnTo>
                  <a:lnTo>
                    <a:pt x="418" y="125"/>
                  </a:lnTo>
                  <a:lnTo>
                    <a:pt x="400" y="75"/>
                  </a:lnTo>
                  <a:lnTo>
                    <a:pt x="387" y="34"/>
                  </a:lnTo>
                  <a:lnTo>
                    <a:pt x="378" y="10"/>
                  </a:lnTo>
                  <a:lnTo>
                    <a:pt x="375" y="0"/>
                  </a:lnTo>
                  <a:lnTo>
                    <a:pt x="371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6600" y="2933640"/>
              <a:ext cx="168480" cy="159120"/>
            </a:xfrm>
            <a:custGeom>
              <a:avLst/>
              <a:gdLst/>
              <a:ahLst/>
              <a:rect l="0" t="0" r="r" b="b"/>
              <a:pathLst>
                <a:path w="468" h="442">
                  <a:moveTo>
                    <a:pt x="3" y="442"/>
                  </a:moveTo>
                  <a:lnTo>
                    <a:pt x="96" y="352"/>
                  </a:lnTo>
                  <a:lnTo>
                    <a:pt x="126" y="40"/>
                  </a:lnTo>
                  <a:lnTo>
                    <a:pt x="180" y="102"/>
                  </a:lnTo>
                  <a:lnTo>
                    <a:pt x="203" y="0"/>
                  </a:lnTo>
                  <a:lnTo>
                    <a:pt x="330" y="217"/>
                  </a:lnTo>
                  <a:lnTo>
                    <a:pt x="468" y="154"/>
                  </a:lnTo>
                  <a:lnTo>
                    <a:pt x="340" y="279"/>
                  </a:lnTo>
                  <a:lnTo>
                    <a:pt x="278" y="265"/>
                  </a:lnTo>
                  <a:lnTo>
                    <a:pt x="156" y="348"/>
                  </a:lnTo>
                  <a:lnTo>
                    <a:pt x="133" y="397"/>
                  </a:lnTo>
                  <a:lnTo>
                    <a:pt x="0" y="442"/>
                  </a:lnTo>
                  <a:lnTo>
                    <a:pt x="3" y="44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6600" y="2933640"/>
              <a:ext cx="168480" cy="159120"/>
            </a:xfrm>
            <a:custGeom>
              <a:avLst/>
              <a:gdLst/>
              <a:ahLst/>
              <a:rect l="0" t="0" r="r" b="b"/>
              <a:pathLst>
                <a:path fill="none" w="468" h="442">
                  <a:moveTo>
                    <a:pt x="3" y="442"/>
                  </a:moveTo>
                  <a:lnTo>
                    <a:pt x="96" y="352"/>
                  </a:lnTo>
                  <a:lnTo>
                    <a:pt x="126" y="40"/>
                  </a:lnTo>
                  <a:lnTo>
                    <a:pt x="180" y="102"/>
                  </a:lnTo>
                  <a:lnTo>
                    <a:pt x="203" y="0"/>
                  </a:lnTo>
                  <a:lnTo>
                    <a:pt x="330" y="217"/>
                  </a:lnTo>
                  <a:lnTo>
                    <a:pt x="468" y="154"/>
                  </a:lnTo>
                  <a:lnTo>
                    <a:pt x="340" y="279"/>
                  </a:lnTo>
                  <a:lnTo>
                    <a:pt x="278" y="265"/>
                  </a:lnTo>
                  <a:lnTo>
                    <a:pt x="156" y="348"/>
                  </a:lnTo>
                  <a:lnTo>
                    <a:pt x="133" y="397"/>
                  </a:lnTo>
                  <a:lnTo>
                    <a:pt x="0" y="442"/>
                  </a:lnTo>
                  <a:lnTo>
                    <a:pt x="3" y="44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8280" y="3170160"/>
              <a:ext cx="76680" cy="70200"/>
            </a:xfrm>
            <a:custGeom>
              <a:avLst/>
              <a:gdLst/>
              <a:ahLst/>
              <a:rect l="0" t="0" r="r" b="b"/>
              <a:pathLst>
                <a:path w="213" h="195">
                  <a:moveTo>
                    <a:pt x="62" y="89"/>
                  </a:moveTo>
                  <a:lnTo>
                    <a:pt x="9" y="146"/>
                  </a:lnTo>
                  <a:lnTo>
                    <a:pt x="0" y="152"/>
                  </a:lnTo>
                  <a:lnTo>
                    <a:pt x="80" y="0"/>
                  </a:lnTo>
                  <a:lnTo>
                    <a:pt x="195" y="104"/>
                  </a:lnTo>
                  <a:lnTo>
                    <a:pt x="213" y="195"/>
                  </a:lnTo>
                  <a:lnTo>
                    <a:pt x="111" y="90"/>
                  </a:lnTo>
                  <a:lnTo>
                    <a:pt x="93" y="138"/>
                  </a:lnTo>
                  <a:lnTo>
                    <a:pt x="66" y="123"/>
                  </a:lnTo>
                  <a:lnTo>
                    <a:pt x="61" y="89"/>
                  </a:lnTo>
                  <a:lnTo>
                    <a:pt x="62" y="8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38280" y="3170160"/>
              <a:ext cx="76680" cy="70200"/>
            </a:xfrm>
            <a:custGeom>
              <a:avLst/>
              <a:gdLst/>
              <a:ahLst/>
              <a:rect l="0" t="0" r="r" b="b"/>
              <a:pathLst>
                <a:path fill="none" w="213" h="195">
                  <a:moveTo>
                    <a:pt x="62" y="89"/>
                  </a:moveTo>
                  <a:lnTo>
                    <a:pt x="9" y="146"/>
                  </a:lnTo>
                  <a:lnTo>
                    <a:pt x="0" y="152"/>
                  </a:lnTo>
                  <a:lnTo>
                    <a:pt x="80" y="0"/>
                  </a:lnTo>
                  <a:lnTo>
                    <a:pt x="195" y="104"/>
                  </a:lnTo>
                  <a:lnTo>
                    <a:pt x="213" y="195"/>
                  </a:lnTo>
                  <a:lnTo>
                    <a:pt x="111" y="90"/>
                  </a:lnTo>
                  <a:lnTo>
                    <a:pt x="93" y="138"/>
                  </a:lnTo>
                  <a:lnTo>
                    <a:pt x="66" y="123"/>
                  </a:lnTo>
                  <a:lnTo>
                    <a:pt x="61" y="89"/>
                  </a:lnTo>
                  <a:lnTo>
                    <a:pt x="62" y="8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76360" y="3129120"/>
              <a:ext cx="109800" cy="111600"/>
            </a:xfrm>
            <a:custGeom>
              <a:avLst/>
              <a:gdLst/>
              <a:ahLst/>
              <a:rect l="0" t="0" r="r" b="b"/>
              <a:pathLst>
                <a:path w="305" h="310">
                  <a:moveTo>
                    <a:pt x="0" y="23"/>
                  </a:moveTo>
                  <a:lnTo>
                    <a:pt x="26" y="0"/>
                  </a:lnTo>
                  <a:lnTo>
                    <a:pt x="133" y="255"/>
                  </a:lnTo>
                  <a:lnTo>
                    <a:pt x="305" y="255"/>
                  </a:lnTo>
                  <a:lnTo>
                    <a:pt x="305" y="310"/>
                  </a:lnTo>
                  <a:lnTo>
                    <a:pt x="30" y="310"/>
                  </a:lnTo>
                  <a:lnTo>
                    <a:pt x="28" y="255"/>
                  </a:lnTo>
                  <a:lnTo>
                    <a:pt x="97" y="255"/>
                  </a:lnTo>
                  <a:lnTo>
                    <a:pt x="0" y="3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6360" y="3129120"/>
              <a:ext cx="109800" cy="111600"/>
            </a:xfrm>
            <a:custGeom>
              <a:avLst/>
              <a:gdLst/>
              <a:ahLst/>
              <a:rect l="0" t="0" r="r" b="b"/>
              <a:pathLst>
                <a:path fill="none" w="305" h="310">
                  <a:moveTo>
                    <a:pt x="0" y="23"/>
                  </a:moveTo>
                  <a:lnTo>
                    <a:pt x="26" y="0"/>
                  </a:lnTo>
                  <a:lnTo>
                    <a:pt x="133" y="255"/>
                  </a:lnTo>
                  <a:lnTo>
                    <a:pt x="305" y="255"/>
                  </a:lnTo>
                  <a:lnTo>
                    <a:pt x="305" y="310"/>
                  </a:lnTo>
                  <a:lnTo>
                    <a:pt x="30" y="310"/>
                  </a:lnTo>
                  <a:lnTo>
                    <a:pt x="28" y="255"/>
                  </a:lnTo>
                  <a:lnTo>
                    <a:pt x="97" y="255"/>
                  </a:lnTo>
                  <a:lnTo>
                    <a:pt x="0" y="30"/>
                  </a:lnTo>
                  <a:lnTo>
                    <a:pt x="0" y="2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85720" y="3952800"/>
            <a:ext cx="252720" cy="454320"/>
            <a:chOff x="585720" y="3952800"/>
            <a:chExt cx="252720" cy="454320"/>
          </a:xfrm>
        </p:grpSpPr>
        <p:sp>
          <p:nvSpPr>
            <p:cNvPr id="176" name=""/>
            <p:cNvSpPr/>
            <p:nvPr/>
          </p:nvSpPr>
          <p:spPr>
            <a:xfrm>
              <a:off x="665280" y="4081320"/>
              <a:ext cx="28800" cy="44640"/>
            </a:xfrm>
            <a:custGeom>
              <a:avLst/>
              <a:gdLst/>
              <a:ahLst/>
              <a:rect l="0" t="0" r="r" b="b"/>
              <a:pathLst>
                <a:path w="80" h="124">
                  <a:moveTo>
                    <a:pt x="0" y="56"/>
                  </a:moveTo>
                  <a:lnTo>
                    <a:pt x="13" y="61"/>
                  </a:lnTo>
                  <a:lnTo>
                    <a:pt x="19" y="79"/>
                  </a:lnTo>
                  <a:lnTo>
                    <a:pt x="16" y="124"/>
                  </a:lnTo>
                  <a:lnTo>
                    <a:pt x="26" y="88"/>
                  </a:lnTo>
                  <a:lnTo>
                    <a:pt x="36" y="48"/>
                  </a:lnTo>
                  <a:lnTo>
                    <a:pt x="60" y="48"/>
                  </a:lnTo>
                  <a:lnTo>
                    <a:pt x="80" y="0"/>
                  </a:lnTo>
                  <a:lnTo>
                    <a:pt x="51" y="0"/>
                  </a:lnTo>
                  <a:lnTo>
                    <a:pt x="0" y="53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65280" y="4081320"/>
              <a:ext cx="28800" cy="44640"/>
            </a:xfrm>
            <a:custGeom>
              <a:avLst/>
              <a:gdLst/>
              <a:ahLst/>
              <a:rect l="0" t="0" r="r" b="b"/>
              <a:pathLst>
                <a:path fill="none" w="80" h="124">
                  <a:moveTo>
                    <a:pt x="0" y="56"/>
                  </a:moveTo>
                  <a:lnTo>
                    <a:pt x="13" y="61"/>
                  </a:lnTo>
                  <a:lnTo>
                    <a:pt x="19" y="79"/>
                  </a:lnTo>
                  <a:lnTo>
                    <a:pt x="16" y="124"/>
                  </a:lnTo>
                  <a:lnTo>
                    <a:pt x="26" y="88"/>
                  </a:lnTo>
                  <a:lnTo>
                    <a:pt x="36" y="48"/>
                  </a:lnTo>
                  <a:lnTo>
                    <a:pt x="60" y="48"/>
                  </a:lnTo>
                  <a:lnTo>
                    <a:pt x="80" y="0"/>
                  </a:lnTo>
                  <a:lnTo>
                    <a:pt x="51" y="0"/>
                  </a:lnTo>
                  <a:lnTo>
                    <a:pt x="0" y="53"/>
                  </a:lnTo>
                  <a:lnTo>
                    <a:pt x="0" y="5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4800" y="4062240"/>
              <a:ext cx="233640" cy="344880"/>
            </a:xfrm>
            <a:custGeom>
              <a:avLst/>
              <a:gdLst/>
              <a:ahLst/>
              <a:rect l="0" t="0" r="r" b="b"/>
              <a:pathLst>
                <a:path w="649" h="958">
                  <a:moveTo>
                    <a:pt x="371" y="0"/>
                  </a:moveTo>
                  <a:lnTo>
                    <a:pt x="369" y="3"/>
                  </a:lnTo>
                  <a:lnTo>
                    <a:pt x="364" y="10"/>
                  </a:lnTo>
                  <a:lnTo>
                    <a:pt x="355" y="22"/>
                  </a:lnTo>
                  <a:lnTo>
                    <a:pt x="344" y="38"/>
                  </a:lnTo>
                  <a:lnTo>
                    <a:pt x="331" y="57"/>
                  </a:lnTo>
                  <a:lnTo>
                    <a:pt x="314" y="76"/>
                  </a:lnTo>
                  <a:lnTo>
                    <a:pt x="299" y="99"/>
                  </a:lnTo>
                  <a:lnTo>
                    <a:pt x="282" y="122"/>
                  </a:lnTo>
                  <a:lnTo>
                    <a:pt x="266" y="145"/>
                  </a:lnTo>
                  <a:lnTo>
                    <a:pt x="249" y="166"/>
                  </a:lnTo>
                  <a:lnTo>
                    <a:pt x="235" y="187"/>
                  </a:lnTo>
                  <a:lnTo>
                    <a:pt x="222" y="206"/>
                  </a:lnTo>
                  <a:lnTo>
                    <a:pt x="210" y="222"/>
                  </a:lnTo>
                  <a:lnTo>
                    <a:pt x="201" y="232"/>
                  </a:lnTo>
                  <a:lnTo>
                    <a:pt x="195" y="242"/>
                  </a:lnTo>
                  <a:lnTo>
                    <a:pt x="193" y="244"/>
                  </a:lnTo>
                  <a:lnTo>
                    <a:pt x="194" y="244"/>
                  </a:lnTo>
                  <a:lnTo>
                    <a:pt x="195" y="245"/>
                  </a:lnTo>
                  <a:lnTo>
                    <a:pt x="199" y="245"/>
                  </a:lnTo>
                  <a:lnTo>
                    <a:pt x="202" y="247"/>
                  </a:lnTo>
                  <a:lnTo>
                    <a:pt x="205" y="247"/>
                  </a:lnTo>
                  <a:lnTo>
                    <a:pt x="211" y="249"/>
                  </a:lnTo>
                  <a:lnTo>
                    <a:pt x="215" y="251"/>
                  </a:lnTo>
                  <a:lnTo>
                    <a:pt x="221" y="251"/>
                  </a:lnTo>
                  <a:lnTo>
                    <a:pt x="225" y="252"/>
                  </a:lnTo>
                  <a:lnTo>
                    <a:pt x="230" y="254"/>
                  </a:lnTo>
                  <a:lnTo>
                    <a:pt x="235" y="254"/>
                  </a:lnTo>
                  <a:lnTo>
                    <a:pt x="238" y="256"/>
                  </a:lnTo>
                  <a:lnTo>
                    <a:pt x="242" y="256"/>
                  </a:lnTo>
                  <a:lnTo>
                    <a:pt x="245" y="258"/>
                  </a:lnTo>
                  <a:lnTo>
                    <a:pt x="246" y="258"/>
                  </a:lnTo>
                  <a:lnTo>
                    <a:pt x="247" y="258"/>
                  </a:lnTo>
                  <a:lnTo>
                    <a:pt x="244" y="265"/>
                  </a:lnTo>
                  <a:lnTo>
                    <a:pt x="236" y="286"/>
                  </a:lnTo>
                  <a:lnTo>
                    <a:pt x="224" y="317"/>
                  </a:lnTo>
                  <a:lnTo>
                    <a:pt x="209" y="357"/>
                  </a:lnTo>
                  <a:lnTo>
                    <a:pt x="190" y="405"/>
                  </a:lnTo>
                  <a:lnTo>
                    <a:pt x="169" y="459"/>
                  </a:lnTo>
                  <a:lnTo>
                    <a:pt x="146" y="517"/>
                  </a:lnTo>
                  <a:lnTo>
                    <a:pt x="124" y="576"/>
                  </a:lnTo>
                  <a:lnTo>
                    <a:pt x="101" y="636"/>
                  </a:lnTo>
                  <a:lnTo>
                    <a:pt x="78" y="693"/>
                  </a:lnTo>
                  <a:lnTo>
                    <a:pt x="57" y="747"/>
                  </a:lnTo>
                  <a:lnTo>
                    <a:pt x="38" y="796"/>
                  </a:lnTo>
                  <a:lnTo>
                    <a:pt x="23" y="836"/>
                  </a:lnTo>
                  <a:lnTo>
                    <a:pt x="11" y="867"/>
                  </a:lnTo>
                  <a:lnTo>
                    <a:pt x="3" y="888"/>
                  </a:lnTo>
                  <a:lnTo>
                    <a:pt x="0" y="895"/>
                  </a:lnTo>
                  <a:lnTo>
                    <a:pt x="1" y="894"/>
                  </a:lnTo>
                  <a:lnTo>
                    <a:pt x="5" y="892"/>
                  </a:lnTo>
                  <a:lnTo>
                    <a:pt x="9" y="890"/>
                  </a:lnTo>
                  <a:lnTo>
                    <a:pt x="17" y="887"/>
                  </a:lnTo>
                  <a:lnTo>
                    <a:pt x="26" y="881"/>
                  </a:lnTo>
                  <a:lnTo>
                    <a:pt x="37" y="878"/>
                  </a:lnTo>
                  <a:lnTo>
                    <a:pt x="49" y="873"/>
                  </a:lnTo>
                  <a:lnTo>
                    <a:pt x="61" y="869"/>
                  </a:lnTo>
                  <a:lnTo>
                    <a:pt x="75" y="864"/>
                  </a:lnTo>
                  <a:lnTo>
                    <a:pt x="90" y="860"/>
                  </a:lnTo>
                  <a:lnTo>
                    <a:pt x="105" y="857"/>
                  </a:lnTo>
                  <a:lnTo>
                    <a:pt x="119" y="853"/>
                  </a:lnTo>
                  <a:lnTo>
                    <a:pt x="135" y="852"/>
                  </a:lnTo>
                  <a:lnTo>
                    <a:pt x="150" y="852"/>
                  </a:lnTo>
                  <a:lnTo>
                    <a:pt x="166" y="852"/>
                  </a:lnTo>
                  <a:lnTo>
                    <a:pt x="180" y="853"/>
                  </a:lnTo>
                  <a:lnTo>
                    <a:pt x="193" y="857"/>
                  </a:lnTo>
                  <a:lnTo>
                    <a:pt x="204" y="862"/>
                  </a:lnTo>
                  <a:lnTo>
                    <a:pt x="213" y="869"/>
                  </a:lnTo>
                  <a:lnTo>
                    <a:pt x="220" y="876"/>
                  </a:lnTo>
                  <a:lnTo>
                    <a:pt x="225" y="885"/>
                  </a:lnTo>
                  <a:lnTo>
                    <a:pt x="231" y="894"/>
                  </a:lnTo>
                  <a:lnTo>
                    <a:pt x="235" y="902"/>
                  </a:lnTo>
                  <a:lnTo>
                    <a:pt x="239" y="911"/>
                  </a:lnTo>
                  <a:lnTo>
                    <a:pt x="244" y="920"/>
                  </a:lnTo>
                  <a:lnTo>
                    <a:pt x="248" y="929"/>
                  </a:lnTo>
                  <a:lnTo>
                    <a:pt x="254" y="936"/>
                  </a:lnTo>
                  <a:lnTo>
                    <a:pt x="260" y="943"/>
                  </a:lnTo>
                  <a:lnTo>
                    <a:pt x="268" y="950"/>
                  </a:lnTo>
                  <a:lnTo>
                    <a:pt x="278" y="953"/>
                  </a:lnTo>
                  <a:lnTo>
                    <a:pt x="290" y="957"/>
                  </a:lnTo>
                  <a:lnTo>
                    <a:pt x="304" y="958"/>
                  </a:lnTo>
                  <a:lnTo>
                    <a:pt x="319" y="957"/>
                  </a:lnTo>
                  <a:lnTo>
                    <a:pt x="334" y="955"/>
                  </a:lnTo>
                  <a:lnTo>
                    <a:pt x="348" y="950"/>
                  </a:lnTo>
                  <a:lnTo>
                    <a:pt x="361" y="944"/>
                  </a:lnTo>
                  <a:lnTo>
                    <a:pt x="375" y="937"/>
                  </a:lnTo>
                  <a:lnTo>
                    <a:pt x="388" y="930"/>
                  </a:lnTo>
                  <a:lnTo>
                    <a:pt x="400" y="922"/>
                  </a:lnTo>
                  <a:lnTo>
                    <a:pt x="413" y="913"/>
                  </a:lnTo>
                  <a:lnTo>
                    <a:pt x="425" y="906"/>
                  </a:lnTo>
                  <a:lnTo>
                    <a:pt x="437" y="897"/>
                  </a:lnTo>
                  <a:lnTo>
                    <a:pt x="448" y="888"/>
                  </a:lnTo>
                  <a:lnTo>
                    <a:pt x="461" y="880"/>
                  </a:lnTo>
                  <a:lnTo>
                    <a:pt x="473" y="873"/>
                  </a:lnTo>
                  <a:lnTo>
                    <a:pt x="485" y="867"/>
                  </a:lnTo>
                  <a:lnTo>
                    <a:pt x="497" y="862"/>
                  </a:lnTo>
                  <a:lnTo>
                    <a:pt x="509" y="859"/>
                  </a:lnTo>
                  <a:lnTo>
                    <a:pt x="520" y="857"/>
                  </a:lnTo>
                  <a:lnTo>
                    <a:pt x="530" y="855"/>
                  </a:lnTo>
                  <a:lnTo>
                    <a:pt x="538" y="857"/>
                  </a:lnTo>
                  <a:lnTo>
                    <a:pt x="544" y="859"/>
                  </a:lnTo>
                  <a:lnTo>
                    <a:pt x="551" y="860"/>
                  </a:lnTo>
                  <a:lnTo>
                    <a:pt x="555" y="864"/>
                  </a:lnTo>
                  <a:lnTo>
                    <a:pt x="558" y="869"/>
                  </a:lnTo>
                  <a:lnTo>
                    <a:pt x="562" y="873"/>
                  </a:lnTo>
                  <a:lnTo>
                    <a:pt x="563" y="878"/>
                  </a:lnTo>
                  <a:lnTo>
                    <a:pt x="564" y="881"/>
                  </a:lnTo>
                  <a:lnTo>
                    <a:pt x="565" y="887"/>
                  </a:lnTo>
                  <a:lnTo>
                    <a:pt x="566" y="890"/>
                  </a:lnTo>
                  <a:lnTo>
                    <a:pt x="566" y="894"/>
                  </a:lnTo>
                  <a:lnTo>
                    <a:pt x="565" y="897"/>
                  </a:lnTo>
                  <a:lnTo>
                    <a:pt x="565" y="899"/>
                  </a:lnTo>
                  <a:lnTo>
                    <a:pt x="566" y="897"/>
                  </a:lnTo>
                  <a:lnTo>
                    <a:pt x="568" y="895"/>
                  </a:lnTo>
                  <a:lnTo>
                    <a:pt x="573" y="890"/>
                  </a:lnTo>
                  <a:lnTo>
                    <a:pt x="578" y="885"/>
                  </a:lnTo>
                  <a:lnTo>
                    <a:pt x="585" y="878"/>
                  </a:lnTo>
                  <a:lnTo>
                    <a:pt x="592" y="869"/>
                  </a:lnTo>
                  <a:lnTo>
                    <a:pt x="599" y="860"/>
                  </a:lnTo>
                  <a:lnTo>
                    <a:pt x="607" y="852"/>
                  </a:lnTo>
                  <a:lnTo>
                    <a:pt x="615" y="843"/>
                  </a:lnTo>
                  <a:lnTo>
                    <a:pt x="622" y="834"/>
                  </a:lnTo>
                  <a:lnTo>
                    <a:pt x="629" y="827"/>
                  </a:lnTo>
                  <a:lnTo>
                    <a:pt x="636" y="818"/>
                  </a:lnTo>
                  <a:lnTo>
                    <a:pt x="641" y="813"/>
                  </a:lnTo>
                  <a:lnTo>
                    <a:pt x="645" y="808"/>
                  </a:lnTo>
                  <a:lnTo>
                    <a:pt x="648" y="806"/>
                  </a:lnTo>
                  <a:lnTo>
                    <a:pt x="649" y="804"/>
                  </a:lnTo>
                  <a:lnTo>
                    <a:pt x="645" y="796"/>
                  </a:lnTo>
                  <a:lnTo>
                    <a:pt x="637" y="769"/>
                  </a:lnTo>
                  <a:lnTo>
                    <a:pt x="623" y="731"/>
                  </a:lnTo>
                  <a:lnTo>
                    <a:pt x="606" y="678"/>
                  </a:lnTo>
                  <a:lnTo>
                    <a:pt x="586" y="618"/>
                  </a:lnTo>
                  <a:lnTo>
                    <a:pt x="562" y="550"/>
                  </a:lnTo>
                  <a:lnTo>
                    <a:pt x="538" y="478"/>
                  </a:lnTo>
                  <a:lnTo>
                    <a:pt x="512" y="403"/>
                  </a:lnTo>
                  <a:lnTo>
                    <a:pt x="487" y="328"/>
                  </a:lnTo>
                  <a:lnTo>
                    <a:pt x="462" y="256"/>
                  </a:lnTo>
                  <a:lnTo>
                    <a:pt x="439" y="187"/>
                  </a:lnTo>
                  <a:lnTo>
                    <a:pt x="418" y="125"/>
                  </a:lnTo>
                  <a:lnTo>
                    <a:pt x="400" y="75"/>
                  </a:lnTo>
                  <a:lnTo>
                    <a:pt x="387" y="34"/>
                  </a:lnTo>
                  <a:lnTo>
                    <a:pt x="378" y="10"/>
                  </a:lnTo>
                  <a:lnTo>
                    <a:pt x="375" y="0"/>
                  </a:lnTo>
                  <a:lnTo>
                    <a:pt x="37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4800" y="4062240"/>
              <a:ext cx="233640" cy="344880"/>
            </a:xfrm>
            <a:custGeom>
              <a:avLst/>
              <a:gdLst/>
              <a:ahLst/>
              <a:rect l="0" t="0" r="r" b="b"/>
              <a:pathLst>
                <a:path fill="none" w="649" h="958">
                  <a:moveTo>
                    <a:pt x="371" y="0"/>
                  </a:moveTo>
                  <a:lnTo>
                    <a:pt x="369" y="3"/>
                  </a:lnTo>
                  <a:lnTo>
                    <a:pt x="364" y="10"/>
                  </a:lnTo>
                  <a:lnTo>
                    <a:pt x="355" y="22"/>
                  </a:lnTo>
                  <a:lnTo>
                    <a:pt x="344" y="38"/>
                  </a:lnTo>
                  <a:lnTo>
                    <a:pt x="331" y="57"/>
                  </a:lnTo>
                  <a:lnTo>
                    <a:pt x="314" y="76"/>
                  </a:lnTo>
                  <a:lnTo>
                    <a:pt x="299" y="99"/>
                  </a:lnTo>
                  <a:lnTo>
                    <a:pt x="282" y="122"/>
                  </a:lnTo>
                  <a:lnTo>
                    <a:pt x="266" y="145"/>
                  </a:lnTo>
                  <a:lnTo>
                    <a:pt x="249" y="166"/>
                  </a:lnTo>
                  <a:lnTo>
                    <a:pt x="235" y="187"/>
                  </a:lnTo>
                  <a:lnTo>
                    <a:pt x="222" y="206"/>
                  </a:lnTo>
                  <a:lnTo>
                    <a:pt x="210" y="222"/>
                  </a:lnTo>
                  <a:lnTo>
                    <a:pt x="201" y="232"/>
                  </a:lnTo>
                  <a:lnTo>
                    <a:pt x="195" y="242"/>
                  </a:lnTo>
                  <a:lnTo>
                    <a:pt x="193" y="244"/>
                  </a:lnTo>
                  <a:lnTo>
                    <a:pt x="194" y="244"/>
                  </a:lnTo>
                  <a:lnTo>
                    <a:pt x="195" y="245"/>
                  </a:lnTo>
                  <a:lnTo>
                    <a:pt x="199" y="245"/>
                  </a:lnTo>
                  <a:lnTo>
                    <a:pt x="202" y="247"/>
                  </a:lnTo>
                  <a:lnTo>
                    <a:pt x="205" y="247"/>
                  </a:lnTo>
                  <a:lnTo>
                    <a:pt x="211" y="249"/>
                  </a:lnTo>
                  <a:lnTo>
                    <a:pt x="215" y="251"/>
                  </a:lnTo>
                  <a:lnTo>
                    <a:pt x="221" y="251"/>
                  </a:lnTo>
                  <a:lnTo>
                    <a:pt x="225" y="252"/>
                  </a:lnTo>
                  <a:lnTo>
                    <a:pt x="230" y="254"/>
                  </a:lnTo>
                  <a:lnTo>
                    <a:pt x="235" y="254"/>
                  </a:lnTo>
                  <a:lnTo>
                    <a:pt x="238" y="256"/>
                  </a:lnTo>
                  <a:lnTo>
                    <a:pt x="242" y="256"/>
                  </a:lnTo>
                  <a:lnTo>
                    <a:pt x="245" y="258"/>
                  </a:lnTo>
                  <a:lnTo>
                    <a:pt x="246" y="258"/>
                  </a:lnTo>
                  <a:lnTo>
                    <a:pt x="247" y="258"/>
                  </a:lnTo>
                  <a:lnTo>
                    <a:pt x="244" y="265"/>
                  </a:lnTo>
                  <a:lnTo>
                    <a:pt x="236" y="286"/>
                  </a:lnTo>
                  <a:lnTo>
                    <a:pt x="224" y="317"/>
                  </a:lnTo>
                  <a:lnTo>
                    <a:pt x="209" y="357"/>
                  </a:lnTo>
                  <a:lnTo>
                    <a:pt x="190" y="405"/>
                  </a:lnTo>
                  <a:lnTo>
                    <a:pt x="169" y="459"/>
                  </a:lnTo>
                  <a:lnTo>
                    <a:pt x="146" y="517"/>
                  </a:lnTo>
                  <a:lnTo>
                    <a:pt x="124" y="576"/>
                  </a:lnTo>
                  <a:lnTo>
                    <a:pt x="101" y="636"/>
                  </a:lnTo>
                  <a:lnTo>
                    <a:pt x="78" y="693"/>
                  </a:lnTo>
                  <a:lnTo>
                    <a:pt x="57" y="747"/>
                  </a:lnTo>
                  <a:lnTo>
                    <a:pt x="38" y="796"/>
                  </a:lnTo>
                  <a:lnTo>
                    <a:pt x="23" y="836"/>
                  </a:lnTo>
                  <a:lnTo>
                    <a:pt x="11" y="867"/>
                  </a:lnTo>
                  <a:lnTo>
                    <a:pt x="3" y="888"/>
                  </a:lnTo>
                  <a:lnTo>
                    <a:pt x="0" y="895"/>
                  </a:lnTo>
                  <a:lnTo>
                    <a:pt x="1" y="894"/>
                  </a:lnTo>
                  <a:lnTo>
                    <a:pt x="5" y="892"/>
                  </a:lnTo>
                  <a:lnTo>
                    <a:pt x="9" y="890"/>
                  </a:lnTo>
                  <a:lnTo>
                    <a:pt x="17" y="887"/>
                  </a:lnTo>
                  <a:lnTo>
                    <a:pt x="26" y="881"/>
                  </a:lnTo>
                  <a:lnTo>
                    <a:pt x="37" y="878"/>
                  </a:lnTo>
                  <a:lnTo>
                    <a:pt x="49" y="873"/>
                  </a:lnTo>
                  <a:lnTo>
                    <a:pt x="61" y="869"/>
                  </a:lnTo>
                  <a:lnTo>
                    <a:pt x="75" y="864"/>
                  </a:lnTo>
                  <a:lnTo>
                    <a:pt x="90" y="860"/>
                  </a:lnTo>
                  <a:lnTo>
                    <a:pt x="105" y="857"/>
                  </a:lnTo>
                  <a:lnTo>
                    <a:pt x="119" y="853"/>
                  </a:lnTo>
                  <a:lnTo>
                    <a:pt x="135" y="852"/>
                  </a:lnTo>
                  <a:lnTo>
                    <a:pt x="150" y="852"/>
                  </a:lnTo>
                  <a:lnTo>
                    <a:pt x="166" y="852"/>
                  </a:lnTo>
                  <a:lnTo>
                    <a:pt x="180" y="853"/>
                  </a:lnTo>
                  <a:lnTo>
                    <a:pt x="193" y="857"/>
                  </a:lnTo>
                  <a:lnTo>
                    <a:pt x="204" y="862"/>
                  </a:lnTo>
                  <a:lnTo>
                    <a:pt x="213" y="869"/>
                  </a:lnTo>
                  <a:lnTo>
                    <a:pt x="220" y="876"/>
                  </a:lnTo>
                  <a:lnTo>
                    <a:pt x="225" y="885"/>
                  </a:lnTo>
                  <a:lnTo>
                    <a:pt x="231" y="894"/>
                  </a:lnTo>
                  <a:lnTo>
                    <a:pt x="235" y="902"/>
                  </a:lnTo>
                  <a:lnTo>
                    <a:pt x="239" y="911"/>
                  </a:lnTo>
                  <a:lnTo>
                    <a:pt x="244" y="920"/>
                  </a:lnTo>
                  <a:lnTo>
                    <a:pt x="248" y="929"/>
                  </a:lnTo>
                  <a:lnTo>
                    <a:pt x="254" y="936"/>
                  </a:lnTo>
                  <a:lnTo>
                    <a:pt x="260" y="943"/>
                  </a:lnTo>
                  <a:lnTo>
                    <a:pt x="268" y="950"/>
                  </a:lnTo>
                  <a:lnTo>
                    <a:pt x="278" y="953"/>
                  </a:lnTo>
                  <a:lnTo>
                    <a:pt x="290" y="957"/>
                  </a:lnTo>
                  <a:lnTo>
                    <a:pt x="304" y="958"/>
                  </a:lnTo>
                  <a:lnTo>
                    <a:pt x="319" y="957"/>
                  </a:lnTo>
                  <a:lnTo>
                    <a:pt x="334" y="955"/>
                  </a:lnTo>
                  <a:lnTo>
                    <a:pt x="348" y="950"/>
                  </a:lnTo>
                  <a:lnTo>
                    <a:pt x="361" y="944"/>
                  </a:lnTo>
                  <a:lnTo>
                    <a:pt x="375" y="937"/>
                  </a:lnTo>
                  <a:lnTo>
                    <a:pt x="388" y="930"/>
                  </a:lnTo>
                  <a:lnTo>
                    <a:pt x="400" y="922"/>
                  </a:lnTo>
                  <a:lnTo>
                    <a:pt x="413" y="913"/>
                  </a:lnTo>
                  <a:lnTo>
                    <a:pt x="425" y="906"/>
                  </a:lnTo>
                  <a:lnTo>
                    <a:pt x="437" y="897"/>
                  </a:lnTo>
                  <a:lnTo>
                    <a:pt x="448" y="888"/>
                  </a:lnTo>
                  <a:lnTo>
                    <a:pt x="461" y="880"/>
                  </a:lnTo>
                  <a:lnTo>
                    <a:pt x="473" y="873"/>
                  </a:lnTo>
                  <a:lnTo>
                    <a:pt x="485" y="867"/>
                  </a:lnTo>
                  <a:lnTo>
                    <a:pt x="497" y="862"/>
                  </a:lnTo>
                  <a:lnTo>
                    <a:pt x="509" y="859"/>
                  </a:lnTo>
                  <a:lnTo>
                    <a:pt x="520" y="857"/>
                  </a:lnTo>
                  <a:lnTo>
                    <a:pt x="530" y="855"/>
                  </a:lnTo>
                  <a:lnTo>
                    <a:pt x="538" y="857"/>
                  </a:lnTo>
                  <a:lnTo>
                    <a:pt x="544" y="859"/>
                  </a:lnTo>
                  <a:lnTo>
                    <a:pt x="551" y="860"/>
                  </a:lnTo>
                  <a:lnTo>
                    <a:pt x="555" y="864"/>
                  </a:lnTo>
                  <a:lnTo>
                    <a:pt x="558" y="869"/>
                  </a:lnTo>
                  <a:lnTo>
                    <a:pt x="562" y="873"/>
                  </a:lnTo>
                  <a:lnTo>
                    <a:pt x="563" y="878"/>
                  </a:lnTo>
                  <a:lnTo>
                    <a:pt x="564" y="881"/>
                  </a:lnTo>
                  <a:lnTo>
                    <a:pt x="565" y="887"/>
                  </a:lnTo>
                  <a:lnTo>
                    <a:pt x="566" y="890"/>
                  </a:lnTo>
                  <a:lnTo>
                    <a:pt x="566" y="894"/>
                  </a:lnTo>
                  <a:lnTo>
                    <a:pt x="565" y="897"/>
                  </a:lnTo>
                  <a:lnTo>
                    <a:pt x="565" y="899"/>
                  </a:lnTo>
                  <a:lnTo>
                    <a:pt x="566" y="897"/>
                  </a:lnTo>
                  <a:lnTo>
                    <a:pt x="568" y="895"/>
                  </a:lnTo>
                  <a:lnTo>
                    <a:pt x="573" y="890"/>
                  </a:lnTo>
                  <a:lnTo>
                    <a:pt x="578" y="885"/>
                  </a:lnTo>
                  <a:lnTo>
                    <a:pt x="585" y="878"/>
                  </a:lnTo>
                  <a:lnTo>
                    <a:pt x="592" y="869"/>
                  </a:lnTo>
                  <a:lnTo>
                    <a:pt x="599" y="860"/>
                  </a:lnTo>
                  <a:lnTo>
                    <a:pt x="607" y="852"/>
                  </a:lnTo>
                  <a:lnTo>
                    <a:pt x="615" y="843"/>
                  </a:lnTo>
                  <a:lnTo>
                    <a:pt x="622" y="834"/>
                  </a:lnTo>
                  <a:lnTo>
                    <a:pt x="629" y="827"/>
                  </a:lnTo>
                  <a:lnTo>
                    <a:pt x="636" y="818"/>
                  </a:lnTo>
                  <a:lnTo>
                    <a:pt x="641" y="813"/>
                  </a:lnTo>
                  <a:lnTo>
                    <a:pt x="645" y="808"/>
                  </a:lnTo>
                  <a:lnTo>
                    <a:pt x="648" y="806"/>
                  </a:lnTo>
                  <a:lnTo>
                    <a:pt x="649" y="804"/>
                  </a:lnTo>
                  <a:lnTo>
                    <a:pt x="645" y="796"/>
                  </a:lnTo>
                  <a:lnTo>
                    <a:pt x="637" y="769"/>
                  </a:lnTo>
                  <a:lnTo>
                    <a:pt x="623" y="731"/>
                  </a:lnTo>
                  <a:lnTo>
                    <a:pt x="606" y="678"/>
                  </a:lnTo>
                  <a:lnTo>
                    <a:pt x="586" y="618"/>
                  </a:lnTo>
                  <a:lnTo>
                    <a:pt x="562" y="550"/>
                  </a:lnTo>
                  <a:lnTo>
                    <a:pt x="538" y="478"/>
                  </a:lnTo>
                  <a:lnTo>
                    <a:pt x="512" y="403"/>
                  </a:lnTo>
                  <a:lnTo>
                    <a:pt x="487" y="328"/>
                  </a:lnTo>
                  <a:lnTo>
                    <a:pt x="462" y="256"/>
                  </a:lnTo>
                  <a:lnTo>
                    <a:pt x="439" y="187"/>
                  </a:lnTo>
                  <a:lnTo>
                    <a:pt x="418" y="125"/>
                  </a:lnTo>
                  <a:lnTo>
                    <a:pt x="400" y="75"/>
                  </a:lnTo>
                  <a:lnTo>
                    <a:pt x="387" y="34"/>
                  </a:lnTo>
                  <a:lnTo>
                    <a:pt x="378" y="10"/>
                  </a:lnTo>
                  <a:lnTo>
                    <a:pt x="375" y="0"/>
                  </a:lnTo>
                  <a:lnTo>
                    <a:pt x="371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5960" y="3952800"/>
              <a:ext cx="168480" cy="159120"/>
            </a:xfrm>
            <a:custGeom>
              <a:avLst/>
              <a:gdLst/>
              <a:ahLst/>
              <a:rect l="0" t="0" r="r" b="b"/>
              <a:pathLst>
                <a:path w="468" h="442">
                  <a:moveTo>
                    <a:pt x="3" y="442"/>
                  </a:moveTo>
                  <a:lnTo>
                    <a:pt x="96" y="352"/>
                  </a:lnTo>
                  <a:lnTo>
                    <a:pt x="126" y="40"/>
                  </a:lnTo>
                  <a:lnTo>
                    <a:pt x="180" y="102"/>
                  </a:lnTo>
                  <a:lnTo>
                    <a:pt x="203" y="0"/>
                  </a:lnTo>
                  <a:lnTo>
                    <a:pt x="330" y="217"/>
                  </a:lnTo>
                  <a:lnTo>
                    <a:pt x="468" y="154"/>
                  </a:lnTo>
                  <a:lnTo>
                    <a:pt x="340" y="279"/>
                  </a:lnTo>
                  <a:lnTo>
                    <a:pt x="278" y="265"/>
                  </a:lnTo>
                  <a:lnTo>
                    <a:pt x="156" y="348"/>
                  </a:lnTo>
                  <a:lnTo>
                    <a:pt x="133" y="397"/>
                  </a:lnTo>
                  <a:lnTo>
                    <a:pt x="0" y="442"/>
                  </a:lnTo>
                  <a:lnTo>
                    <a:pt x="3" y="44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5960" y="3952800"/>
              <a:ext cx="168480" cy="159120"/>
            </a:xfrm>
            <a:custGeom>
              <a:avLst/>
              <a:gdLst/>
              <a:ahLst/>
              <a:rect l="0" t="0" r="r" b="b"/>
              <a:pathLst>
                <a:path fill="none" w="468" h="442">
                  <a:moveTo>
                    <a:pt x="3" y="442"/>
                  </a:moveTo>
                  <a:lnTo>
                    <a:pt x="96" y="352"/>
                  </a:lnTo>
                  <a:lnTo>
                    <a:pt x="126" y="40"/>
                  </a:lnTo>
                  <a:lnTo>
                    <a:pt x="180" y="102"/>
                  </a:lnTo>
                  <a:lnTo>
                    <a:pt x="203" y="0"/>
                  </a:lnTo>
                  <a:lnTo>
                    <a:pt x="330" y="217"/>
                  </a:lnTo>
                  <a:lnTo>
                    <a:pt x="468" y="154"/>
                  </a:lnTo>
                  <a:lnTo>
                    <a:pt x="340" y="279"/>
                  </a:lnTo>
                  <a:lnTo>
                    <a:pt x="278" y="265"/>
                  </a:lnTo>
                  <a:lnTo>
                    <a:pt x="156" y="348"/>
                  </a:lnTo>
                  <a:lnTo>
                    <a:pt x="133" y="397"/>
                  </a:lnTo>
                  <a:lnTo>
                    <a:pt x="0" y="442"/>
                  </a:lnTo>
                  <a:lnTo>
                    <a:pt x="3" y="44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7640" y="4189320"/>
              <a:ext cx="76680" cy="70200"/>
            </a:xfrm>
            <a:custGeom>
              <a:avLst/>
              <a:gdLst/>
              <a:ahLst/>
              <a:rect l="0" t="0" r="r" b="b"/>
              <a:pathLst>
                <a:path w="213" h="195">
                  <a:moveTo>
                    <a:pt x="62" y="89"/>
                  </a:moveTo>
                  <a:lnTo>
                    <a:pt x="9" y="146"/>
                  </a:lnTo>
                  <a:lnTo>
                    <a:pt x="0" y="152"/>
                  </a:lnTo>
                  <a:lnTo>
                    <a:pt x="80" y="0"/>
                  </a:lnTo>
                  <a:lnTo>
                    <a:pt x="195" y="104"/>
                  </a:lnTo>
                  <a:lnTo>
                    <a:pt x="213" y="195"/>
                  </a:lnTo>
                  <a:lnTo>
                    <a:pt x="111" y="90"/>
                  </a:lnTo>
                  <a:lnTo>
                    <a:pt x="93" y="138"/>
                  </a:lnTo>
                  <a:lnTo>
                    <a:pt x="66" y="123"/>
                  </a:lnTo>
                  <a:lnTo>
                    <a:pt x="61" y="89"/>
                  </a:lnTo>
                  <a:lnTo>
                    <a:pt x="62" y="8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7640" y="4189320"/>
              <a:ext cx="76680" cy="70200"/>
            </a:xfrm>
            <a:custGeom>
              <a:avLst/>
              <a:gdLst/>
              <a:ahLst/>
              <a:rect l="0" t="0" r="r" b="b"/>
              <a:pathLst>
                <a:path fill="none" w="213" h="195">
                  <a:moveTo>
                    <a:pt x="62" y="89"/>
                  </a:moveTo>
                  <a:lnTo>
                    <a:pt x="9" y="146"/>
                  </a:lnTo>
                  <a:lnTo>
                    <a:pt x="0" y="152"/>
                  </a:lnTo>
                  <a:lnTo>
                    <a:pt x="80" y="0"/>
                  </a:lnTo>
                  <a:lnTo>
                    <a:pt x="195" y="104"/>
                  </a:lnTo>
                  <a:lnTo>
                    <a:pt x="213" y="195"/>
                  </a:lnTo>
                  <a:lnTo>
                    <a:pt x="111" y="90"/>
                  </a:lnTo>
                  <a:lnTo>
                    <a:pt x="93" y="138"/>
                  </a:lnTo>
                  <a:lnTo>
                    <a:pt x="66" y="123"/>
                  </a:lnTo>
                  <a:lnTo>
                    <a:pt x="61" y="89"/>
                  </a:lnTo>
                  <a:lnTo>
                    <a:pt x="62" y="8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85720" y="4148280"/>
              <a:ext cx="109800" cy="111600"/>
            </a:xfrm>
            <a:custGeom>
              <a:avLst/>
              <a:gdLst/>
              <a:ahLst/>
              <a:rect l="0" t="0" r="r" b="b"/>
              <a:pathLst>
                <a:path w="305" h="310">
                  <a:moveTo>
                    <a:pt x="0" y="23"/>
                  </a:moveTo>
                  <a:lnTo>
                    <a:pt x="26" y="0"/>
                  </a:lnTo>
                  <a:lnTo>
                    <a:pt x="133" y="255"/>
                  </a:lnTo>
                  <a:lnTo>
                    <a:pt x="305" y="255"/>
                  </a:lnTo>
                  <a:lnTo>
                    <a:pt x="305" y="310"/>
                  </a:lnTo>
                  <a:lnTo>
                    <a:pt x="30" y="310"/>
                  </a:lnTo>
                  <a:lnTo>
                    <a:pt x="28" y="255"/>
                  </a:lnTo>
                  <a:lnTo>
                    <a:pt x="97" y="255"/>
                  </a:lnTo>
                  <a:lnTo>
                    <a:pt x="0" y="3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5720" y="4148280"/>
              <a:ext cx="109800" cy="111600"/>
            </a:xfrm>
            <a:custGeom>
              <a:avLst/>
              <a:gdLst/>
              <a:ahLst/>
              <a:rect l="0" t="0" r="r" b="b"/>
              <a:pathLst>
                <a:path fill="none" w="305" h="310">
                  <a:moveTo>
                    <a:pt x="0" y="23"/>
                  </a:moveTo>
                  <a:lnTo>
                    <a:pt x="26" y="0"/>
                  </a:lnTo>
                  <a:lnTo>
                    <a:pt x="133" y="255"/>
                  </a:lnTo>
                  <a:lnTo>
                    <a:pt x="305" y="255"/>
                  </a:lnTo>
                  <a:lnTo>
                    <a:pt x="305" y="310"/>
                  </a:lnTo>
                  <a:lnTo>
                    <a:pt x="30" y="310"/>
                  </a:lnTo>
                  <a:lnTo>
                    <a:pt x="28" y="255"/>
                  </a:lnTo>
                  <a:lnTo>
                    <a:pt x="97" y="255"/>
                  </a:lnTo>
                  <a:lnTo>
                    <a:pt x="0" y="30"/>
                  </a:lnTo>
                  <a:lnTo>
                    <a:pt x="0" y="2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566640" y="4991040"/>
            <a:ext cx="252720" cy="454320"/>
            <a:chOff x="566640" y="4991040"/>
            <a:chExt cx="252720" cy="454320"/>
          </a:xfrm>
        </p:grpSpPr>
        <p:sp>
          <p:nvSpPr>
            <p:cNvPr id="187" name=""/>
            <p:cNvSpPr/>
            <p:nvPr/>
          </p:nvSpPr>
          <p:spPr>
            <a:xfrm>
              <a:off x="646200" y="5119560"/>
              <a:ext cx="28800" cy="44640"/>
            </a:xfrm>
            <a:custGeom>
              <a:avLst/>
              <a:gdLst/>
              <a:ahLst/>
              <a:rect l="0" t="0" r="r" b="b"/>
              <a:pathLst>
                <a:path w="80" h="124">
                  <a:moveTo>
                    <a:pt x="0" y="56"/>
                  </a:moveTo>
                  <a:lnTo>
                    <a:pt x="13" y="61"/>
                  </a:lnTo>
                  <a:lnTo>
                    <a:pt x="19" y="79"/>
                  </a:lnTo>
                  <a:lnTo>
                    <a:pt x="16" y="124"/>
                  </a:lnTo>
                  <a:lnTo>
                    <a:pt x="26" y="88"/>
                  </a:lnTo>
                  <a:lnTo>
                    <a:pt x="36" y="48"/>
                  </a:lnTo>
                  <a:lnTo>
                    <a:pt x="60" y="48"/>
                  </a:lnTo>
                  <a:lnTo>
                    <a:pt x="80" y="0"/>
                  </a:lnTo>
                  <a:lnTo>
                    <a:pt x="51" y="0"/>
                  </a:lnTo>
                  <a:lnTo>
                    <a:pt x="0" y="53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6200" y="5119560"/>
              <a:ext cx="28800" cy="44640"/>
            </a:xfrm>
            <a:custGeom>
              <a:avLst/>
              <a:gdLst/>
              <a:ahLst/>
              <a:rect l="0" t="0" r="r" b="b"/>
              <a:pathLst>
                <a:path fill="none" w="80" h="124">
                  <a:moveTo>
                    <a:pt x="0" y="56"/>
                  </a:moveTo>
                  <a:lnTo>
                    <a:pt x="13" y="61"/>
                  </a:lnTo>
                  <a:lnTo>
                    <a:pt x="19" y="79"/>
                  </a:lnTo>
                  <a:lnTo>
                    <a:pt x="16" y="124"/>
                  </a:lnTo>
                  <a:lnTo>
                    <a:pt x="26" y="88"/>
                  </a:lnTo>
                  <a:lnTo>
                    <a:pt x="36" y="48"/>
                  </a:lnTo>
                  <a:lnTo>
                    <a:pt x="60" y="48"/>
                  </a:lnTo>
                  <a:lnTo>
                    <a:pt x="80" y="0"/>
                  </a:lnTo>
                  <a:lnTo>
                    <a:pt x="51" y="0"/>
                  </a:lnTo>
                  <a:lnTo>
                    <a:pt x="0" y="53"/>
                  </a:lnTo>
                  <a:lnTo>
                    <a:pt x="0" y="5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85720" y="5100480"/>
              <a:ext cx="233640" cy="344880"/>
            </a:xfrm>
            <a:custGeom>
              <a:avLst/>
              <a:gdLst/>
              <a:ahLst/>
              <a:rect l="0" t="0" r="r" b="b"/>
              <a:pathLst>
                <a:path w="649" h="958">
                  <a:moveTo>
                    <a:pt x="371" y="0"/>
                  </a:moveTo>
                  <a:lnTo>
                    <a:pt x="369" y="3"/>
                  </a:lnTo>
                  <a:lnTo>
                    <a:pt x="364" y="10"/>
                  </a:lnTo>
                  <a:lnTo>
                    <a:pt x="355" y="22"/>
                  </a:lnTo>
                  <a:lnTo>
                    <a:pt x="344" y="38"/>
                  </a:lnTo>
                  <a:lnTo>
                    <a:pt x="331" y="57"/>
                  </a:lnTo>
                  <a:lnTo>
                    <a:pt x="314" y="76"/>
                  </a:lnTo>
                  <a:lnTo>
                    <a:pt x="299" y="99"/>
                  </a:lnTo>
                  <a:lnTo>
                    <a:pt x="282" y="122"/>
                  </a:lnTo>
                  <a:lnTo>
                    <a:pt x="266" y="145"/>
                  </a:lnTo>
                  <a:lnTo>
                    <a:pt x="249" y="166"/>
                  </a:lnTo>
                  <a:lnTo>
                    <a:pt x="235" y="187"/>
                  </a:lnTo>
                  <a:lnTo>
                    <a:pt x="222" y="206"/>
                  </a:lnTo>
                  <a:lnTo>
                    <a:pt x="210" y="222"/>
                  </a:lnTo>
                  <a:lnTo>
                    <a:pt x="201" y="232"/>
                  </a:lnTo>
                  <a:lnTo>
                    <a:pt x="195" y="242"/>
                  </a:lnTo>
                  <a:lnTo>
                    <a:pt x="193" y="244"/>
                  </a:lnTo>
                  <a:lnTo>
                    <a:pt x="194" y="244"/>
                  </a:lnTo>
                  <a:lnTo>
                    <a:pt x="195" y="245"/>
                  </a:lnTo>
                  <a:lnTo>
                    <a:pt x="199" y="245"/>
                  </a:lnTo>
                  <a:lnTo>
                    <a:pt x="202" y="247"/>
                  </a:lnTo>
                  <a:lnTo>
                    <a:pt x="205" y="247"/>
                  </a:lnTo>
                  <a:lnTo>
                    <a:pt x="211" y="249"/>
                  </a:lnTo>
                  <a:lnTo>
                    <a:pt x="215" y="251"/>
                  </a:lnTo>
                  <a:lnTo>
                    <a:pt x="221" y="251"/>
                  </a:lnTo>
                  <a:lnTo>
                    <a:pt x="225" y="252"/>
                  </a:lnTo>
                  <a:lnTo>
                    <a:pt x="230" y="254"/>
                  </a:lnTo>
                  <a:lnTo>
                    <a:pt x="235" y="254"/>
                  </a:lnTo>
                  <a:lnTo>
                    <a:pt x="238" y="256"/>
                  </a:lnTo>
                  <a:lnTo>
                    <a:pt x="242" y="256"/>
                  </a:lnTo>
                  <a:lnTo>
                    <a:pt x="245" y="258"/>
                  </a:lnTo>
                  <a:lnTo>
                    <a:pt x="246" y="258"/>
                  </a:lnTo>
                  <a:lnTo>
                    <a:pt x="247" y="258"/>
                  </a:lnTo>
                  <a:lnTo>
                    <a:pt x="244" y="265"/>
                  </a:lnTo>
                  <a:lnTo>
                    <a:pt x="236" y="286"/>
                  </a:lnTo>
                  <a:lnTo>
                    <a:pt x="224" y="317"/>
                  </a:lnTo>
                  <a:lnTo>
                    <a:pt x="209" y="357"/>
                  </a:lnTo>
                  <a:lnTo>
                    <a:pt x="190" y="405"/>
                  </a:lnTo>
                  <a:lnTo>
                    <a:pt x="169" y="459"/>
                  </a:lnTo>
                  <a:lnTo>
                    <a:pt x="146" y="517"/>
                  </a:lnTo>
                  <a:lnTo>
                    <a:pt x="124" y="576"/>
                  </a:lnTo>
                  <a:lnTo>
                    <a:pt x="101" y="636"/>
                  </a:lnTo>
                  <a:lnTo>
                    <a:pt x="78" y="693"/>
                  </a:lnTo>
                  <a:lnTo>
                    <a:pt x="57" y="747"/>
                  </a:lnTo>
                  <a:lnTo>
                    <a:pt x="38" y="796"/>
                  </a:lnTo>
                  <a:lnTo>
                    <a:pt x="23" y="836"/>
                  </a:lnTo>
                  <a:lnTo>
                    <a:pt x="11" y="867"/>
                  </a:lnTo>
                  <a:lnTo>
                    <a:pt x="3" y="888"/>
                  </a:lnTo>
                  <a:lnTo>
                    <a:pt x="0" y="895"/>
                  </a:lnTo>
                  <a:lnTo>
                    <a:pt x="1" y="894"/>
                  </a:lnTo>
                  <a:lnTo>
                    <a:pt x="5" y="892"/>
                  </a:lnTo>
                  <a:lnTo>
                    <a:pt x="9" y="890"/>
                  </a:lnTo>
                  <a:lnTo>
                    <a:pt x="17" y="887"/>
                  </a:lnTo>
                  <a:lnTo>
                    <a:pt x="26" y="881"/>
                  </a:lnTo>
                  <a:lnTo>
                    <a:pt x="37" y="878"/>
                  </a:lnTo>
                  <a:lnTo>
                    <a:pt x="49" y="873"/>
                  </a:lnTo>
                  <a:lnTo>
                    <a:pt x="61" y="869"/>
                  </a:lnTo>
                  <a:lnTo>
                    <a:pt x="75" y="864"/>
                  </a:lnTo>
                  <a:lnTo>
                    <a:pt x="90" y="860"/>
                  </a:lnTo>
                  <a:lnTo>
                    <a:pt x="105" y="857"/>
                  </a:lnTo>
                  <a:lnTo>
                    <a:pt x="119" y="853"/>
                  </a:lnTo>
                  <a:lnTo>
                    <a:pt x="135" y="852"/>
                  </a:lnTo>
                  <a:lnTo>
                    <a:pt x="150" y="852"/>
                  </a:lnTo>
                  <a:lnTo>
                    <a:pt x="166" y="852"/>
                  </a:lnTo>
                  <a:lnTo>
                    <a:pt x="180" y="853"/>
                  </a:lnTo>
                  <a:lnTo>
                    <a:pt x="193" y="857"/>
                  </a:lnTo>
                  <a:lnTo>
                    <a:pt x="204" y="862"/>
                  </a:lnTo>
                  <a:lnTo>
                    <a:pt x="213" y="869"/>
                  </a:lnTo>
                  <a:lnTo>
                    <a:pt x="220" y="876"/>
                  </a:lnTo>
                  <a:lnTo>
                    <a:pt x="225" y="885"/>
                  </a:lnTo>
                  <a:lnTo>
                    <a:pt x="231" y="894"/>
                  </a:lnTo>
                  <a:lnTo>
                    <a:pt x="235" y="902"/>
                  </a:lnTo>
                  <a:lnTo>
                    <a:pt x="239" y="911"/>
                  </a:lnTo>
                  <a:lnTo>
                    <a:pt x="244" y="920"/>
                  </a:lnTo>
                  <a:lnTo>
                    <a:pt x="248" y="929"/>
                  </a:lnTo>
                  <a:lnTo>
                    <a:pt x="254" y="936"/>
                  </a:lnTo>
                  <a:lnTo>
                    <a:pt x="260" y="943"/>
                  </a:lnTo>
                  <a:lnTo>
                    <a:pt x="268" y="950"/>
                  </a:lnTo>
                  <a:lnTo>
                    <a:pt x="278" y="953"/>
                  </a:lnTo>
                  <a:lnTo>
                    <a:pt x="290" y="957"/>
                  </a:lnTo>
                  <a:lnTo>
                    <a:pt x="304" y="958"/>
                  </a:lnTo>
                  <a:lnTo>
                    <a:pt x="319" y="957"/>
                  </a:lnTo>
                  <a:lnTo>
                    <a:pt x="334" y="955"/>
                  </a:lnTo>
                  <a:lnTo>
                    <a:pt x="348" y="950"/>
                  </a:lnTo>
                  <a:lnTo>
                    <a:pt x="361" y="944"/>
                  </a:lnTo>
                  <a:lnTo>
                    <a:pt x="375" y="937"/>
                  </a:lnTo>
                  <a:lnTo>
                    <a:pt x="388" y="930"/>
                  </a:lnTo>
                  <a:lnTo>
                    <a:pt x="400" y="922"/>
                  </a:lnTo>
                  <a:lnTo>
                    <a:pt x="413" y="913"/>
                  </a:lnTo>
                  <a:lnTo>
                    <a:pt x="425" y="906"/>
                  </a:lnTo>
                  <a:lnTo>
                    <a:pt x="437" y="897"/>
                  </a:lnTo>
                  <a:lnTo>
                    <a:pt x="448" y="888"/>
                  </a:lnTo>
                  <a:lnTo>
                    <a:pt x="461" y="880"/>
                  </a:lnTo>
                  <a:lnTo>
                    <a:pt x="473" y="873"/>
                  </a:lnTo>
                  <a:lnTo>
                    <a:pt x="485" y="867"/>
                  </a:lnTo>
                  <a:lnTo>
                    <a:pt x="497" y="862"/>
                  </a:lnTo>
                  <a:lnTo>
                    <a:pt x="509" y="859"/>
                  </a:lnTo>
                  <a:lnTo>
                    <a:pt x="520" y="857"/>
                  </a:lnTo>
                  <a:lnTo>
                    <a:pt x="530" y="855"/>
                  </a:lnTo>
                  <a:lnTo>
                    <a:pt x="538" y="857"/>
                  </a:lnTo>
                  <a:lnTo>
                    <a:pt x="544" y="859"/>
                  </a:lnTo>
                  <a:lnTo>
                    <a:pt x="551" y="860"/>
                  </a:lnTo>
                  <a:lnTo>
                    <a:pt x="555" y="864"/>
                  </a:lnTo>
                  <a:lnTo>
                    <a:pt x="558" y="869"/>
                  </a:lnTo>
                  <a:lnTo>
                    <a:pt x="562" y="873"/>
                  </a:lnTo>
                  <a:lnTo>
                    <a:pt x="563" y="878"/>
                  </a:lnTo>
                  <a:lnTo>
                    <a:pt x="564" y="881"/>
                  </a:lnTo>
                  <a:lnTo>
                    <a:pt x="565" y="887"/>
                  </a:lnTo>
                  <a:lnTo>
                    <a:pt x="566" y="890"/>
                  </a:lnTo>
                  <a:lnTo>
                    <a:pt x="566" y="894"/>
                  </a:lnTo>
                  <a:lnTo>
                    <a:pt x="565" y="897"/>
                  </a:lnTo>
                  <a:lnTo>
                    <a:pt x="565" y="899"/>
                  </a:lnTo>
                  <a:lnTo>
                    <a:pt x="566" y="897"/>
                  </a:lnTo>
                  <a:lnTo>
                    <a:pt x="568" y="895"/>
                  </a:lnTo>
                  <a:lnTo>
                    <a:pt x="573" y="890"/>
                  </a:lnTo>
                  <a:lnTo>
                    <a:pt x="578" y="885"/>
                  </a:lnTo>
                  <a:lnTo>
                    <a:pt x="585" y="878"/>
                  </a:lnTo>
                  <a:lnTo>
                    <a:pt x="592" y="869"/>
                  </a:lnTo>
                  <a:lnTo>
                    <a:pt x="599" y="860"/>
                  </a:lnTo>
                  <a:lnTo>
                    <a:pt x="607" y="852"/>
                  </a:lnTo>
                  <a:lnTo>
                    <a:pt x="615" y="843"/>
                  </a:lnTo>
                  <a:lnTo>
                    <a:pt x="622" y="834"/>
                  </a:lnTo>
                  <a:lnTo>
                    <a:pt x="629" y="827"/>
                  </a:lnTo>
                  <a:lnTo>
                    <a:pt x="636" y="818"/>
                  </a:lnTo>
                  <a:lnTo>
                    <a:pt x="641" y="813"/>
                  </a:lnTo>
                  <a:lnTo>
                    <a:pt x="645" y="808"/>
                  </a:lnTo>
                  <a:lnTo>
                    <a:pt x="648" y="806"/>
                  </a:lnTo>
                  <a:lnTo>
                    <a:pt x="649" y="804"/>
                  </a:lnTo>
                  <a:lnTo>
                    <a:pt x="645" y="796"/>
                  </a:lnTo>
                  <a:lnTo>
                    <a:pt x="637" y="769"/>
                  </a:lnTo>
                  <a:lnTo>
                    <a:pt x="623" y="731"/>
                  </a:lnTo>
                  <a:lnTo>
                    <a:pt x="606" y="678"/>
                  </a:lnTo>
                  <a:lnTo>
                    <a:pt x="586" y="618"/>
                  </a:lnTo>
                  <a:lnTo>
                    <a:pt x="562" y="550"/>
                  </a:lnTo>
                  <a:lnTo>
                    <a:pt x="538" y="478"/>
                  </a:lnTo>
                  <a:lnTo>
                    <a:pt x="512" y="403"/>
                  </a:lnTo>
                  <a:lnTo>
                    <a:pt x="487" y="328"/>
                  </a:lnTo>
                  <a:lnTo>
                    <a:pt x="462" y="256"/>
                  </a:lnTo>
                  <a:lnTo>
                    <a:pt x="439" y="187"/>
                  </a:lnTo>
                  <a:lnTo>
                    <a:pt x="418" y="125"/>
                  </a:lnTo>
                  <a:lnTo>
                    <a:pt x="400" y="75"/>
                  </a:lnTo>
                  <a:lnTo>
                    <a:pt x="387" y="34"/>
                  </a:lnTo>
                  <a:lnTo>
                    <a:pt x="378" y="10"/>
                  </a:lnTo>
                  <a:lnTo>
                    <a:pt x="375" y="0"/>
                  </a:lnTo>
                  <a:lnTo>
                    <a:pt x="37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5720" y="5100480"/>
              <a:ext cx="233640" cy="344880"/>
            </a:xfrm>
            <a:custGeom>
              <a:avLst/>
              <a:gdLst/>
              <a:ahLst/>
              <a:rect l="0" t="0" r="r" b="b"/>
              <a:pathLst>
                <a:path fill="none" w="649" h="958">
                  <a:moveTo>
                    <a:pt x="371" y="0"/>
                  </a:moveTo>
                  <a:lnTo>
                    <a:pt x="369" y="3"/>
                  </a:lnTo>
                  <a:lnTo>
                    <a:pt x="364" y="10"/>
                  </a:lnTo>
                  <a:lnTo>
                    <a:pt x="355" y="22"/>
                  </a:lnTo>
                  <a:lnTo>
                    <a:pt x="344" y="38"/>
                  </a:lnTo>
                  <a:lnTo>
                    <a:pt x="331" y="57"/>
                  </a:lnTo>
                  <a:lnTo>
                    <a:pt x="314" y="76"/>
                  </a:lnTo>
                  <a:lnTo>
                    <a:pt x="299" y="99"/>
                  </a:lnTo>
                  <a:lnTo>
                    <a:pt x="282" y="122"/>
                  </a:lnTo>
                  <a:lnTo>
                    <a:pt x="266" y="145"/>
                  </a:lnTo>
                  <a:lnTo>
                    <a:pt x="249" y="166"/>
                  </a:lnTo>
                  <a:lnTo>
                    <a:pt x="235" y="187"/>
                  </a:lnTo>
                  <a:lnTo>
                    <a:pt x="222" y="206"/>
                  </a:lnTo>
                  <a:lnTo>
                    <a:pt x="210" y="222"/>
                  </a:lnTo>
                  <a:lnTo>
                    <a:pt x="201" y="232"/>
                  </a:lnTo>
                  <a:lnTo>
                    <a:pt x="195" y="242"/>
                  </a:lnTo>
                  <a:lnTo>
                    <a:pt x="193" y="244"/>
                  </a:lnTo>
                  <a:lnTo>
                    <a:pt x="194" y="244"/>
                  </a:lnTo>
                  <a:lnTo>
                    <a:pt x="195" y="245"/>
                  </a:lnTo>
                  <a:lnTo>
                    <a:pt x="199" y="245"/>
                  </a:lnTo>
                  <a:lnTo>
                    <a:pt x="202" y="247"/>
                  </a:lnTo>
                  <a:lnTo>
                    <a:pt x="205" y="247"/>
                  </a:lnTo>
                  <a:lnTo>
                    <a:pt x="211" y="249"/>
                  </a:lnTo>
                  <a:lnTo>
                    <a:pt x="215" y="251"/>
                  </a:lnTo>
                  <a:lnTo>
                    <a:pt x="221" y="251"/>
                  </a:lnTo>
                  <a:lnTo>
                    <a:pt x="225" y="252"/>
                  </a:lnTo>
                  <a:lnTo>
                    <a:pt x="230" y="254"/>
                  </a:lnTo>
                  <a:lnTo>
                    <a:pt x="235" y="254"/>
                  </a:lnTo>
                  <a:lnTo>
                    <a:pt x="238" y="256"/>
                  </a:lnTo>
                  <a:lnTo>
                    <a:pt x="242" y="256"/>
                  </a:lnTo>
                  <a:lnTo>
                    <a:pt x="245" y="258"/>
                  </a:lnTo>
                  <a:lnTo>
                    <a:pt x="246" y="258"/>
                  </a:lnTo>
                  <a:lnTo>
                    <a:pt x="247" y="258"/>
                  </a:lnTo>
                  <a:lnTo>
                    <a:pt x="244" y="265"/>
                  </a:lnTo>
                  <a:lnTo>
                    <a:pt x="236" y="286"/>
                  </a:lnTo>
                  <a:lnTo>
                    <a:pt x="224" y="317"/>
                  </a:lnTo>
                  <a:lnTo>
                    <a:pt x="209" y="357"/>
                  </a:lnTo>
                  <a:lnTo>
                    <a:pt x="190" y="405"/>
                  </a:lnTo>
                  <a:lnTo>
                    <a:pt x="169" y="459"/>
                  </a:lnTo>
                  <a:lnTo>
                    <a:pt x="146" y="517"/>
                  </a:lnTo>
                  <a:lnTo>
                    <a:pt x="124" y="576"/>
                  </a:lnTo>
                  <a:lnTo>
                    <a:pt x="101" y="636"/>
                  </a:lnTo>
                  <a:lnTo>
                    <a:pt x="78" y="693"/>
                  </a:lnTo>
                  <a:lnTo>
                    <a:pt x="57" y="747"/>
                  </a:lnTo>
                  <a:lnTo>
                    <a:pt x="38" y="796"/>
                  </a:lnTo>
                  <a:lnTo>
                    <a:pt x="23" y="836"/>
                  </a:lnTo>
                  <a:lnTo>
                    <a:pt x="11" y="867"/>
                  </a:lnTo>
                  <a:lnTo>
                    <a:pt x="3" y="888"/>
                  </a:lnTo>
                  <a:lnTo>
                    <a:pt x="0" y="895"/>
                  </a:lnTo>
                  <a:lnTo>
                    <a:pt x="1" y="894"/>
                  </a:lnTo>
                  <a:lnTo>
                    <a:pt x="5" y="892"/>
                  </a:lnTo>
                  <a:lnTo>
                    <a:pt x="9" y="890"/>
                  </a:lnTo>
                  <a:lnTo>
                    <a:pt x="17" y="887"/>
                  </a:lnTo>
                  <a:lnTo>
                    <a:pt x="26" y="881"/>
                  </a:lnTo>
                  <a:lnTo>
                    <a:pt x="37" y="878"/>
                  </a:lnTo>
                  <a:lnTo>
                    <a:pt x="49" y="873"/>
                  </a:lnTo>
                  <a:lnTo>
                    <a:pt x="61" y="869"/>
                  </a:lnTo>
                  <a:lnTo>
                    <a:pt x="75" y="864"/>
                  </a:lnTo>
                  <a:lnTo>
                    <a:pt x="90" y="860"/>
                  </a:lnTo>
                  <a:lnTo>
                    <a:pt x="105" y="857"/>
                  </a:lnTo>
                  <a:lnTo>
                    <a:pt x="119" y="853"/>
                  </a:lnTo>
                  <a:lnTo>
                    <a:pt x="135" y="852"/>
                  </a:lnTo>
                  <a:lnTo>
                    <a:pt x="150" y="852"/>
                  </a:lnTo>
                  <a:lnTo>
                    <a:pt x="166" y="852"/>
                  </a:lnTo>
                  <a:lnTo>
                    <a:pt x="180" y="853"/>
                  </a:lnTo>
                  <a:lnTo>
                    <a:pt x="193" y="857"/>
                  </a:lnTo>
                  <a:lnTo>
                    <a:pt x="204" y="862"/>
                  </a:lnTo>
                  <a:lnTo>
                    <a:pt x="213" y="869"/>
                  </a:lnTo>
                  <a:lnTo>
                    <a:pt x="220" y="876"/>
                  </a:lnTo>
                  <a:lnTo>
                    <a:pt x="225" y="885"/>
                  </a:lnTo>
                  <a:lnTo>
                    <a:pt x="231" y="894"/>
                  </a:lnTo>
                  <a:lnTo>
                    <a:pt x="235" y="902"/>
                  </a:lnTo>
                  <a:lnTo>
                    <a:pt x="239" y="911"/>
                  </a:lnTo>
                  <a:lnTo>
                    <a:pt x="244" y="920"/>
                  </a:lnTo>
                  <a:lnTo>
                    <a:pt x="248" y="929"/>
                  </a:lnTo>
                  <a:lnTo>
                    <a:pt x="254" y="936"/>
                  </a:lnTo>
                  <a:lnTo>
                    <a:pt x="260" y="943"/>
                  </a:lnTo>
                  <a:lnTo>
                    <a:pt x="268" y="950"/>
                  </a:lnTo>
                  <a:lnTo>
                    <a:pt x="278" y="953"/>
                  </a:lnTo>
                  <a:lnTo>
                    <a:pt x="290" y="957"/>
                  </a:lnTo>
                  <a:lnTo>
                    <a:pt x="304" y="958"/>
                  </a:lnTo>
                  <a:lnTo>
                    <a:pt x="319" y="957"/>
                  </a:lnTo>
                  <a:lnTo>
                    <a:pt x="334" y="955"/>
                  </a:lnTo>
                  <a:lnTo>
                    <a:pt x="348" y="950"/>
                  </a:lnTo>
                  <a:lnTo>
                    <a:pt x="361" y="944"/>
                  </a:lnTo>
                  <a:lnTo>
                    <a:pt x="375" y="937"/>
                  </a:lnTo>
                  <a:lnTo>
                    <a:pt x="388" y="930"/>
                  </a:lnTo>
                  <a:lnTo>
                    <a:pt x="400" y="922"/>
                  </a:lnTo>
                  <a:lnTo>
                    <a:pt x="413" y="913"/>
                  </a:lnTo>
                  <a:lnTo>
                    <a:pt x="425" y="906"/>
                  </a:lnTo>
                  <a:lnTo>
                    <a:pt x="437" y="897"/>
                  </a:lnTo>
                  <a:lnTo>
                    <a:pt x="448" y="888"/>
                  </a:lnTo>
                  <a:lnTo>
                    <a:pt x="461" y="880"/>
                  </a:lnTo>
                  <a:lnTo>
                    <a:pt x="473" y="873"/>
                  </a:lnTo>
                  <a:lnTo>
                    <a:pt x="485" y="867"/>
                  </a:lnTo>
                  <a:lnTo>
                    <a:pt x="497" y="862"/>
                  </a:lnTo>
                  <a:lnTo>
                    <a:pt x="509" y="859"/>
                  </a:lnTo>
                  <a:lnTo>
                    <a:pt x="520" y="857"/>
                  </a:lnTo>
                  <a:lnTo>
                    <a:pt x="530" y="855"/>
                  </a:lnTo>
                  <a:lnTo>
                    <a:pt x="538" y="857"/>
                  </a:lnTo>
                  <a:lnTo>
                    <a:pt x="544" y="859"/>
                  </a:lnTo>
                  <a:lnTo>
                    <a:pt x="551" y="860"/>
                  </a:lnTo>
                  <a:lnTo>
                    <a:pt x="555" y="864"/>
                  </a:lnTo>
                  <a:lnTo>
                    <a:pt x="558" y="869"/>
                  </a:lnTo>
                  <a:lnTo>
                    <a:pt x="562" y="873"/>
                  </a:lnTo>
                  <a:lnTo>
                    <a:pt x="563" y="878"/>
                  </a:lnTo>
                  <a:lnTo>
                    <a:pt x="564" y="881"/>
                  </a:lnTo>
                  <a:lnTo>
                    <a:pt x="565" y="887"/>
                  </a:lnTo>
                  <a:lnTo>
                    <a:pt x="566" y="890"/>
                  </a:lnTo>
                  <a:lnTo>
                    <a:pt x="566" y="894"/>
                  </a:lnTo>
                  <a:lnTo>
                    <a:pt x="565" y="897"/>
                  </a:lnTo>
                  <a:lnTo>
                    <a:pt x="565" y="899"/>
                  </a:lnTo>
                  <a:lnTo>
                    <a:pt x="566" y="897"/>
                  </a:lnTo>
                  <a:lnTo>
                    <a:pt x="568" y="895"/>
                  </a:lnTo>
                  <a:lnTo>
                    <a:pt x="573" y="890"/>
                  </a:lnTo>
                  <a:lnTo>
                    <a:pt x="578" y="885"/>
                  </a:lnTo>
                  <a:lnTo>
                    <a:pt x="585" y="878"/>
                  </a:lnTo>
                  <a:lnTo>
                    <a:pt x="592" y="869"/>
                  </a:lnTo>
                  <a:lnTo>
                    <a:pt x="599" y="860"/>
                  </a:lnTo>
                  <a:lnTo>
                    <a:pt x="607" y="852"/>
                  </a:lnTo>
                  <a:lnTo>
                    <a:pt x="615" y="843"/>
                  </a:lnTo>
                  <a:lnTo>
                    <a:pt x="622" y="834"/>
                  </a:lnTo>
                  <a:lnTo>
                    <a:pt x="629" y="827"/>
                  </a:lnTo>
                  <a:lnTo>
                    <a:pt x="636" y="818"/>
                  </a:lnTo>
                  <a:lnTo>
                    <a:pt x="641" y="813"/>
                  </a:lnTo>
                  <a:lnTo>
                    <a:pt x="645" y="808"/>
                  </a:lnTo>
                  <a:lnTo>
                    <a:pt x="648" y="806"/>
                  </a:lnTo>
                  <a:lnTo>
                    <a:pt x="649" y="804"/>
                  </a:lnTo>
                  <a:lnTo>
                    <a:pt x="645" y="796"/>
                  </a:lnTo>
                  <a:lnTo>
                    <a:pt x="637" y="769"/>
                  </a:lnTo>
                  <a:lnTo>
                    <a:pt x="623" y="731"/>
                  </a:lnTo>
                  <a:lnTo>
                    <a:pt x="606" y="678"/>
                  </a:lnTo>
                  <a:lnTo>
                    <a:pt x="586" y="618"/>
                  </a:lnTo>
                  <a:lnTo>
                    <a:pt x="562" y="550"/>
                  </a:lnTo>
                  <a:lnTo>
                    <a:pt x="538" y="478"/>
                  </a:lnTo>
                  <a:lnTo>
                    <a:pt x="512" y="403"/>
                  </a:lnTo>
                  <a:lnTo>
                    <a:pt x="487" y="328"/>
                  </a:lnTo>
                  <a:lnTo>
                    <a:pt x="462" y="256"/>
                  </a:lnTo>
                  <a:lnTo>
                    <a:pt x="439" y="187"/>
                  </a:lnTo>
                  <a:lnTo>
                    <a:pt x="418" y="125"/>
                  </a:lnTo>
                  <a:lnTo>
                    <a:pt x="400" y="75"/>
                  </a:lnTo>
                  <a:lnTo>
                    <a:pt x="387" y="34"/>
                  </a:lnTo>
                  <a:lnTo>
                    <a:pt x="378" y="10"/>
                  </a:lnTo>
                  <a:lnTo>
                    <a:pt x="375" y="0"/>
                  </a:lnTo>
                  <a:lnTo>
                    <a:pt x="371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6880" y="4991040"/>
              <a:ext cx="168480" cy="159120"/>
            </a:xfrm>
            <a:custGeom>
              <a:avLst/>
              <a:gdLst/>
              <a:ahLst/>
              <a:rect l="0" t="0" r="r" b="b"/>
              <a:pathLst>
                <a:path w="468" h="442">
                  <a:moveTo>
                    <a:pt x="3" y="442"/>
                  </a:moveTo>
                  <a:lnTo>
                    <a:pt x="96" y="352"/>
                  </a:lnTo>
                  <a:lnTo>
                    <a:pt x="126" y="40"/>
                  </a:lnTo>
                  <a:lnTo>
                    <a:pt x="180" y="102"/>
                  </a:lnTo>
                  <a:lnTo>
                    <a:pt x="203" y="0"/>
                  </a:lnTo>
                  <a:lnTo>
                    <a:pt x="330" y="217"/>
                  </a:lnTo>
                  <a:lnTo>
                    <a:pt x="468" y="154"/>
                  </a:lnTo>
                  <a:lnTo>
                    <a:pt x="340" y="279"/>
                  </a:lnTo>
                  <a:lnTo>
                    <a:pt x="278" y="265"/>
                  </a:lnTo>
                  <a:lnTo>
                    <a:pt x="156" y="348"/>
                  </a:lnTo>
                  <a:lnTo>
                    <a:pt x="133" y="397"/>
                  </a:lnTo>
                  <a:lnTo>
                    <a:pt x="0" y="442"/>
                  </a:lnTo>
                  <a:lnTo>
                    <a:pt x="3" y="44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6880" y="4991040"/>
              <a:ext cx="168480" cy="159120"/>
            </a:xfrm>
            <a:custGeom>
              <a:avLst/>
              <a:gdLst/>
              <a:ahLst/>
              <a:rect l="0" t="0" r="r" b="b"/>
              <a:pathLst>
                <a:path fill="none" w="468" h="442">
                  <a:moveTo>
                    <a:pt x="3" y="442"/>
                  </a:moveTo>
                  <a:lnTo>
                    <a:pt x="96" y="352"/>
                  </a:lnTo>
                  <a:lnTo>
                    <a:pt x="126" y="40"/>
                  </a:lnTo>
                  <a:lnTo>
                    <a:pt x="180" y="102"/>
                  </a:lnTo>
                  <a:lnTo>
                    <a:pt x="203" y="0"/>
                  </a:lnTo>
                  <a:lnTo>
                    <a:pt x="330" y="217"/>
                  </a:lnTo>
                  <a:lnTo>
                    <a:pt x="468" y="154"/>
                  </a:lnTo>
                  <a:lnTo>
                    <a:pt x="340" y="279"/>
                  </a:lnTo>
                  <a:lnTo>
                    <a:pt x="278" y="265"/>
                  </a:lnTo>
                  <a:lnTo>
                    <a:pt x="156" y="348"/>
                  </a:lnTo>
                  <a:lnTo>
                    <a:pt x="133" y="397"/>
                  </a:lnTo>
                  <a:lnTo>
                    <a:pt x="0" y="442"/>
                  </a:lnTo>
                  <a:lnTo>
                    <a:pt x="3" y="44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8560" y="5227560"/>
              <a:ext cx="76680" cy="70200"/>
            </a:xfrm>
            <a:custGeom>
              <a:avLst/>
              <a:gdLst/>
              <a:ahLst/>
              <a:rect l="0" t="0" r="r" b="b"/>
              <a:pathLst>
                <a:path w="213" h="195">
                  <a:moveTo>
                    <a:pt x="62" y="89"/>
                  </a:moveTo>
                  <a:lnTo>
                    <a:pt x="9" y="146"/>
                  </a:lnTo>
                  <a:lnTo>
                    <a:pt x="0" y="152"/>
                  </a:lnTo>
                  <a:lnTo>
                    <a:pt x="80" y="0"/>
                  </a:lnTo>
                  <a:lnTo>
                    <a:pt x="195" y="104"/>
                  </a:lnTo>
                  <a:lnTo>
                    <a:pt x="213" y="195"/>
                  </a:lnTo>
                  <a:lnTo>
                    <a:pt x="111" y="90"/>
                  </a:lnTo>
                  <a:lnTo>
                    <a:pt x="93" y="138"/>
                  </a:lnTo>
                  <a:lnTo>
                    <a:pt x="66" y="123"/>
                  </a:lnTo>
                  <a:lnTo>
                    <a:pt x="61" y="89"/>
                  </a:lnTo>
                  <a:lnTo>
                    <a:pt x="62" y="8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28560" y="5227560"/>
              <a:ext cx="76680" cy="70200"/>
            </a:xfrm>
            <a:custGeom>
              <a:avLst/>
              <a:gdLst/>
              <a:ahLst/>
              <a:rect l="0" t="0" r="r" b="b"/>
              <a:pathLst>
                <a:path fill="none" w="213" h="195">
                  <a:moveTo>
                    <a:pt x="62" y="89"/>
                  </a:moveTo>
                  <a:lnTo>
                    <a:pt x="9" y="146"/>
                  </a:lnTo>
                  <a:lnTo>
                    <a:pt x="0" y="152"/>
                  </a:lnTo>
                  <a:lnTo>
                    <a:pt x="80" y="0"/>
                  </a:lnTo>
                  <a:lnTo>
                    <a:pt x="195" y="104"/>
                  </a:lnTo>
                  <a:lnTo>
                    <a:pt x="213" y="195"/>
                  </a:lnTo>
                  <a:lnTo>
                    <a:pt x="111" y="90"/>
                  </a:lnTo>
                  <a:lnTo>
                    <a:pt x="93" y="138"/>
                  </a:lnTo>
                  <a:lnTo>
                    <a:pt x="66" y="123"/>
                  </a:lnTo>
                  <a:lnTo>
                    <a:pt x="61" y="89"/>
                  </a:lnTo>
                  <a:lnTo>
                    <a:pt x="62" y="8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66640" y="5186520"/>
              <a:ext cx="109800" cy="111600"/>
            </a:xfrm>
            <a:custGeom>
              <a:avLst/>
              <a:gdLst/>
              <a:ahLst/>
              <a:rect l="0" t="0" r="r" b="b"/>
              <a:pathLst>
                <a:path w="305" h="310">
                  <a:moveTo>
                    <a:pt x="0" y="23"/>
                  </a:moveTo>
                  <a:lnTo>
                    <a:pt x="26" y="0"/>
                  </a:lnTo>
                  <a:lnTo>
                    <a:pt x="133" y="255"/>
                  </a:lnTo>
                  <a:lnTo>
                    <a:pt x="305" y="255"/>
                  </a:lnTo>
                  <a:lnTo>
                    <a:pt x="305" y="310"/>
                  </a:lnTo>
                  <a:lnTo>
                    <a:pt x="30" y="310"/>
                  </a:lnTo>
                  <a:lnTo>
                    <a:pt x="28" y="255"/>
                  </a:lnTo>
                  <a:lnTo>
                    <a:pt x="97" y="255"/>
                  </a:lnTo>
                  <a:lnTo>
                    <a:pt x="0" y="3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66640" y="5186520"/>
              <a:ext cx="109800" cy="111600"/>
            </a:xfrm>
            <a:custGeom>
              <a:avLst/>
              <a:gdLst/>
              <a:ahLst/>
              <a:rect l="0" t="0" r="r" b="b"/>
              <a:pathLst>
                <a:path fill="none" w="305" h="310">
                  <a:moveTo>
                    <a:pt x="0" y="23"/>
                  </a:moveTo>
                  <a:lnTo>
                    <a:pt x="26" y="0"/>
                  </a:lnTo>
                  <a:lnTo>
                    <a:pt x="133" y="255"/>
                  </a:lnTo>
                  <a:lnTo>
                    <a:pt x="305" y="255"/>
                  </a:lnTo>
                  <a:lnTo>
                    <a:pt x="305" y="310"/>
                  </a:lnTo>
                  <a:lnTo>
                    <a:pt x="30" y="310"/>
                  </a:lnTo>
                  <a:lnTo>
                    <a:pt x="28" y="255"/>
                  </a:lnTo>
                  <a:lnTo>
                    <a:pt x="97" y="255"/>
                  </a:lnTo>
                  <a:lnTo>
                    <a:pt x="0" y="30"/>
                  </a:lnTo>
                  <a:lnTo>
                    <a:pt x="0" y="2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552600" y="603360"/>
            <a:ext cx="58294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SAL INFOSEC TRADEM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42880" y="1638360"/>
            <a:ext cx="5819760" cy="633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tion-Specific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ion of the “arcane art” of security into practical management and engineering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and functional security practices, procedures, and criteria derived from high level security concepts and polic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-Effective and Comprehensive Risk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s ‘at the fenc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s full management commi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on organizational mission and nee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realistic INFOSEC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AL-developed Integrated INFOSEC 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 Life-Cycle 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security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v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SS" Approach: Minimize Complexity of Issues &amp; Problems Wherever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52600" y="603360"/>
            <a:ext cx="58294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IS SECURITY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42880" y="1638360"/>
            <a:ext cx="5819760" cy="633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cy, Planning, Procedures Development, Documentation, &amp; Analysi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Assessments &amp; Analys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S Life-Cycle Security Development &amp; Manageme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Quality Management (TQM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al and Interpretability analysis, Testing &amp; Reporting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ic (Policy) and “Rifle-Shot” (Procedural) Solution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Disciplinary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(COMSEC; OPSEC, TEMPEST, RED/BLAC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iplines as well as NDT&amp;A, Secure Maintenance and Logistics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e Spectrum of Information Sensitivity Categories &amp; Environmen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/S/C/S-U/U as well a DoD RD, DOS EXDIS, AC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level and multi-level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estic and Overseas si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litary &amp; Civilian INFOSEC enviro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52600" y="603360"/>
            <a:ext cx="58294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LIED DISCIPLINES AND EXPERT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42880" y="1638360"/>
            <a:ext cx="2833560" cy="633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k Assessment &amp; Risk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 System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ability 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Security Management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d Data  Management &amp; 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cy and Pla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Procedures &amp;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Security Compatibility Analy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529080" y="1638360"/>
            <a:ext cx="2833560" cy="633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onic Sign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pections and Evalu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Brief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Awareness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Policy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QM Security approach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pendent Validation and Ver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Agency AIS Security Technical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id Response Technical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957400" y="6661080"/>
            <a:ext cx="1011600" cy="1146600"/>
            <a:chOff x="2957400" y="6661080"/>
            <a:chExt cx="1011600" cy="1146600"/>
          </a:xfrm>
        </p:grpSpPr>
        <p:sp>
          <p:nvSpPr>
            <p:cNvPr id="205" name=""/>
            <p:cNvSpPr/>
            <p:nvPr/>
          </p:nvSpPr>
          <p:spPr>
            <a:xfrm>
              <a:off x="3274920" y="6985080"/>
              <a:ext cx="116280" cy="114840"/>
            </a:xfrm>
            <a:custGeom>
              <a:avLst/>
              <a:gdLst/>
              <a:ahLst/>
              <a:rect l="0" t="0" r="r" b="b"/>
              <a:pathLst>
                <a:path w="323" h="319">
                  <a:moveTo>
                    <a:pt x="0" y="146"/>
                  </a:moveTo>
                  <a:lnTo>
                    <a:pt x="52" y="159"/>
                  </a:lnTo>
                  <a:lnTo>
                    <a:pt x="79" y="203"/>
                  </a:lnTo>
                  <a:lnTo>
                    <a:pt x="66" y="319"/>
                  </a:lnTo>
                  <a:lnTo>
                    <a:pt x="106" y="225"/>
                  </a:lnTo>
                  <a:lnTo>
                    <a:pt x="150" y="124"/>
                  </a:lnTo>
                  <a:lnTo>
                    <a:pt x="244" y="124"/>
                  </a:lnTo>
                  <a:lnTo>
                    <a:pt x="323" y="0"/>
                  </a:lnTo>
                  <a:lnTo>
                    <a:pt x="203" y="0"/>
                  </a:lnTo>
                  <a:lnTo>
                    <a:pt x="0" y="137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274920" y="6985080"/>
              <a:ext cx="116280" cy="114840"/>
            </a:xfrm>
            <a:custGeom>
              <a:avLst/>
              <a:gdLst/>
              <a:ahLst/>
              <a:rect l="0" t="0" r="r" b="b"/>
              <a:pathLst>
                <a:path fill="none" w="323" h="319">
                  <a:moveTo>
                    <a:pt x="0" y="146"/>
                  </a:moveTo>
                  <a:lnTo>
                    <a:pt x="52" y="159"/>
                  </a:lnTo>
                  <a:lnTo>
                    <a:pt x="79" y="203"/>
                  </a:lnTo>
                  <a:lnTo>
                    <a:pt x="66" y="319"/>
                  </a:lnTo>
                  <a:lnTo>
                    <a:pt x="106" y="225"/>
                  </a:lnTo>
                  <a:lnTo>
                    <a:pt x="150" y="124"/>
                  </a:lnTo>
                  <a:lnTo>
                    <a:pt x="244" y="124"/>
                  </a:lnTo>
                  <a:lnTo>
                    <a:pt x="323" y="0"/>
                  </a:lnTo>
                  <a:lnTo>
                    <a:pt x="203" y="0"/>
                  </a:lnTo>
                  <a:lnTo>
                    <a:pt x="0" y="137"/>
                  </a:lnTo>
                  <a:lnTo>
                    <a:pt x="0" y="14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33720" y="6939000"/>
              <a:ext cx="935280" cy="868680"/>
            </a:xfrm>
            <a:custGeom>
              <a:avLst/>
              <a:gdLst/>
              <a:ahLst/>
              <a:rect l="0" t="0" r="r" b="b"/>
              <a:pathLst>
                <a:path w="2598" h="2413">
                  <a:moveTo>
                    <a:pt x="1487" y="0"/>
                  </a:moveTo>
                  <a:lnTo>
                    <a:pt x="1478" y="8"/>
                  </a:lnTo>
                  <a:lnTo>
                    <a:pt x="1456" y="26"/>
                  </a:lnTo>
                  <a:lnTo>
                    <a:pt x="1420" y="57"/>
                  </a:lnTo>
                  <a:lnTo>
                    <a:pt x="1376" y="97"/>
                  </a:lnTo>
                  <a:lnTo>
                    <a:pt x="1323" y="145"/>
                  </a:lnTo>
                  <a:lnTo>
                    <a:pt x="1261" y="194"/>
                  </a:lnTo>
                  <a:lnTo>
                    <a:pt x="1199" y="251"/>
                  </a:lnTo>
                  <a:lnTo>
                    <a:pt x="1133" y="308"/>
                  </a:lnTo>
                  <a:lnTo>
                    <a:pt x="1067" y="366"/>
                  </a:lnTo>
                  <a:lnTo>
                    <a:pt x="1001" y="418"/>
                  </a:lnTo>
                  <a:lnTo>
                    <a:pt x="943" y="471"/>
                  </a:lnTo>
                  <a:lnTo>
                    <a:pt x="890" y="520"/>
                  </a:lnTo>
                  <a:lnTo>
                    <a:pt x="842" y="560"/>
                  </a:lnTo>
                  <a:lnTo>
                    <a:pt x="806" y="586"/>
                  </a:lnTo>
                  <a:lnTo>
                    <a:pt x="784" y="608"/>
                  </a:lnTo>
                  <a:lnTo>
                    <a:pt x="776" y="612"/>
                  </a:lnTo>
                  <a:lnTo>
                    <a:pt x="780" y="612"/>
                  </a:lnTo>
                  <a:lnTo>
                    <a:pt x="784" y="617"/>
                  </a:lnTo>
                  <a:lnTo>
                    <a:pt x="798" y="617"/>
                  </a:lnTo>
                  <a:lnTo>
                    <a:pt x="811" y="621"/>
                  </a:lnTo>
                  <a:lnTo>
                    <a:pt x="824" y="621"/>
                  </a:lnTo>
                  <a:lnTo>
                    <a:pt x="846" y="626"/>
                  </a:lnTo>
                  <a:lnTo>
                    <a:pt x="864" y="630"/>
                  </a:lnTo>
                  <a:lnTo>
                    <a:pt x="886" y="630"/>
                  </a:lnTo>
                  <a:lnTo>
                    <a:pt x="903" y="635"/>
                  </a:lnTo>
                  <a:lnTo>
                    <a:pt x="921" y="639"/>
                  </a:lnTo>
                  <a:lnTo>
                    <a:pt x="943" y="639"/>
                  </a:lnTo>
                  <a:lnTo>
                    <a:pt x="956" y="643"/>
                  </a:lnTo>
                  <a:lnTo>
                    <a:pt x="970" y="643"/>
                  </a:lnTo>
                  <a:lnTo>
                    <a:pt x="983" y="648"/>
                  </a:lnTo>
                  <a:lnTo>
                    <a:pt x="987" y="648"/>
                  </a:lnTo>
                  <a:lnTo>
                    <a:pt x="992" y="648"/>
                  </a:lnTo>
                  <a:lnTo>
                    <a:pt x="978" y="665"/>
                  </a:lnTo>
                  <a:lnTo>
                    <a:pt x="948" y="718"/>
                  </a:lnTo>
                  <a:lnTo>
                    <a:pt x="899" y="798"/>
                  </a:lnTo>
                  <a:lnTo>
                    <a:pt x="837" y="899"/>
                  </a:lnTo>
                  <a:lnTo>
                    <a:pt x="762" y="1018"/>
                  </a:lnTo>
                  <a:lnTo>
                    <a:pt x="679" y="1155"/>
                  </a:lnTo>
                  <a:lnTo>
                    <a:pt x="586" y="1301"/>
                  </a:lnTo>
                  <a:lnTo>
                    <a:pt x="498" y="1451"/>
                  </a:lnTo>
                  <a:lnTo>
                    <a:pt x="405" y="1601"/>
                  </a:lnTo>
                  <a:lnTo>
                    <a:pt x="313" y="1747"/>
                  </a:lnTo>
                  <a:lnTo>
                    <a:pt x="229" y="1879"/>
                  </a:lnTo>
                  <a:lnTo>
                    <a:pt x="154" y="2003"/>
                  </a:lnTo>
                  <a:lnTo>
                    <a:pt x="92" y="2104"/>
                  </a:lnTo>
                  <a:lnTo>
                    <a:pt x="44" y="2183"/>
                  </a:lnTo>
                  <a:lnTo>
                    <a:pt x="13" y="2236"/>
                  </a:lnTo>
                  <a:lnTo>
                    <a:pt x="0" y="2254"/>
                  </a:lnTo>
                  <a:lnTo>
                    <a:pt x="4" y="2249"/>
                  </a:lnTo>
                  <a:lnTo>
                    <a:pt x="22" y="2245"/>
                  </a:lnTo>
                  <a:lnTo>
                    <a:pt x="39" y="2241"/>
                  </a:lnTo>
                  <a:lnTo>
                    <a:pt x="70" y="2232"/>
                  </a:lnTo>
                  <a:lnTo>
                    <a:pt x="105" y="2219"/>
                  </a:lnTo>
                  <a:lnTo>
                    <a:pt x="149" y="2210"/>
                  </a:lnTo>
                  <a:lnTo>
                    <a:pt x="198" y="2197"/>
                  </a:lnTo>
                  <a:lnTo>
                    <a:pt x="246" y="2188"/>
                  </a:lnTo>
                  <a:lnTo>
                    <a:pt x="304" y="2174"/>
                  </a:lnTo>
                  <a:lnTo>
                    <a:pt x="361" y="2166"/>
                  </a:lnTo>
                  <a:lnTo>
                    <a:pt x="423" y="2157"/>
                  </a:lnTo>
                  <a:lnTo>
                    <a:pt x="480" y="2148"/>
                  </a:lnTo>
                  <a:lnTo>
                    <a:pt x="542" y="2144"/>
                  </a:lnTo>
                  <a:lnTo>
                    <a:pt x="604" y="2144"/>
                  </a:lnTo>
                  <a:lnTo>
                    <a:pt x="665" y="2144"/>
                  </a:lnTo>
                  <a:lnTo>
                    <a:pt x="723" y="2148"/>
                  </a:lnTo>
                  <a:lnTo>
                    <a:pt x="776" y="2157"/>
                  </a:lnTo>
                  <a:lnTo>
                    <a:pt x="820" y="2170"/>
                  </a:lnTo>
                  <a:lnTo>
                    <a:pt x="855" y="2188"/>
                  </a:lnTo>
                  <a:lnTo>
                    <a:pt x="881" y="2205"/>
                  </a:lnTo>
                  <a:lnTo>
                    <a:pt x="903" y="2227"/>
                  </a:lnTo>
                  <a:lnTo>
                    <a:pt x="926" y="2249"/>
                  </a:lnTo>
                  <a:lnTo>
                    <a:pt x="943" y="2272"/>
                  </a:lnTo>
                  <a:lnTo>
                    <a:pt x="961" y="2294"/>
                  </a:lnTo>
                  <a:lnTo>
                    <a:pt x="978" y="2316"/>
                  </a:lnTo>
                  <a:lnTo>
                    <a:pt x="996" y="2338"/>
                  </a:lnTo>
                  <a:lnTo>
                    <a:pt x="1018" y="2355"/>
                  </a:lnTo>
                  <a:lnTo>
                    <a:pt x="1045" y="2373"/>
                  </a:lnTo>
                  <a:lnTo>
                    <a:pt x="1075" y="2391"/>
                  </a:lnTo>
                  <a:lnTo>
                    <a:pt x="1115" y="2399"/>
                  </a:lnTo>
                  <a:lnTo>
                    <a:pt x="1164" y="2408"/>
                  </a:lnTo>
                  <a:lnTo>
                    <a:pt x="1221" y="2413"/>
                  </a:lnTo>
                  <a:lnTo>
                    <a:pt x="1278" y="2408"/>
                  </a:lnTo>
                  <a:lnTo>
                    <a:pt x="1337" y="2404"/>
                  </a:lnTo>
                  <a:lnTo>
                    <a:pt x="1394" y="2391"/>
                  </a:lnTo>
                  <a:lnTo>
                    <a:pt x="1447" y="2377"/>
                  </a:lnTo>
                  <a:lnTo>
                    <a:pt x="1500" y="2360"/>
                  </a:lnTo>
                  <a:lnTo>
                    <a:pt x="1553" y="2342"/>
                  </a:lnTo>
                  <a:lnTo>
                    <a:pt x="1601" y="2320"/>
                  </a:lnTo>
                  <a:lnTo>
                    <a:pt x="1654" y="2298"/>
                  </a:lnTo>
                  <a:lnTo>
                    <a:pt x="1703" y="2280"/>
                  </a:lnTo>
                  <a:lnTo>
                    <a:pt x="1751" y="2258"/>
                  </a:lnTo>
                  <a:lnTo>
                    <a:pt x="1795" y="2236"/>
                  </a:lnTo>
                  <a:lnTo>
                    <a:pt x="1844" y="2214"/>
                  </a:lnTo>
                  <a:lnTo>
                    <a:pt x="1892" y="2197"/>
                  </a:lnTo>
                  <a:lnTo>
                    <a:pt x="1941" y="2183"/>
                  </a:lnTo>
                  <a:lnTo>
                    <a:pt x="1989" y="2170"/>
                  </a:lnTo>
                  <a:lnTo>
                    <a:pt x="2038" y="2161"/>
                  </a:lnTo>
                  <a:lnTo>
                    <a:pt x="2082" y="2157"/>
                  </a:lnTo>
                  <a:lnTo>
                    <a:pt x="2122" y="2152"/>
                  </a:lnTo>
                  <a:lnTo>
                    <a:pt x="2152" y="2157"/>
                  </a:lnTo>
                  <a:lnTo>
                    <a:pt x="2179" y="2161"/>
                  </a:lnTo>
                  <a:lnTo>
                    <a:pt x="2205" y="2166"/>
                  </a:lnTo>
                  <a:lnTo>
                    <a:pt x="2223" y="2174"/>
                  </a:lnTo>
                  <a:lnTo>
                    <a:pt x="2236" y="2188"/>
                  </a:lnTo>
                  <a:lnTo>
                    <a:pt x="2249" y="2197"/>
                  </a:lnTo>
                  <a:lnTo>
                    <a:pt x="2254" y="2210"/>
                  </a:lnTo>
                  <a:lnTo>
                    <a:pt x="2258" y="2219"/>
                  </a:lnTo>
                  <a:lnTo>
                    <a:pt x="2263" y="2232"/>
                  </a:lnTo>
                  <a:lnTo>
                    <a:pt x="2267" y="2241"/>
                  </a:lnTo>
                  <a:lnTo>
                    <a:pt x="2267" y="2249"/>
                  </a:lnTo>
                  <a:lnTo>
                    <a:pt x="2263" y="2258"/>
                  </a:lnTo>
                  <a:lnTo>
                    <a:pt x="2263" y="2263"/>
                  </a:lnTo>
                  <a:lnTo>
                    <a:pt x="2267" y="2258"/>
                  </a:lnTo>
                  <a:lnTo>
                    <a:pt x="2276" y="2254"/>
                  </a:lnTo>
                  <a:lnTo>
                    <a:pt x="2294" y="2241"/>
                  </a:lnTo>
                  <a:lnTo>
                    <a:pt x="2316" y="2227"/>
                  </a:lnTo>
                  <a:lnTo>
                    <a:pt x="2342" y="2210"/>
                  </a:lnTo>
                  <a:lnTo>
                    <a:pt x="2369" y="2188"/>
                  </a:lnTo>
                  <a:lnTo>
                    <a:pt x="2399" y="2166"/>
                  </a:lnTo>
                  <a:lnTo>
                    <a:pt x="2430" y="2144"/>
                  </a:lnTo>
                  <a:lnTo>
                    <a:pt x="2461" y="2122"/>
                  </a:lnTo>
                  <a:lnTo>
                    <a:pt x="2492" y="2100"/>
                  </a:lnTo>
                  <a:lnTo>
                    <a:pt x="2518" y="2082"/>
                  </a:lnTo>
                  <a:lnTo>
                    <a:pt x="2545" y="2060"/>
                  </a:lnTo>
                  <a:lnTo>
                    <a:pt x="2567" y="2047"/>
                  </a:lnTo>
                  <a:lnTo>
                    <a:pt x="2585" y="2033"/>
                  </a:lnTo>
                  <a:lnTo>
                    <a:pt x="2593" y="2029"/>
                  </a:lnTo>
                  <a:lnTo>
                    <a:pt x="2598" y="2025"/>
                  </a:lnTo>
                  <a:lnTo>
                    <a:pt x="2585" y="2003"/>
                  </a:lnTo>
                  <a:lnTo>
                    <a:pt x="2549" y="1936"/>
                  </a:lnTo>
                  <a:lnTo>
                    <a:pt x="2496" y="1839"/>
                  </a:lnTo>
                  <a:lnTo>
                    <a:pt x="2426" y="1707"/>
                  </a:lnTo>
                  <a:lnTo>
                    <a:pt x="2346" y="1557"/>
                  </a:lnTo>
                  <a:lnTo>
                    <a:pt x="2249" y="1385"/>
                  </a:lnTo>
                  <a:lnTo>
                    <a:pt x="2152" y="1203"/>
                  </a:lnTo>
                  <a:lnTo>
                    <a:pt x="2051" y="1014"/>
                  </a:lnTo>
                  <a:lnTo>
                    <a:pt x="1950" y="824"/>
                  </a:lnTo>
                  <a:lnTo>
                    <a:pt x="1848" y="643"/>
                  </a:lnTo>
                  <a:lnTo>
                    <a:pt x="1756" y="471"/>
                  </a:lnTo>
                  <a:lnTo>
                    <a:pt x="1672" y="317"/>
                  </a:lnTo>
                  <a:lnTo>
                    <a:pt x="1601" y="189"/>
                  </a:lnTo>
                  <a:lnTo>
                    <a:pt x="1548" y="88"/>
                  </a:lnTo>
                  <a:lnTo>
                    <a:pt x="1513" y="26"/>
                  </a:lnTo>
                  <a:lnTo>
                    <a:pt x="1500" y="0"/>
                  </a:lnTo>
                  <a:lnTo>
                    <a:pt x="148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33720" y="6939000"/>
              <a:ext cx="935280" cy="868680"/>
            </a:xfrm>
            <a:custGeom>
              <a:avLst/>
              <a:gdLst/>
              <a:ahLst/>
              <a:rect l="0" t="0" r="r" b="b"/>
              <a:pathLst>
                <a:path fill="none" w="2598" h="2413">
                  <a:moveTo>
                    <a:pt x="1487" y="0"/>
                  </a:moveTo>
                  <a:lnTo>
                    <a:pt x="1478" y="8"/>
                  </a:lnTo>
                  <a:lnTo>
                    <a:pt x="1456" y="26"/>
                  </a:lnTo>
                  <a:lnTo>
                    <a:pt x="1420" y="57"/>
                  </a:lnTo>
                  <a:lnTo>
                    <a:pt x="1376" y="97"/>
                  </a:lnTo>
                  <a:lnTo>
                    <a:pt x="1323" y="145"/>
                  </a:lnTo>
                  <a:lnTo>
                    <a:pt x="1261" y="194"/>
                  </a:lnTo>
                  <a:lnTo>
                    <a:pt x="1199" y="251"/>
                  </a:lnTo>
                  <a:lnTo>
                    <a:pt x="1133" y="308"/>
                  </a:lnTo>
                  <a:lnTo>
                    <a:pt x="1067" y="366"/>
                  </a:lnTo>
                  <a:lnTo>
                    <a:pt x="1001" y="418"/>
                  </a:lnTo>
                  <a:lnTo>
                    <a:pt x="943" y="471"/>
                  </a:lnTo>
                  <a:lnTo>
                    <a:pt x="890" y="520"/>
                  </a:lnTo>
                  <a:lnTo>
                    <a:pt x="842" y="560"/>
                  </a:lnTo>
                  <a:lnTo>
                    <a:pt x="806" y="586"/>
                  </a:lnTo>
                  <a:lnTo>
                    <a:pt x="784" y="608"/>
                  </a:lnTo>
                  <a:lnTo>
                    <a:pt x="776" y="612"/>
                  </a:lnTo>
                  <a:lnTo>
                    <a:pt x="780" y="612"/>
                  </a:lnTo>
                  <a:lnTo>
                    <a:pt x="784" y="617"/>
                  </a:lnTo>
                  <a:lnTo>
                    <a:pt x="798" y="617"/>
                  </a:lnTo>
                  <a:lnTo>
                    <a:pt x="811" y="621"/>
                  </a:lnTo>
                  <a:lnTo>
                    <a:pt x="824" y="621"/>
                  </a:lnTo>
                  <a:lnTo>
                    <a:pt x="846" y="626"/>
                  </a:lnTo>
                  <a:lnTo>
                    <a:pt x="864" y="630"/>
                  </a:lnTo>
                  <a:lnTo>
                    <a:pt x="886" y="630"/>
                  </a:lnTo>
                  <a:lnTo>
                    <a:pt x="903" y="635"/>
                  </a:lnTo>
                  <a:lnTo>
                    <a:pt x="921" y="639"/>
                  </a:lnTo>
                  <a:lnTo>
                    <a:pt x="943" y="639"/>
                  </a:lnTo>
                  <a:lnTo>
                    <a:pt x="956" y="643"/>
                  </a:lnTo>
                  <a:lnTo>
                    <a:pt x="970" y="643"/>
                  </a:lnTo>
                  <a:lnTo>
                    <a:pt x="983" y="648"/>
                  </a:lnTo>
                  <a:lnTo>
                    <a:pt x="987" y="648"/>
                  </a:lnTo>
                  <a:lnTo>
                    <a:pt x="992" y="648"/>
                  </a:lnTo>
                  <a:lnTo>
                    <a:pt x="978" y="665"/>
                  </a:lnTo>
                  <a:lnTo>
                    <a:pt x="948" y="718"/>
                  </a:lnTo>
                  <a:lnTo>
                    <a:pt x="899" y="798"/>
                  </a:lnTo>
                  <a:lnTo>
                    <a:pt x="837" y="899"/>
                  </a:lnTo>
                  <a:lnTo>
                    <a:pt x="762" y="1018"/>
                  </a:lnTo>
                  <a:lnTo>
                    <a:pt x="679" y="1155"/>
                  </a:lnTo>
                  <a:lnTo>
                    <a:pt x="586" y="1301"/>
                  </a:lnTo>
                  <a:lnTo>
                    <a:pt x="498" y="1451"/>
                  </a:lnTo>
                  <a:lnTo>
                    <a:pt x="405" y="1601"/>
                  </a:lnTo>
                  <a:lnTo>
                    <a:pt x="313" y="1747"/>
                  </a:lnTo>
                  <a:lnTo>
                    <a:pt x="229" y="1879"/>
                  </a:lnTo>
                  <a:lnTo>
                    <a:pt x="154" y="2003"/>
                  </a:lnTo>
                  <a:lnTo>
                    <a:pt x="92" y="2104"/>
                  </a:lnTo>
                  <a:lnTo>
                    <a:pt x="44" y="2183"/>
                  </a:lnTo>
                  <a:lnTo>
                    <a:pt x="13" y="2236"/>
                  </a:lnTo>
                  <a:lnTo>
                    <a:pt x="0" y="2254"/>
                  </a:lnTo>
                  <a:lnTo>
                    <a:pt x="4" y="2249"/>
                  </a:lnTo>
                  <a:lnTo>
                    <a:pt x="22" y="2245"/>
                  </a:lnTo>
                  <a:lnTo>
                    <a:pt x="39" y="2241"/>
                  </a:lnTo>
                  <a:lnTo>
                    <a:pt x="70" y="2232"/>
                  </a:lnTo>
                  <a:lnTo>
                    <a:pt x="105" y="2219"/>
                  </a:lnTo>
                  <a:lnTo>
                    <a:pt x="149" y="2210"/>
                  </a:lnTo>
                  <a:lnTo>
                    <a:pt x="198" y="2197"/>
                  </a:lnTo>
                  <a:lnTo>
                    <a:pt x="246" y="2188"/>
                  </a:lnTo>
                  <a:lnTo>
                    <a:pt x="304" y="2174"/>
                  </a:lnTo>
                  <a:lnTo>
                    <a:pt x="361" y="2166"/>
                  </a:lnTo>
                  <a:lnTo>
                    <a:pt x="423" y="2157"/>
                  </a:lnTo>
                  <a:lnTo>
                    <a:pt x="480" y="2148"/>
                  </a:lnTo>
                  <a:lnTo>
                    <a:pt x="542" y="2144"/>
                  </a:lnTo>
                  <a:lnTo>
                    <a:pt x="604" y="2144"/>
                  </a:lnTo>
                  <a:lnTo>
                    <a:pt x="665" y="2144"/>
                  </a:lnTo>
                  <a:lnTo>
                    <a:pt x="723" y="2148"/>
                  </a:lnTo>
                  <a:lnTo>
                    <a:pt x="776" y="2157"/>
                  </a:lnTo>
                  <a:lnTo>
                    <a:pt x="820" y="2170"/>
                  </a:lnTo>
                  <a:lnTo>
                    <a:pt x="855" y="2188"/>
                  </a:lnTo>
                  <a:lnTo>
                    <a:pt x="881" y="2205"/>
                  </a:lnTo>
                  <a:lnTo>
                    <a:pt x="903" y="2227"/>
                  </a:lnTo>
                  <a:lnTo>
                    <a:pt x="926" y="2249"/>
                  </a:lnTo>
                  <a:lnTo>
                    <a:pt x="943" y="2272"/>
                  </a:lnTo>
                  <a:lnTo>
                    <a:pt x="961" y="2294"/>
                  </a:lnTo>
                  <a:lnTo>
                    <a:pt x="978" y="2316"/>
                  </a:lnTo>
                  <a:lnTo>
                    <a:pt x="996" y="2338"/>
                  </a:lnTo>
                  <a:lnTo>
                    <a:pt x="1018" y="2355"/>
                  </a:lnTo>
                  <a:lnTo>
                    <a:pt x="1045" y="2373"/>
                  </a:lnTo>
                  <a:lnTo>
                    <a:pt x="1075" y="2391"/>
                  </a:lnTo>
                  <a:lnTo>
                    <a:pt x="1115" y="2399"/>
                  </a:lnTo>
                  <a:lnTo>
                    <a:pt x="1164" y="2408"/>
                  </a:lnTo>
                  <a:lnTo>
                    <a:pt x="1221" y="2413"/>
                  </a:lnTo>
                  <a:lnTo>
                    <a:pt x="1278" y="2408"/>
                  </a:lnTo>
                  <a:lnTo>
                    <a:pt x="1337" y="2404"/>
                  </a:lnTo>
                  <a:lnTo>
                    <a:pt x="1394" y="2391"/>
                  </a:lnTo>
                  <a:lnTo>
                    <a:pt x="1447" y="2377"/>
                  </a:lnTo>
                  <a:lnTo>
                    <a:pt x="1500" y="2360"/>
                  </a:lnTo>
                  <a:lnTo>
                    <a:pt x="1553" y="2342"/>
                  </a:lnTo>
                  <a:lnTo>
                    <a:pt x="1601" y="2320"/>
                  </a:lnTo>
                  <a:lnTo>
                    <a:pt x="1654" y="2298"/>
                  </a:lnTo>
                  <a:lnTo>
                    <a:pt x="1703" y="2280"/>
                  </a:lnTo>
                  <a:lnTo>
                    <a:pt x="1751" y="2258"/>
                  </a:lnTo>
                  <a:lnTo>
                    <a:pt x="1795" y="2236"/>
                  </a:lnTo>
                  <a:lnTo>
                    <a:pt x="1844" y="2214"/>
                  </a:lnTo>
                  <a:lnTo>
                    <a:pt x="1892" y="2197"/>
                  </a:lnTo>
                  <a:lnTo>
                    <a:pt x="1941" y="2183"/>
                  </a:lnTo>
                  <a:lnTo>
                    <a:pt x="1989" y="2170"/>
                  </a:lnTo>
                  <a:lnTo>
                    <a:pt x="2038" y="2161"/>
                  </a:lnTo>
                  <a:lnTo>
                    <a:pt x="2082" y="2157"/>
                  </a:lnTo>
                  <a:lnTo>
                    <a:pt x="2122" y="2152"/>
                  </a:lnTo>
                  <a:lnTo>
                    <a:pt x="2152" y="2157"/>
                  </a:lnTo>
                  <a:lnTo>
                    <a:pt x="2179" y="2161"/>
                  </a:lnTo>
                  <a:lnTo>
                    <a:pt x="2205" y="2166"/>
                  </a:lnTo>
                  <a:lnTo>
                    <a:pt x="2223" y="2174"/>
                  </a:lnTo>
                  <a:lnTo>
                    <a:pt x="2236" y="2188"/>
                  </a:lnTo>
                  <a:lnTo>
                    <a:pt x="2249" y="2197"/>
                  </a:lnTo>
                  <a:lnTo>
                    <a:pt x="2254" y="2210"/>
                  </a:lnTo>
                  <a:lnTo>
                    <a:pt x="2258" y="2219"/>
                  </a:lnTo>
                  <a:lnTo>
                    <a:pt x="2263" y="2232"/>
                  </a:lnTo>
                  <a:lnTo>
                    <a:pt x="2267" y="2241"/>
                  </a:lnTo>
                  <a:lnTo>
                    <a:pt x="2267" y="2249"/>
                  </a:lnTo>
                  <a:lnTo>
                    <a:pt x="2263" y="2258"/>
                  </a:lnTo>
                  <a:lnTo>
                    <a:pt x="2263" y="2263"/>
                  </a:lnTo>
                  <a:lnTo>
                    <a:pt x="2267" y="2258"/>
                  </a:lnTo>
                  <a:lnTo>
                    <a:pt x="2276" y="2254"/>
                  </a:lnTo>
                  <a:lnTo>
                    <a:pt x="2294" y="2241"/>
                  </a:lnTo>
                  <a:lnTo>
                    <a:pt x="2316" y="2227"/>
                  </a:lnTo>
                  <a:lnTo>
                    <a:pt x="2342" y="2210"/>
                  </a:lnTo>
                  <a:lnTo>
                    <a:pt x="2369" y="2188"/>
                  </a:lnTo>
                  <a:lnTo>
                    <a:pt x="2399" y="2166"/>
                  </a:lnTo>
                  <a:lnTo>
                    <a:pt x="2430" y="2144"/>
                  </a:lnTo>
                  <a:lnTo>
                    <a:pt x="2461" y="2122"/>
                  </a:lnTo>
                  <a:lnTo>
                    <a:pt x="2492" y="2100"/>
                  </a:lnTo>
                  <a:lnTo>
                    <a:pt x="2518" y="2082"/>
                  </a:lnTo>
                  <a:lnTo>
                    <a:pt x="2545" y="2060"/>
                  </a:lnTo>
                  <a:lnTo>
                    <a:pt x="2567" y="2047"/>
                  </a:lnTo>
                  <a:lnTo>
                    <a:pt x="2585" y="2033"/>
                  </a:lnTo>
                  <a:lnTo>
                    <a:pt x="2593" y="2029"/>
                  </a:lnTo>
                  <a:lnTo>
                    <a:pt x="2598" y="2025"/>
                  </a:lnTo>
                  <a:lnTo>
                    <a:pt x="2585" y="2003"/>
                  </a:lnTo>
                  <a:lnTo>
                    <a:pt x="2549" y="1936"/>
                  </a:lnTo>
                  <a:lnTo>
                    <a:pt x="2496" y="1839"/>
                  </a:lnTo>
                  <a:lnTo>
                    <a:pt x="2426" y="1707"/>
                  </a:lnTo>
                  <a:lnTo>
                    <a:pt x="2346" y="1557"/>
                  </a:lnTo>
                  <a:lnTo>
                    <a:pt x="2249" y="1385"/>
                  </a:lnTo>
                  <a:lnTo>
                    <a:pt x="2152" y="1203"/>
                  </a:lnTo>
                  <a:lnTo>
                    <a:pt x="2051" y="1014"/>
                  </a:lnTo>
                  <a:lnTo>
                    <a:pt x="1950" y="824"/>
                  </a:lnTo>
                  <a:lnTo>
                    <a:pt x="1848" y="643"/>
                  </a:lnTo>
                  <a:lnTo>
                    <a:pt x="1756" y="471"/>
                  </a:lnTo>
                  <a:lnTo>
                    <a:pt x="1672" y="317"/>
                  </a:lnTo>
                  <a:lnTo>
                    <a:pt x="1601" y="189"/>
                  </a:lnTo>
                  <a:lnTo>
                    <a:pt x="1548" y="88"/>
                  </a:lnTo>
                  <a:lnTo>
                    <a:pt x="1513" y="26"/>
                  </a:lnTo>
                  <a:lnTo>
                    <a:pt x="1500" y="0"/>
                  </a:lnTo>
                  <a:lnTo>
                    <a:pt x="1487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73320" y="6661080"/>
              <a:ext cx="675000" cy="402120"/>
            </a:xfrm>
            <a:custGeom>
              <a:avLst/>
              <a:gdLst/>
              <a:ahLst/>
              <a:rect l="0" t="0" r="r" b="b"/>
              <a:pathLst>
                <a:path w="1875" h="1117">
                  <a:moveTo>
                    <a:pt x="13" y="1117"/>
                  </a:moveTo>
                  <a:lnTo>
                    <a:pt x="388" y="888"/>
                  </a:lnTo>
                  <a:lnTo>
                    <a:pt x="507" y="101"/>
                  </a:lnTo>
                  <a:lnTo>
                    <a:pt x="723" y="260"/>
                  </a:lnTo>
                  <a:lnTo>
                    <a:pt x="815" y="0"/>
                  </a:lnTo>
                  <a:lnTo>
                    <a:pt x="1323" y="547"/>
                  </a:lnTo>
                  <a:lnTo>
                    <a:pt x="1875" y="389"/>
                  </a:lnTo>
                  <a:lnTo>
                    <a:pt x="1363" y="706"/>
                  </a:lnTo>
                  <a:lnTo>
                    <a:pt x="1112" y="671"/>
                  </a:lnTo>
                  <a:lnTo>
                    <a:pt x="626" y="879"/>
                  </a:lnTo>
                  <a:lnTo>
                    <a:pt x="533" y="1003"/>
                  </a:lnTo>
                  <a:lnTo>
                    <a:pt x="0" y="1117"/>
                  </a:lnTo>
                  <a:lnTo>
                    <a:pt x="13" y="11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73320" y="6661080"/>
              <a:ext cx="675000" cy="402120"/>
            </a:xfrm>
            <a:custGeom>
              <a:avLst/>
              <a:gdLst/>
              <a:ahLst/>
              <a:rect l="0" t="0" r="r" b="b"/>
              <a:pathLst>
                <a:path fill="none" w="1875" h="1117">
                  <a:moveTo>
                    <a:pt x="13" y="1117"/>
                  </a:moveTo>
                  <a:lnTo>
                    <a:pt x="388" y="888"/>
                  </a:lnTo>
                  <a:lnTo>
                    <a:pt x="507" y="101"/>
                  </a:lnTo>
                  <a:lnTo>
                    <a:pt x="723" y="260"/>
                  </a:lnTo>
                  <a:lnTo>
                    <a:pt x="815" y="0"/>
                  </a:lnTo>
                  <a:lnTo>
                    <a:pt x="1323" y="547"/>
                  </a:lnTo>
                  <a:lnTo>
                    <a:pt x="1875" y="389"/>
                  </a:lnTo>
                  <a:lnTo>
                    <a:pt x="1363" y="706"/>
                  </a:lnTo>
                  <a:lnTo>
                    <a:pt x="1112" y="671"/>
                  </a:lnTo>
                  <a:lnTo>
                    <a:pt x="626" y="879"/>
                  </a:lnTo>
                  <a:lnTo>
                    <a:pt x="533" y="1003"/>
                  </a:lnTo>
                  <a:lnTo>
                    <a:pt x="0" y="1117"/>
                  </a:lnTo>
                  <a:lnTo>
                    <a:pt x="13" y="111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203640" y="7257960"/>
              <a:ext cx="309960" cy="173520"/>
            </a:xfrm>
            <a:custGeom>
              <a:avLst/>
              <a:gdLst/>
              <a:ahLst/>
              <a:rect l="0" t="0" r="r" b="b"/>
              <a:pathLst>
                <a:path w="861" h="482">
                  <a:moveTo>
                    <a:pt x="252" y="221"/>
                  </a:moveTo>
                  <a:lnTo>
                    <a:pt x="39" y="363"/>
                  </a:lnTo>
                  <a:lnTo>
                    <a:pt x="0" y="376"/>
                  </a:lnTo>
                  <a:lnTo>
                    <a:pt x="322" y="0"/>
                  </a:lnTo>
                  <a:lnTo>
                    <a:pt x="786" y="256"/>
                  </a:lnTo>
                  <a:lnTo>
                    <a:pt x="861" y="482"/>
                  </a:lnTo>
                  <a:lnTo>
                    <a:pt x="450" y="225"/>
                  </a:lnTo>
                  <a:lnTo>
                    <a:pt x="375" y="340"/>
                  </a:lnTo>
                  <a:lnTo>
                    <a:pt x="265" y="305"/>
                  </a:lnTo>
                  <a:lnTo>
                    <a:pt x="247" y="221"/>
                  </a:lnTo>
                  <a:lnTo>
                    <a:pt x="252" y="2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203640" y="7257960"/>
              <a:ext cx="309960" cy="173520"/>
            </a:xfrm>
            <a:custGeom>
              <a:avLst/>
              <a:gdLst/>
              <a:ahLst/>
              <a:rect l="0" t="0" r="r" b="b"/>
              <a:pathLst>
                <a:path fill="none" w="861" h="482">
                  <a:moveTo>
                    <a:pt x="252" y="221"/>
                  </a:moveTo>
                  <a:lnTo>
                    <a:pt x="39" y="363"/>
                  </a:lnTo>
                  <a:lnTo>
                    <a:pt x="0" y="376"/>
                  </a:lnTo>
                  <a:lnTo>
                    <a:pt x="322" y="0"/>
                  </a:lnTo>
                  <a:lnTo>
                    <a:pt x="786" y="256"/>
                  </a:lnTo>
                  <a:lnTo>
                    <a:pt x="861" y="482"/>
                  </a:lnTo>
                  <a:lnTo>
                    <a:pt x="450" y="225"/>
                  </a:lnTo>
                  <a:lnTo>
                    <a:pt x="375" y="340"/>
                  </a:lnTo>
                  <a:lnTo>
                    <a:pt x="265" y="305"/>
                  </a:lnTo>
                  <a:lnTo>
                    <a:pt x="247" y="221"/>
                  </a:lnTo>
                  <a:lnTo>
                    <a:pt x="252" y="22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57400" y="7157880"/>
              <a:ext cx="443160" cy="276480"/>
            </a:xfrm>
            <a:custGeom>
              <a:avLst/>
              <a:gdLst/>
              <a:ahLst/>
              <a:rect l="0" t="0" r="r" b="b"/>
              <a:pathLst>
                <a:path w="1231" h="768">
                  <a:moveTo>
                    <a:pt x="0" y="57"/>
                  </a:moveTo>
                  <a:lnTo>
                    <a:pt x="105" y="0"/>
                  </a:lnTo>
                  <a:lnTo>
                    <a:pt x="537" y="631"/>
                  </a:lnTo>
                  <a:lnTo>
                    <a:pt x="1231" y="631"/>
                  </a:lnTo>
                  <a:lnTo>
                    <a:pt x="1231" y="768"/>
                  </a:lnTo>
                  <a:lnTo>
                    <a:pt x="123" y="768"/>
                  </a:lnTo>
                  <a:lnTo>
                    <a:pt x="114" y="631"/>
                  </a:lnTo>
                  <a:lnTo>
                    <a:pt x="392" y="631"/>
                  </a:lnTo>
                  <a:lnTo>
                    <a:pt x="0" y="74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57400" y="7157880"/>
              <a:ext cx="443160" cy="276480"/>
            </a:xfrm>
            <a:custGeom>
              <a:avLst/>
              <a:gdLst/>
              <a:ahLst/>
              <a:rect l="0" t="0" r="r" b="b"/>
              <a:pathLst>
                <a:path fill="none" w="1231" h="768">
                  <a:moveTo>
                    <a:pt x="0" y="57"/>
                  </a:moveTo>
                  <a:lnTo>
                    <a:pt x="105" y="0"/>
                  </a:lnTo>
                  <a:lnTo>
                    <a:pt x="537" y="631"/>
                  </a:lnTo>
                  <a:lnTo>
                    <a:pt x="1231" y="631"/>
                  </a:lnTo>
                  <a:lnTo>
                    <a:pt x="1231" y="768"/>
                  </a:lnTo>
                  <a:lnTo>
                    <a:pt x="123" y="768"/>
                  </a:lnTo>
                  <a:lnTo>
                    <a:pt x="114" y="631"/>
                  </a:lnTo>
                  <a:lnTo>
                    <a:pt x="392" y="631"/>
                  </a:lnTo>
                  <a:lnTo>
                    <a:pt x="0" y="74"/>
                  </a:lnTo>
                  <a:lnTo>
                    <a:pt x="0" y="5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552600" y="603360"/>
            <a:ext cx="58294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SA CIO-IS Security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42880" y="1638360"/>
            <a:ext cx="5819760" cy="633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AI 630-230-19 Analysis &amp;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O-IS AIS Security Program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S Risk Assess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id Response Technical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security policy and standards development, risk analyses, risk management , &amp; systems security architecture analy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on of Relevant Ongoing Federal and commercial Security technology and Policy Initiatives and Progra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S Security Policy Question and Response Coord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Awareness Materials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icitation and Coordination of AIS Security Program Support to and from Other DISA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362320" y="1390680"/>
            <a:ext cx="184788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552600" y="603360"/>
            <a:ext cx="58294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PECIFIC ACCOMPLISH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42880" y="1638360"/>
            <a:ext cx="5819760" cy="633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0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DISA-Specific AIS RA Methodology  Fully compliant, cost-effective, useful, and widely accepted risk assessment/Management methodology developed with CIO-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ALAN(DISANET) Risk Assessment/Management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ion of DISA I 630-230-19 (Aug. 1991) 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SO AIS Risk Assessment/Management Plan for all DNSO General Purpose AISs (PC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 AIS RA for all CAS  P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of AIs Risk Management &amp; accreditation Efforts for JEIO MilSatCom Management Off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IEO CDBS Network Risk Assess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A PAC  RA  for all DISA  PAC Standalone PCs and the two  Local Area 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ed and Participated in the first DISO Information System Security Conference in Washington DC.  Began Drafting    DISAI 630-230-19 Supplement 2 “The Automated Controlled Access Protection for IBM MVS  Systems”  in  concert with MegaCenter ISSO’s.  (DISO Fund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552600" y="603360"/>
            <a:ext cx="58294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COMPLISHMENTS 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42880" y="1638360"/>
            <a:ext cx="5819760" cy="633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71680" indent="-571680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4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ended and Participated in the second Information System Security Conference in San Antonio TX.  Further Drafting  Supplement 2 with the MegaCenter ISSOs.  (DISO Fund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4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ed the third Information System Security Conference to aid DISO Security in developing the “IBM MVS Technical Guidelines”.  (DISO Fund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4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ion of DISA  630-230-19  and two Supplements, “Security Requirements for Connected Systems” and “Automated Controlled Access Protection for IBM MVS systems”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SAL</dc:creator>
  <dc:description/>
  <dc:language>en-US</dc:language>
  <cp:lastModifiedBy>msal</cp:lastModifiedBy>
  <cp:revision>0</cp:revision>
  <dc:subject>CIO-IS</dc:subject>
  <dc:title>Mantech Overview and presentation</dc:title>
</cp:coreProperties>
</file>