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98DC-20F0-435F-8843-B8FFE531F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8BB5-EBF9-4316-AF04-6985F7F13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865B-128B-4BCE-A19A-AC3FC733C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4B0C-2581-4DE4-8495-3A3CF4B3F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9542-C7CE-4394-B26C-7077F0257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BA7E-98E4-4FB2-8DD9-0C6FA274E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833F-6D4E-4923-9CEF-BD164846E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5A18-489B-41B1-B961-D1D20A102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4DCE-287F-49A5-9477-904AD7D5A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61A9-846C-4D55-8D4A-B5661FB9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8427-27D2-45B0-8D3A-DEE030C6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5F85-CD30-4B9A-9096-6AEB36ED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0BE60-3F61-4BC6-862A-6BE7DA837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Cloud"/>
          <p:cNvSpPr/>
          <p:nvPr/>
        </p:nvSpPr>
        <p:spPr>
          <a:xfrm>
            <a:off x="4648320" y="1600200"/>
            <a:ext cx="3047760" cy="3809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Cloud"/>
          <p:cNvSpPr/>
          <p:nvPr/>
        </p:nvSpPr>
        <p:spPr>
          <a:xfrm>
            <a:off x="838080" y="1371600"/>
            <a:ext cx="3124440" cy="3809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45720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posed Mantech Architecture f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FB-CO-11713-CSC May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33720" y="2057400"/>
            <a:ext cx="457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33720" y="3429000"/>
            <a:ext cx="457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15000" y="2057400"/>
            <a:ext cx="457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715000" y="3657600"/>
            <a:ext cx="4572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525780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sting NATO Digital WAN and PBX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410080" y="54864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osed Cisco VOIP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00200" y="28195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emens HiCom 350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419112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emens HiPsath 4000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213372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sco MCS7845-H1 CallManager Appliance w/ v5.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562720" y="4267080"/>
            <a:ext cx="14475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sco 3645 Voice Gateway w/ qty 1 NM-HDV-2E1-60, Dual port  60 chann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52680" y="3124080"/>
            <a:ext cx="1447920" cy="0"/>
          </a:xfrm>
          <a:prstGeom prst="line">
            <a:avLst/>
          </a:prstGeom>
          <a:ln w="604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2680" y="3657600"/>
            <a:ext cx="1447920" cy="0"/>
          </a:xfrm>
          <a:prstGeom prst="line">
            <a:avLst/>
          </a:prstGeom>
          <a:ln w="604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62520" y="28954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1 PR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62520" y="36576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1 PR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00600" y="3657600"/>
            <a:ext cx="914400" cy="304920"/>
          </a:xfrm>
          <a:prstGeom prst="line">
            <a:avLst/>
          </a:prstGeom>
          <a:ln w="604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4280" y="3124080"/>
            <a:ext cx="990720" cy="685800"/>
          </a:xfrm>
          <a:prstGeom prst="line">
            <a:avLst/>
          </a:prstGeom>
          <a:ln w="604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91320" y="2743200"/>
            <a:ext cx="0" cy="91440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19920" y="2743200"/>
            <a:ext cx="0" cy="91440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562720" y="3200400"/>
            <a:ext cx="761760" cy="152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6324480" y="3276360"/>
            <a:ext cx="5335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861080" y="4075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324480" y="3352680"/>
            <a:ext cx="1447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ual 10/100 Full Du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895480" y="2286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371600" y="1066680"/>
            <a:ext cx="548640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existing digital WAN infra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up to 360 voice ports to be gatewayed from Cisco Ethernet VOIP into the legacy Siemens PBXs in N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legacy based digital phones to call themselves or new Cisco IP phones,  and visa ver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isco MCS7845-H1s can support 7500 IP phones by itself, or can be clustered later with other 7845s for a total of 30000 IP phones.  This product has all the hardware and includes CallManager 5.x ( all you need in a CallManag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ATO wants to go all IP phones in the future by phasing out the current PBXs and digital lines and going to Dense Wavelength Division Multiplexing, inter-site, it CAN do that at that time continuing to use the Cisco MCS7845-H1 CallManager Appl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448280" y="608760"/>
            <a:ext cx="594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olution A (users  less than 1km from existing PBX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2590920"/>
            <a:ext cx="1143000" cy="213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297180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240" y="213372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xisting PB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24080" y="2590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057400" y="42670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791320" y="27432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312408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isco 836 Secure Broadband Rou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629400" y="2971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705720" y="266688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162920" y="274320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7010280" y="4114800"/>
            <a:ext cx="542880" cy="542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029200" y="42670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629400" y="4648320"/>
            <a:ext cx="190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Analog Phone of Customer’s Choice (Perhaps an L3 Comm S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96080" y="2666880"/>
            <a:ext cx="144792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isco 7912 Basic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ffice IP Ph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supports MLPP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971800" y="38862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sting POTS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019240" y="608760"/>
            <a:ext cx="480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olution B (Up to 8km from existing PBX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2590920"/>
            <a:ext cx="1143000" cy="213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57400" y="297180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7240" y="213372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xisting PB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24080" y="2590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057400" y="42670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91320" y="27432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62720" y="312408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isco 836 Secure Broadband Rou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629400" y="2971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705720" y="266688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162920" y="274320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010280" y="4114800"/>
            <a:ext cx="542880" cy="5428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029200" y="42670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629400" y="4648320"/>
            <a:ext cx="190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Analog Phone of Customer’s Choice (Perhaps an L3 Comm S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96080" y="2666880"/>
            <a:ext cx="1447920" cy="10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isco 7912 Basic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ffice IP Ph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supports MLPP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Up to 2 IP phones per BR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71800" y="38862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sting POTS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172200" y="205704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43600" y="243828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542880" cy="5428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315200" y="1523880"/>
            <a:ext cx="144792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isco 7912 Basic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ffice IP Ph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supports MLPP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342880" y="608760"/>
            <a:ext cx="415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olutions C, D, E (Small remote Si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2590920"/>
            <a:ext cx="1143000" cy="213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2971800"/>
            <a:ext cx="1295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7240" y="213372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xisting PB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67080" y="2209680"/>
            <a:ext cx="129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D E1 CSU/DSU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l FCD-E1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57400" y="42670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791320" y="27432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715000" y="31240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isco 1841 Integrated Services Router w/ qty 1(max 2) HWIC-4ESW (per 4 IP phones), &amp; qty 1 WIC-2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629400" y="2971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705720" y="266688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162920" y="274320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7010280" y="4114800"/>
            <a:ext cx="542880" cy="5428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029200" y="42670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629400" y="4648320"/>
            <a:ext cx="190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Analog Phone of Customer’s Choice (Perhaps an L3 Comm S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696080" y="2666880"/>
            <a:ext cx="1447920" cy="10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isco 7912 Basic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ffice IP Ph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supports MLPP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Up to 8 IP phones per si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71800" y="38862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sting POTS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172200" y="205704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943600" y="243828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542880" cy="5428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315200" y="1523880"/>
            <a:ext cx="144792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isco 7912 Basic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ffice IP Ph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supports MLPP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562720" y="266688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0" y="2895480"/>
            <a:ext cx="68580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257800" y="2895480"/>
            <a:ext cx="76320" cy="76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15000" y="2895480"/>
            <a:ext cx="76320" cy="76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34120" y="2971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62320" y="2438280"/>
            <a:ext cx="1904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ctional Leased Line (Solution C) , 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24080" y="2895480"/>
            <a:ext cx="14479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57400" y="2971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76720" y="29718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29718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3124080" y="28954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95288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334120" y="304776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64771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95680" y="32767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Qty 1 Cisco serial cable prod # CAB-530MT=, p/n 72-0797-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3048120"/>
            <a:ext cx="1905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ull E1 (Solution D) ,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ull T1 (Solution 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1T14:02:15Z</dcterms:created>
  <dc:creator>pagew</dc:creator>
  <dc:description/>
  <dc:language>en-US</dc:language>
  <cp:lastModifiedBy>pagew</cp:lastModifiedBy>
  <dcterms:modified xsi:type="dcterms:W3CDTF">2006-05-01T17:30:30Z</dcterms:modified>
  <cp:revision>9</cp:revision>
  <dc:subject/>
  <dc:title>Slide 1</dc:title>
</cp:coreProperties>
</file>