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431F-0411-4965-93C0-ED7B8AEC7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EEEF-9032-41A2-9DCF-2414398CF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C8FE-5FF6-4213-9A0B-F3C257341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B01B-222A-4FB2-BBCB-1A217C1F5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C494-0805-4C58-B61C-E3CF07343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9481-5CBF-4B9E-B568-06FC18BF9B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E8F3-E211-424B-B96C-28519891DA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DF74-09EF-4466-AE09-21E4F7D5B1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6C1A-4222-4836-A782-1AEC5F821B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D861-69B1-48F1-B41C-0E5F59CB4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B48E-F92B-49CF-96A6-9431972414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9BAF-6DCB-4A06-B3FB-43C5893A6D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7871-7682-4202-896F-187BAB966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3441-3484-4629-8C48-00EB79EC90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24C6-3781-41B7-A5A3-8811BB7462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78B2-B84B-4F9A-9CE9-F0D02AA8E2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D34C-49E7-4F4E-A0D9-4AF5E2598D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15B1-3CB4-4638-B1D9-669B61BDE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DC20-5CB6-4B4A-BBD3-4E8BE4ECE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8654-5516-48F0-BCB0-6F2B93BA4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1DF1-9BCD-4202-AED4-C59F73F23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7973-8ECA-4323-BB63-B64983FBA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39D6-CBFF-47A7-B58F-2AFBDC401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076-99EF-43C0-834B-C7C9BB061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523880"/>
            <a:ext cx="8763120" cy="3240"/>
          </a:xfrm>
          <a:prstGeom prst="line">
            <a:avLst/>
          </a:prstGeom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6454800"/>
            <a:ext cx="881388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5160" y="6478560"/>
            <a:ext cx="61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a82"/>
                </a:solidFill>
                <a:latin typeface="Lucida Sans"/>
              </a:rPr>
              <a:t>What Women Want in 2008/July 2008 – Hart Research Associates </a:t>
            </a:r>
            <a:r>
              <a:rPr b="0" i="1" lang="en-US" sz="1400" spc="-1" strike="noStrike">
                <a:solidFill>
                  <a:srgbClr val="006a82"/>
                </a:solidFill>
                <a:latin typeface="Lucida Sans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000" y="6453360"/>
            <a:ext cx="8762760" cy="0"/>
          </a:xfrm>
          <a:prstGeom prst="line">
            <a:avLst/>
          </a:prstGeom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6840" y="6305400"/>
            <a:ext cx="1382760" cy="13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758000" y="6315120"/>
            <a:ext cx="1386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797960" y="6356520"/>
          <a:ext cx="125856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7960" y="6356520"/>
                    <a:ext cx="1258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"/>
          <p:cNvSpPr/>
          <p:nvPr/>
        </p:nvSpPr>
        <p:spPr>
          <a:xfrm>
            <a:off x="152280" y="152280"/>
            <a:ext cx="38124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190080" y="6453000"/>
            <a:ext cx="3682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44A-0CD0-49A6-8402-43D1A3286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91440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a8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38088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0120" y="6305400"/>
            <a:ext cx="8813880" cy="552600"/>
            <a:chOff x="330120" y="6305400"/>
            <a:chExt cx="8813880" cy="552600"/>
          </a:xfrm>
        </p:grpSpPr>
        <p:sp>
          <p:nvSpPr>
            <p:cNvPr id="91" name=""/>
            <p:cNvSpPr/>
            <p:nvPr/>
          </p:nvSpPr>
          <p:spPr>
            <a:xfrm>
              <a:off x="330120" y="6454800"/>
              <a:ext cx="881388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05160" y="6478560"/>
              <a:ext cx="61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a82"/>
                  </a:solidFill>
                  <a:latin typeface="Lucida Sans"/>
                </a:rPr>
                <a:t>What Women Want in 2008/July 2008 – Hart Research Associates </a:t>
              </a:r>
              <a:r>
                <a:rPr b="0" i="1" lang="en-US" sz="1400" spc="-1" strike="noStrike">
                  <a:solidFill>
                    <a:srgbClr val="006a82"/>
                  </a:solidFill>
                  <a:latin typeface="Lucida Sans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6453360"/>
              <a:ext cx="8763120" cy="0"/>
            </a:xfrm>
            <a:prstGeom prst="line">
              <a:avLst/>
            </a:prstGeom>
            <a:ln w="19080">
              <a:solidFill>
                <a:srgbClr val="006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3960" y="6305400"/>
              <a:ext cx="1385640" cy="138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8000" y="6315120"/>
              <a:ext cx="138600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7797960" y="6356520"/>
            <a:ext cx="1258560" cy="45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97960" y="6356520"/>
                      <a:ext cx="12585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52280" y="152280"/>
            <a:ext cx="38124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Num" idx="2"/>
          </p:nvPr>
        </p:nvSpPr>
        <p:spPr>
          <a:xfrm>
            <a:off x="190080" y="6503760"/>
            <a:ext cx="3682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C3B-E019-41DD-858A-7CC779DCDB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66840"/>
            <a:ext cx="8381880" cy="157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4560" y="2174760"/>
            <a:ext cx="8350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a82"/>
                </a:solidFill>
                <a:latin typeface="Arial"/>
              </a:rPr>
              <a:t>Understanding What Women Want In 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93480" y="297000"/>
            <a:ext cx="1950120" cy="792360"/>
            <a:chOff x="3993480" y="297000"/>
            <a:chExt cx="1950120" cy="792360"/>
          </a:xfrm>
        </p:grpSpPr>
        <p:sp>
          <p:nvSpPr>
            <p:cNvPr id="139" name=""/>
            <p:cNvSpPr/>
            <p:nvPr/>
          </p:nvSpPr>
          <p:spPr>
            <a:xfrm>
              <a:off x="3993480" y="40788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H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2520" y="5716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RESEAR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3840" y="297000"/>
              <a:ext cx="73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 Narrow"/>
                </a:rPr>
                <a:t>P e t e r   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611600" y="843120"/>
              <a:ext cx="1293840" cy="246240"/>
              <a:chOff x="4611600" y="843120"/>
              <a:chExt cx="129384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461160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3076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4956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728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4176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6092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7828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8608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2432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2260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>
              <a:off x="4098960" y="777960"/>
              <a:ext cx="52848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85760" y="606600"/>
              <a:ext cx="114948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336040" y="4178160"/>
            <a:ext cx="551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82"/>
                </a:solidFill>
                <a:latin typeface="Arial"/>
              </a:rPr>
              <a:t>Key findings from nationwide voter survey  </a:t>
            </a:r>
            <a:br>
              <a:rPr sz="2200"/>
            </a:br>
            <a:r>
              <a:rPr b="0" lang="en-US" sz="2200" spc="-1" strike="noStrike">
                <a:solidFill>
                  <a:srgbClr val="006a82"/>
                </a:solidFill>
                <a:latin typeface="Arial"/>
              </a:rPr>
              <a:t>conducted July 2008</a:t>
            </a:r>
            <a:br>
              <a:rPr sz="2200"/>
            </a:br>
            <a:r>
              <a:rPr b="0" i="1" lang="en-US" sz="2200" spc="-1" strike="noStrike">
                <a:solidFill>
                  <a:srgbClr val="006a82"/>
                </a:solidFill>
                <a:latin typeface="Arial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701880" y="5456160"/>
          <a:ext cx="26244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1880" y="5456160"/>
                    <a:ext cx="2624400" cy="107784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83920" y="21564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Legal Protections Needed To Get Equal Pay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2640" y="2374920"/>
          <a:ext cx="853776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2374920"/>
                    <a:ext cx="853776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361880" y="60134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9440" y="1592280"/>
            <a:ext cx="825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mportant is it that the next president and Congress address the issue of providing women with the legal protections they need to get equal p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9440" y="4576680"/>
            <a:ext cx="142056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emel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10120" y="2381400"/>
            <a:ext cx="4133880" cy="3809880"/>
            <a:chOff x="5010120" y="2381400"/>
            <a:chExt cx="4133880" cy="3809880"/>
          </a:xfrm>
        </p:grpSpPr>
        <p:sp>
          <p:nvSpPr>
            <p:cNvPr id="222" name=""/>
            <p:cNvSpPr/>
            <p:nvPr/>
          </p:nvSpPr>
          <p:spPr>
            <a:xfrm>
              <a:off x="5178600" y="2816280"/>
              <a:ext cx="289188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18 to 3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35 to 4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45 to 5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55 to 6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65/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under $25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$25K to $50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$50K to $75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over $75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 school/less educ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 college educ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ege gradu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0120" y="2381400"/>
              <a:ext cx="4125960" cy="326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remely/very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3800" y="2816280"/>
              <a:ext cx="63648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6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4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7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3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4800" y="2384640"/>
              <a:ext cx="4129200" cy="3806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39720" y="316692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70720" y="2470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18720" y="4552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24080" y="5740560"/>
            <a:ext cx="1420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4000" y="564048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1760" y="512604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FDA2-EA15-41D2-9479-56C9A661F49C}" type="slidenum">
              <a:t>10</a:t>
            </a:fld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1854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a82"/>
                </a:solidFill>
                <a:latin typeface="Arial"/>
              </a:rPr>
              <a:t>Ensuring Women Have Equal Education Opportunities:  Still A Long Way To Go</a:t>
            </a:r>
            <a:endParaRPr b="1" lang="en-US" sz="34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5040" y="1306440"/>
          <a:ext cx="823896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306440"/>
                    <a:ext cx="823896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66040" y="579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960" y="579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440" y="2205000"/>
            <a:ext cx="3862080" cy="292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ensuring that young women are protected from sexual harassment in schools, given equal opportunity in sports, and provided equal access to all career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11000" y="2436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87280" y="2911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A6F9-F172-49D9-B525-76A7A5E45B86}" type="slidenum">
              <a:t>11</a:t>
            </a:fld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280" y="198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ow Confidence In Being Able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To Afford Health Care Costs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39680" y="1420920"/>
          <a:ext cx="59961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20920"/>
                    <a:ext cx="59961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858680" y="60120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0480" y="1601640"/>
            <a:ext cx="80852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ow confident are you that you will be able to afford health care costs, including the cost of insurance premiums, for you and your family in the next few yea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9760" y="2657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97960" y="3008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0040" y="4782960"/>
            <a:ext cx="12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0040" y="33735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rly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79560" y="361800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wha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89280" y="4808520"/>
            <a:ext cx="12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1880" y="3665520"/>
            <a:ext cx="3068640" cy="559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somewhat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30800" y="4356000"/>
            <a:ext cx="21711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under $25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llege gr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70080" y="4356000"/>
            <a:ext cx="6364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35400" y="3665520"/>
            <a:ext cx="3078360" cy="209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7E5F-5829-4F7A-BAF3-32BA016BF679}" type="slidenum">
              <a:t>12</a:t>
            </a:fld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5760" y="21240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Expanding Access To Contraceptives &amp; Sex Education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46240" y="1511280"/>
          <a:ext cx="697716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511280"/>
                    <a:ext cx="697716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585240" y="2565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44280" y="4054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592280"/>
            <a:ext cx="825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mportant is it that the next president and Congress address the issue of helping prevent unintended pregnancies by expanding access to contraceptives and comprehensive sex 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01680" y="60134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11400" y="4729320"/>
            <a:ext cx="142092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emel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2040" y="3192480"/>
            <a:ext cx="14205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56440" y="547524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06800" y="464328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7920" y="5621400"/>
            <a:ext cx="1420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9BD0-E309-4519-BA17-90E61493F87B}" type="slidenum">
              <a:t>13</a:t>
            </a:fld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080" y="528120"/>
            <a:ext cx="8458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Upholding Roe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2960" y="13064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064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4766040" y="57704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93480" y="5770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040" y="2085840"/>
            <a:ext cx="3527280" cy="337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preme Court’s 197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e V. W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established a woman's constitutional right to have an abortion and limited the circumstances under which gov-ernment could restrict this righ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NOT overturn Ro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strongly</a:t>
            </a:r>
            <a:br>
              <a:rPr sz="1800"/>
            </a:br>
            <a:r>
              <a:rPr b="0" lang="en-US" sz="1800" spc="-1" strike="noStrike">
                <a:solidFill>
                  <a:srgbClr val="6699ff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feel stro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overturn Ro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feel strongly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stro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76040" y="22622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3600" y="2131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28520" y="387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8120" y="3925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021C-DC35-47FE-9CBE-8B6DC5C6D39C}" type="slidenum">
              <a:t>14</a:t>
            </a:fld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2080" y="18540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Increased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Child Care Funding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05040" y="1332000"/>
          <a:ext cx="82389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332000"/>
                    <a:ext cx="82389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563000" y="58341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42720" y="5834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2320" y="1949400"/>
            <a:ext cx="3567240" cy="277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increasing govern-ment funding to ensure that parents have access to quality child care and early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favor</a:t>
            </a:r>
            <a:br>
              <a:rPr sz="1800"/>
            </a:br>
            <a:r>
              <a:rPr b="0" lang="en-US" sz="1800" spc="-1" strike="noStrike">
                <a:solidFill>
                  <a:srgbClr val="6699ff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what 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what oppose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op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1200" y="1603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1680" y="2425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63280" y="4441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38160" y="369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8BE0-1EEF-4B2C-9A50-B7679287B2EB}" type="slidenum">
              <a:t>15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Methodology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0180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urvey among 1,308 voters nation-wide, including 1,001 women and 307 me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with gender-based samples subsequently weighted to proper proportions of electora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dates:  July 17 – 2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 of error = ±2.8 percentage points overall, ±3.2 among women, ±5.7 among men, larger among other sub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4B8C-3F1C-4A17-9FE8-386807833F7C}" type="slidenum">
              <a:t>2</a:t>
            </a:fld>
          </a:p>
        </p:txBody>
      </p:sp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ooking Ahead: Voters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Are Worried And Concerne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44600" y="1663560"/>
          <a:ext cx="844524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663560"/>
                    <a:ext cx="844524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61200" y="5897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58520" y="5897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95240" y="4875120"/>
            <a:ext cx="3086280" cy="1492200"/>
            <a:chOff x="795240" y="4875120"/>
            <a:chExt cx="3086280" cy="1492200"/>
          </a:xfrm>
        </p:grpSpPr>
        <p:sp>
          <p:nvSpPr>
            <p:cNvPr id="166" name=""/>
            <p:cNvSpPr/>
            <p:nvPr/>
          </p:nvSpPr>
          <p:spPr>
            <a:xfrm>
              <a:off x="798480" y="4875120"/>
              <a:ext cx="3083040" cy="559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mily’s income is falling behind the cost of liv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9280" y="5521320"/>
              <a:ext cx="9669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85160" y="5521320"/>
              <a:ext cx="6364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5240" y="4875120"/>
              <a:ext cx="3079800" cy="14922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F5C8-E487-482B-AF2D-739D177A7355}" type="slidenum">
              <a:t>3</a:t>
            </a:fld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evel Playing Fiel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9960" y="15476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5476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52340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329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7DD6-9217-4ADB-92A0-D30081090503}" type="slidenum">
              <a:t>4</a:t>
            </a:fld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1200" y="175680"/>
            <a:ext cx="86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Women Believe A Strong Women’s Movement Is Still Neede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06320" y="1360440"/>
          <a:ext cx="855216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360440"/>
                    <a:ext cx="85521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710360" y="6012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6320" y="2290680"/>
            <a:ext cx="14209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need a stro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movement to push for changes that benefit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7440" y="4665600"/>
            <a:ext cx="142092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ll nee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ro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’s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18000" y="1617840"/>
            <a:ext cx="4133880" cy="4595760"/>
            <a:chOff x="4518000" y="1617840"/>
            <a:chExt cx="4133880" cy="4595760"/>
          </a:xfrm>
        </p:grpSpPr>
        <p:sp>
          <p:nvSpPr>
            <p:cNvPr id="182" name=""/>
            <p:cNvSpPr/>
            <p:nvPr/>
          </p:nvSpPr>
          <p:spPr>
            <a:xfrm>
              <a:off x="4680720" y="2217960"/>
              <a:ext cx="259920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18 to 3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35 to 4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45 to 5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55 to 6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65/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under $25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$25K to $50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$50K to $75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over $75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 school/less educ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me college educ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ege gradu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holic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ngelical Protestan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 other Protesta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18000" y="1617840"/>
              <a:ext cx="4125960" cy="559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 who believe we still ne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strong women’s m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96880" y="2217960"/>
              <a:ext cx="58608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6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9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6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2680" y="1621080"/>
              <a:ext cx="4129200" cy="45925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13D6-BC1D-4C19-966B-890FBE324840}" type="slidenum">
              <a:t>5</a:t>
            </a:fld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Government Solving Problems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31800" y="1560600"/>
          <a:ext cx="822312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560600"/>
                    <a:ext cx="822312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48524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951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10C1-3836-45D2-8858-ACC8BE52A9E9}" type="slidenum">
              <a:t>6</a:t>
            </a:fld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1240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Providing Families With Economic Security:  Still A Long Way To Go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25560" y="135720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720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76604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759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9440" y="2205000"/>
            <a:ext cx="3735360" cy="292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providing today’s families with economic secu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can they can afford their current needs and plan for a secure retir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23600" y="1676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14280" y="2124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961E-FE3D-463C-B584-BFE93177CF5D}" type="slidenum">
              <a:t>7</a:t>
            </a:fld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1240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Plan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To Cut Poverty In Half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25560" y="135720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720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804200" y="5884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152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1925640"/>
            <a:ext cx="345600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a long-range, comprehensive plan to cut poverty in half over the next ten years, which would especially help women and children who make up a disproportionate share of those currently living below the poverty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important prio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or Congress and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important priority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ngress and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200" y="1638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14280" y="2517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AD17-FF9E-44D6-B741-A487FBAD1778}" type="slidenum">
              <a:t>8</a:t>
            </a:fld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0160" y="185400"/>
            <a:ext cx="812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Providing Equal Rights For Women:  Still A Long Way To Go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12960" y="13064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064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66040" y="58341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75960" y="5834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440" y="2205000"/>
            <a:ext cx="3862080" cy="26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providing equal rights for women, including equal pay for equal work, and ending other discrimination in the work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1000" y="2165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87280" y="274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0404-DD91-4985-9822-77BEA1302490}" type="slidenum">
              <a:t>9</a:t>
            </a:fld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26:34Z</dcterms:created>
  <dc:creator>HP Authorized Customer</dc:creator>
  <dc:description/>
  <dc:language>en-US</dc:language>
  <cp:lastModifiedBy>Ermini</cp:lastModifiedBy>
  <cp:lastPrinted>2007-04-05T14:30:24Z</cp:lastPrinted>
  <dcterms:modified xsi:type="dcterms:W3CDTF">2008-08-06T14:29:54Z</dcterms:modified>
  <cp:revision>1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7927505</vt:r8>
  </property>
  <property fmtid="{D5CDD505-2E9C-101B-9397-08002B2CF9AE}" pid="3" name="_AuthorEmailDisplayName">
    <vt:lpwstr>Rebecca Naser</vt:lpwstr>
  </property>
  <property fmtid="{D5CDD505-2E9C-101B-9397-08002B2CF9AE}" pid="4" name="_EmailSubject">
    <vt:lpwstr>Take II on FINAL findings memo and PPT presentation</vt:lpwstr>
  </property>
  <property fmtid="{D5CDD505-2E9C-101B-9397-08002B2CF9AE}" pid="5" name="_ReviewingToolsShownOnce">
    <vt:lpwstr/>
  </property>
</Properties>
</file>